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WHOOSH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8B5-70BD-4C77-8CCD-800D640B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824-DE50-4DAE-8FEC-0B4ED9A3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469-5E2A-42D1-ACB8-F0D05087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32C-33E0-4FD9-BAF0-79F65905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B384-A7BF-4522-B065-B9317F44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A89C-0053-4FD5-B996-10DC1437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AC93-E0DF-4B93-9869-FD45F37B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F13D-7A37-405E-A395-549F27B0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A605-E0A4-4B08-B90C-D99C1234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6299-5390-4846-9E55-9345AAD4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4010-069B-4D33-804B-D396D5C3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447-80EE-4092-91D8-A94228D2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D0B2-A5F6-4A04-A60A-001457DC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B1A3-CBCA-4788-972B-940623F9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E40C-DA63-44EE-9497-0E13A4AA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B2B6-DAEF-43AD-B358-14A55DAF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552E-F52C-414D-B7C3-3F381A42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D82-C199-49C8-B1DA-16BBE6A2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AD1-5928-4D38-85DE-DC824604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00D-B98B-48CA-BBD6-A46CA68D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A8F-EBB4-4757-9A26-39BAEE7E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16F-AE73-45A7-A782-C4702BD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385-07AB-41B6-BA26-DBF6A2A4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8C5-D5D4-427D-AA69-EBC75D4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3950-3ACA-4A5F-A66B-AAA115A07D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A74B-D83A-440A-B7A4-95E330369A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s and sol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017800" y="1476360"/>
            <a:ext cx="459576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hapter 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por pres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with increasing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measured in a barome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343080" y="312840"/>
            <a:ext cx="5047200" cy="6110640"/>
            <a:chOff x="343080" y="312840"/>
            <a:chExt cx="5047200" cy="6110640"/>
          </a:xfrm>
        </p:grpSpPr>
        <p:sp>
          <p:nvSpPr>
            <p:cNvPr id="245" name=""/>
            <p:cNvSpPr/>
            <p:nvPr/>
          </p:nvSpPr>
          <p:spPr>
            <a:xfrm>
              <a:off x="1654200" y="3911760"/>
              <a:ext cx="1739880" cy="80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82640" y="3992400"/>
              <a:ext cx="1663920" cy="959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54200" y="4597560"/>
              <a:ext cx="1739880" cy="80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00280" y="4309920"/>
              <a:ext cx="0" cy="743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95600" y="4486320"/>
              <a:ext cx="1666800" cy="390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06400" y="4400640"/>
              <a:ext cx="164736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1" y="11925"/>
                  </a:moveTo>
                  <a:arcTo wR="10800" hR="10800" stAng="358871" swAng="104411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1" y="11925"/>
                  </a:moveTo>
                  <a:arcTo wR="10800" hR="10800" stAng="358871" swAng="10441129"/>
                </a:path>
              </a:pathLst>
            </a:custGeom>
            <a:noFill/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78040" y="4645080"/>
              <a:ext cx="1492200" cy="568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44480" y="3878640"/>
              <a:ext cx="1752480" cy="9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77" y="7808"/>
                  </a:moveTo>
                  <a:arcTo wR="10800" hR="10800" stAng="-964958" swAng="124954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77" y="7808"/>
                  </a:moveTo>
                  <a:arcTo wR="10800" hR="10800" stAng="-964958" swAng="12495499"/>
                </a:path>
              </a:pathLst>
            </a:custGeom>
            <a:noFill/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52680" y="4295880"/>
              <a:ext cx="0" cy="742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90560" y="4371840"/>
              <a:ext cx="0" cy="633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86080" y="709200"/>
              <a:ext cx="0" cy="3809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614680" y="690480"/>
              <a:ext cx="0" cy="3810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87520" y="473040"/>
              <a:ext cx="228240" cy="45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1481"/>
                  </a:moveTo>
                  <a:arcTo wR="10800" hR="10800" stAng="10583167" swAng="11526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1481"/>
                  </a:moveTo>
                  <a:arcTo wR="10800" hR="10800" stAng="10583167" swAng="115268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11280" y="782640"/>
              <a:ext cx="173160" cy="36590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2610000" y="5019480"/>
              <a:ext cx="61920" cy="85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36640" y="5721480"/>
              <a:ext cx="24984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Dish of Hg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33680" y="647640"/>
              <a:ext cx="1257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36080" y="312840"/>
              <a:ext cx="1654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Vacuu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828800" y="781200"/>
              <a:ext cx="495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76480" y="800280"/>
              <a:ext cx="0" cy="348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3080" y="1847880"/>
              <a:ext cx="203832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atm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60 tor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652920" y="993240"/>
            <a:ext cx="516888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rometer will hold a column of mercury 760 mm high at one a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343080" y="312840"/>
            <a:ext cx="5047200" cy="6110640"/>
            <a:chOff x="343080" y="312840"/>
            <a:chExt cx="5047200" cy="6110640"/>
          </a:xfrm>
        </p:grpSpPr>
        <p:sp>
          <p:nvSpPr>
            <p:cNvPr id="268" name=""/>
            <p:cNvSpPr/>
            <p:nvPr/>
          </p:nvSpPr>
          <p:spPr>
            <a:xfrm>
              <a:off x="1654200" y="3911760"/>
              <a:ext cx="1739880" cy="80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82640" y="3992400"/>
              <a:ext cx="1663920" cy="959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54200" y="4597560"/>
              <a:ext cx="1739880" cy="80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00280" y="4309920"/>
              <a:ext cx="0" cy="743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95600" y="4486320"/>
              <a:ext cx="1666800" cy="390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06400" y="4400640"/>
              <a:ext cx="164736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1" y="11925"/>
                  </a:moveTo>
                  <a:arcTo wR="10800" hR="10800" stAng="358871" swAng="104411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1" y="11925"/>
                  </a:moveTo>
                  <a:arcTo wR="10800" hR="10800" stAng="358871" swAng="10441129"/>
                </a:path>
              </a:pathLst>
            </a:custGeom>
            <a:noFill/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78040" y="4645080"/>
              <a:ext cx="1492200" cy="568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44480" y="3878640"/>
              <a:ext cx="1752480" cy="9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77" y="7808"/>
                  </a:moveTo>
                  <a:arcTo wR="10800" hR="10800" stAng="-964958" swAng="124954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77" y="7808"/>
                  </a:moveTo>
                  <a:arcTo wR="10800" hR="10800" stAng="-964958" swAng="12495499"/>
                </a:path>
              </a:pathLst>
            </a:custGeom>
            <a:noFill/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52680" y="4295880"/>
              <a:ext cx="0" cy="742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90560" y="4371840"/>
              <a:ext cx="0" cy="633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386080" y="709200"/>
              <a:ext cx="0" cy="3809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614680" y="690480"/>
              <a:ext cx="0" cy="3810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87520" y="473040"/>
              <a:ext cx="228240" cy="45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1481"/>
                  </a:moveTo>
                  <a:arcTo wR="10800" hR="10800" stAng="10583167" swAng="11526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1481"/>
                  </a:moveTo>
                  <a:arcTo wR="10800" hR="10800" stAng="10583167" swAng="115268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11280" y="782640"/>
              <a:ext cx="173160" cy="36590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2610000" y="5019480"/>
              <a:ext cx="61920" cy="85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6640" y="5721480"/>
              <a:ext cx="24984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Dish of Hg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533680" y="647640"/>
              <a:ext cx="1257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36080" y="312840"/>
              <a:ext cx="1654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Vacuu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828800" y="781200"/>
              <a:ext cx="495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6480" y="800280"/>
              <a:ext cx="0" cy="348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3080" y="1847880"/>
              <a:ext cx="203832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atm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60 tor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652920" y="993240"/>
            <a:ext cx="516888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rometer will hold a column of mercury 760 mm high at one at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inject a volatile liquid in the barometer it will rise to the top of the merc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654200" y="3911760"/>
            <a:ext cx="1739880" cy="806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82640" y="3992400"/>
            <a:ext cx="1663920" cy="9590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54200" y="4597560"/>
            <a:ext cx="1739880" cy="806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00280" y="4309920"/>
            <a:ext cx="0" cy="743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95600" y="4486320"/>
            <a:ext cx="1666800" cy="390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06400" y="4400640"/>
            <a:ext cx="16473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5"/>
                </a:moveTo>
                <a:arcTo wR="10800" hR="10800" stAng="358871" swAng="10441129"/>
                <a:lnTo>
                  <a:pt x="10800" y="10800"/>
                </a:lnTo>
                <a:close/>
              </a:path>
              <a:path fill="none" w="21600" h="21600">
                <a:moveTo>
                  <a:pt x="21541" y="11925"/>
                </a:moveTo>
                <a:arcTo wR="10800" hR="10800" stAng="358871" swAng="10441129"/>
              </a:path>
            </a:pathLst>
          </a:custGeom>
          <a:noFill/>
          <a:ln cap="rnd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78040" y="4645080"/>
            <a:ext cx="1492200" cy="568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44480" y="3878640"/>
            <a:ext cx="1752480" cy="91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77" y="7808"/>
                </a:moveTo>
                <a:arcTo wR="10800" hR="10800" stAng="-964958" swAng="12495499"/>
                <a:lnTo>
                  <a:pt x="10800" y="10800"/>
                </a:lnTo>
                <a:close/>
              </a:path>
              <a:path fill="none" w="21600" h="21600">
                <a:moveTo>
                  <a:pt x="21177" y="7808"/>
                </a:moveTo>
                <a:arcTo wR="10800" hR="10800" stAng="-964958" swAng="12495499"/>
              </a:path>
            </a:pathLst>
          </a:custGeom>
          <a:noFill/>
          <a:ln cap="rnd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295880"/>
            <a:ext cx="0" cy="742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90560" y="4371840"/>
            <a:ext cx="0" cy="633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386080" y="709200"/>
            <a:ext cx="0" cy="380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614680" y="690480"/>
            <a:ext cx="0" cy="3810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7520" y="473040"/>
            <a:ext cx="228240" cy="45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" y="11481"/>
                </a:moveTo>
                <a:arcTo wR="10800" hR="10800" stAng="10583167" swAng="11526809"/>
                <a:lnTo>
                  <a:pt x="10800" y="10800"/>
                </a:lnTo>
                <a:close/>
              </a:path>
              <a:path fill="none" w="21600" h="21600">
                <a:moveTo>
                  <a:pt x="21" y="11481"/>
                </a:moveTo>
                <a:arcTo wR="10800" hR="10800" stAng="10583167" swAng="1152680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782640"/>
            <a:ext cx="173160" cy="365904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610000" y="5019480"/>
            <a:ext cx="61920" cy="85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36640" y="5721480"/>
            <a:ext cx="2498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h of H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615760" y="647640"/>
            <a:ext cx="1174680" cy="146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828800" y="78120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76480" y="800280"/>
            <a:ext cx="0" cy="348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3080" y="1847880"/>
            <a:ext cx="20383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at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60 tor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652920" y="993600"/>
            <a:ext cx="5168880" cy="521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rometer will hold a column of mercury 760 mm high at one at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inject a volatile liquid in the barometer it will rise to the top of the merc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t will vaporize and push the column of mercury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96920" y="452520"/>
            <a:ext cx="1294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87520" y="787320"/>
            <a:ext cx="216000" cy="6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654200" y="3911760"/>
            <a:ext cx="1739880" cy="806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82640" y="3992400"/>
            <a:ext cx="1663920" cy="9590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54200" y="4597560"/>
            <a:ext cx="1739880" cy="806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00280" y="4309920"/>
            <a:ext cx="0" cy="743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95600" y="4486320"/>
            <a:ext cx="1666800" cy="390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6400" y="4400640"/>
            <a:ext cx="16473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5"/>
                </a:moveTo>
                <a:arcTo wR="10800" hR="10800" stAng="358871" swAng="10441129"/>
                <a:lnTo>
                  <a:pt x="10800" y="10800"/>
                </a:lnTo>
                <a:close/>
              </a:path>
              <a:path fill="none" w="21600" h="21600">
                <a:moveTo>
                  <a:pt x="21541" y="11925"/>
                </a:moveTo>
                <a:arcTo wR="10800" hR="10800" stAng="358871" swAng="10441129"/>
              </a:path>
            </a:pathLst>
          </a:custGeom>
          <a:noFill/>
          <a:ln cap="rnd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78040" y="4645080"/>
            <a:ext cx="1492200" cy="568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44480" y="3878640"/>
            <a:ext cx="1752480" cy="91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77" y="7808"/>
                </a:moveTo>
                <a:arcTo wR="10800" hR="10800" stAng="-964958" swAng="12495499"/>
                <a:lnTo>
                  <a:pt x="10800" y="10800"/>
                </a:lnTo>
                <a:close/>
              </a:path>
              <a:path fill="none" w="21600" h="21600">
                <a:moveTo>
                  <a:pt x="21177" y="7808"/>
                </a:moveTo>
                <a:arcTo wR="10800" hR="10800" stAng="-964958" swAng="12495499"/>
              </a:path>
            </a:pathLst>
          </a:custGeom>
          <a:noFill/>
          <a:ln cap="rnd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4295880"/>
            <a:ext cx="0" cy="742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90560" y="4371840"/>
            <a:ext cx="0" cy="633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11280" y="782640"/>
            <a:ext cx="173160" cy="365904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2610000" y="5019480"/>
            <a:ext cx="61920" cy="85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36640" y="5721480"/>
            <a:ext cx="2498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h of H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866960" y="133344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76480" y="131436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95320" y="1924200"/>
            <a:ext cx="16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1e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36 mm H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07520" y="689040"/>
            <a:ext cx="192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543120" y="1600200"/>
            <a:ext cx="490212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cury is pushed down by the vapo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7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t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7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t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7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60 - 736 = 24 tor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386080" y="473040"/>
            <a:ext cx="229680" cy="4046040"/>
            <a:chOff x="2386080" y="473040"/>
            <a:chExt cx="229680" cy="4046040"/>
          </a:xfrm>
        </p:grpSpPr>
        <p:sp>
          <p:nvSpPr>
            <p:cNvPr id="332" name=""/>
            <p:cNvSpPr/>
            <p:nvPr/>
          </p:nvSpPr>
          <p:spPr>
            <a:xfrm flipV="1">
              <a:off x="2386080" y="709200"/>
              <a:ext cx="0" cy="3809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614680" y="690480"/>
              <a:ext cx="0" cy="3810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87520" y="473040"/>
              <a:ext cx="228240" cy="45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1481"/>
                  </a:moveTo>
                  <a:arcTo wR="10800" hR="10800" stAng="10583167" swAng="11526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1481"/>
                  </a:moveTo>
                  <a:arcTo wR="10800" hR="10800" stAng="10583167" swAng="115268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386080" y="477720"/>
            <a:ext cx="229680" cy="826920"/>
            <a:chOff x="2386080" y="477720"/>
            <a:chExt cx="229680" cy="826920"/>
          </a:xfrm>
        </p:grpSpPr>
        <p:sp>
          <p:nvSpPr>
            <p:cNvPr id="336" name=""/>
            <p:cNvSpPr/>
            <p:nvPr/>
          </p:nvSpPr>
          <p:spPr>
            <a:xfrm flipV="1">
              <a:off x="2614680" y="694800"/>
              <a:ext cx="0" cy="576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386080" y="477720"/>
              <a:ext cx="229680" cy="826920"/>
              <a:chOff x="2386080" y="477720"/>
              <a:chExt cx="229680" cy="826920"/>
            </a:xfrm>
          </p:grpSpPr>
          <p:sp>
            <p:nvSpPr>
              <p:cNvPr id="338" name=""/>
              <p:cNvSpPr/>
              <p:nvPr/>
            </p:nvSpPr>
            <p:spPr>
              <a:xfrm flipV="1">
                <a:off x="2386080" y="713880"/>
                <a:ext cx="0" cy="590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87520" y="477720"/>
                <a:ext cx="228240" cy="453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" y="11481"/>
                    </a:moveTo>
                    <a:arcTo wR="10800" hR="10800" stAng="10583167" swAng="115268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" y="11481"/>
                    </a:moveTo>
                    <a:arcTo wR="10800" hR="10800" stAng="10583167" swAng="11526809"/>
                  </a:path>
                </a:pathLst>
              </a:custGeom>
              <a:solidFill>
                <a:srgbClr val="dddddd"/>
              </a:solidFill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390760" y="714240"/>
              <a:ext cx="219240" cy="581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 flipH="1">
            <a:off x="2609640" y="895320"/>
            <a:ext cx="59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erature Eff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6400" y="1492200"/>
            <a:ext cx="7854840" cy="438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3640" y="5880240"/>
            <a:ext cx="328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net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rot="16200000">
            <a:off x="-700200" y="3004920"/>
            <a:ext cx="2633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# of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00280" y="3009960"/>
            <a:ext cx="7846920" cy="2840040"/>
          </a:xfrm>
          <a:custGeom>
            <a:avLst/>
            <a:gdLst/>
            <a:ahLst/>
            <a:rect l="l" t="t" r="r" b="b"/>
            <a:pathLst>
              <a:path w="4943" h="1789">
                <a:moveTo>
                  <a:pt x="0" y="1788"/>
                </a:moveTo>
                <a:lnTo>
                  <a:pt x="36" y="1764"/>
                </a:lnTo>
                <a:lnTo>
                  <a:pt x="96" y="1680"/>
                </a:lnTo>
                <a:lnTo>
                  <a:pt x="180" y="1584"/>
                </a:lnTo>
                <a:lnTo>
                  <a:pt x="264" y="1500"/>
                </a:lnTo>
                <a:lnTo>
                  <a:pt x="336" y="1428"/>
                </a:lnTo>
                <a:lnTo>
                  <a:pt x="396" y="1344"/>
                </a:lnTo>
                <a:lnTo>
                  <a:pt x="468" y="1272"/>
                </a:lnTo>
                <a:lnTo>
                  <a:pt x="540" y="1152"/>
                </a:lnTo>
                <a:lnTo>
                  <a:pt x="624" y="972"/>
                </a:lnTo>
                <a:lnTo>
                  <a:pt x="732" y="792"/>
                </a:lnTo>
                <a:lnTo>
                  <a:pt x="804" y="648"/>
                </a:lnTo>
                <a:lnTo>
                  <a:pt x="948" y="408"/>
                </a:lnTo>
                <a:lnTo>
                  <a:pt x="1140" y="180"/>
                </a:lnTo>
                <a:lnTo>
                  <a:pt x="1380" y="36"/>
                </a:lnTo>
                <a:lnTo>
                  <a:pt x="1572" y="0"/>
                </a:lnTo>
                <a:lnTo>
                  <a:pt x="1740" y="48"/>
                </a:lnTo>
                <a:lnTo>
                  <a:pt x="1860" y="132"/>
                </a:lnTo>
                <a:lnTo>
                  <a:pt x="1956" y="252"/>
                </a:lnTo>
                <a:lnTo>
                  <a:pt x="2148" y="516"/>
                </a:lnTo>
                <a:lnTo>
                  <a:pt x="2280" y="660"/>
                </a:lnTo>
                <a:lnTo>
                  <a:pt x="2364" y="720"/>
                </a:lnTo>
                <a:lnTo>
                  <a:pt x="2448" y="792"/>
                </a:lnTo>
                <a:lnTo>
                  <a:pt x="2556" y="900"/>
                </a:lnTo>
                <a:lnTo>
                  <a:pt x="2832" y="1080"/>
                </a:lnTo>
                <a:lnTo>
                  <a:pt x="2964" y="1140"/>
                </a:lnTo>
                <a:lnTo>
                  <a:pt x="3120" y="1248"/>
                </a:lnTo>
                <a:lnTo>
                  <a:pt x="3216" y="1320"/>
                </a:lnTo>
                <a:lnTo>
                  <a:pt x="3396" y="1440"/>
                </a:lnTo>
                <a:lnTo>
                  <a:pt x="3516" y="1488"/>
                </a:lnTo>
                <a:lnTo>
                  <a:pt x="3684" y="1572"/>
                </a:lnTo>
                <a:lnTo>
                  <a:pt x="3852" y="1632"/>
                </a:lnTo>
                <a:lnTo>
                  <a:pt x="3960" y="1656"/>
                </a:lnTo>
                <a:lnTo>
                  <a:pt x="4068" y="1668"/>
                </a:lnTo>
                <a:lnTo>
                  <a:pt x="4260" y="1692"/>
                </a:lnTo>
                <a:lnTo>
                  <a:pt x="4651" y="1747"/>
                </a:lnTo>
                <a:lnTo>
                  <a:pt x="4942" y="1785"/>
                </a:lnTo>
              </a:path>
            </a:pathLst>
          </a:custGeom>
          <a:noFill/>
          <a:ln cap="rnd" w="507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45160" y="2490840"/>
            <a:ext cx="524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81800" y="2838600"/>
            <a:ext cx="0" cy="30286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13360" y="1695600"/>
            <a:ext cx="469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ergy needed to overcome intermolecular fo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86480" y="4910040"/>
            <a:ext cx="3063960" cy="965160"/>
          </a:xfrm>
          <a:custGeom>
            <a:avLst/>
            <a:gdLst/>
            <a:ahLst/>
            <a:rect l="l" t="t" r="r" b="b"/>
            <a:pathLst>
              <a:path w="1930" h="608">
                <a:moveTo>
                  <a:pt x="1" y="605"/>
                </a:moveTo>
                <a:lnTo>
                  <a:pt x="0" y="0"/>
                </a:lnTo>
                <a:lnTo>
                  <a:pt x="157" y="112"/>
                </a:lnTo>
                <a:lnTo>
                  <a:pt x="220" y="158"/>
                </a:lnTo>
                <a:lnTo>
                  <a:pt x="369" y="256"/>
                </a:lnTo>
                <a:lnTo>
                  <a:pt x="489" y="305"/>
                </a:lnTo>
                <a:lnTo>
                  <a:pt x="665" y="392"/>
                </a:lnTo>
                <a:lnTo>
                  <a:pt x="833" y="452"/>
                </a:lnTo>
                <a:lnTo>
                  <a:pt x="941" y="476"/>
                </a:lnTo>
                <a:lnTo>
                  <a:pt x="1193" y="505"/>
                </a:lnTo>
                <a:lnTo>
                  <a:pt x="1635" y="567"/>
                </a:lnTo>
                <a:lnTo>
                  <a:pt x="1929" y="602"/>
                </a:lnTo>
                <a:lnTo>
                  <a:pt x="78" y="605"/>
                </a:lnTo>
                <a:lnTo>
                  <a:pt x="1" y="607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806400" y="1492200"/>
            <a:ext cx="7854840" cy="438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03640" y="5880240"/>
            <a:ext cx="328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net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rot="16200000">
            <a:off x="-700200" y="3004920"/>
            <a:ext cx="2633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# of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0280" y="3009960"/>
            <a:ext cx="7846920" cy="2840040"/>
          </a:xfrm>
          <a:custGeom>
            <a:avLst/>
            <a:gdLst/>
            <a:ahLst/>
            <a:rect l="l" t="t" r="r" b="b"/>
            <a:pathLst>
              <a:path w="4943" h="1789">
                <a:moveTo>
                  <a:pt x="0" y="1788"/>
                </a:moveTo>
                <a:lnTo>
                  <a:pt x="36" y="1764"/>
                </a:lnTo>
                <a:lnTo>
                  <a:pt x="96" y="1680"/>
                </a:lnTo>
                <a:lnTo>
                  <a:pt x="180" y="1584"/>
                </a:lnTo>
                <a:lnTo>
                  <a:pt x="264" y="1500"/>
                </a:lnTo>
                <a:lnTo>
                  <a:pt x="336" y="1428"/>
                </a:lnTo>
                <a:lnTo>
                  <a:pt x="396" y="1344"/>
                </a:lnTo>
                <a:lnTo>
                  <a:pt x="468" y="1272"/>
                </a:lnTo>
                <a:lnTo>
                  <a:pt x="540" y="1152"/>
                </a:lnTo>
                <a:lnTo>
                  <a:pt x="624" y="972"/>
                </a:lnTo>
                <a:lnTo>
                  <a:pt x="732" y="792"/>
                </a:lnTo>
                <a:lnTo>
                  <a:pt x="804" y="648"/>
                </a:lnTo>
                <a:lnTo>
                  <a:pt x="948" y="408"/>
                </a:lnTo>
                <a:lnTo>
                  <a:pt x="1140" y="180"/>
                </a:lnTo>
                <a:lnTo>
                  <a:pt x="1380" y="36"/>
                </a:lnTo>
                <a:lnTo>
                  <a:pt x="1572" y="0"/>
                </a:lnTo>
                <a:lnTo>
                  <a:pt x="1740" y="48"/>
                </a:lnTo>
                <a:lnTo>
                  <a:pt x="1860" y="132"/>
                </a:lnTo>
                <a:lnTo>
                  <a:pt x="1956" y="252"/>
                </a:lnTo>
                <a:lnTo>
                  <a:pt x="2148" y="516"/>
                </a:lnTo>
                <a:lnTo>
                  <a:pt x="2280" y="660"/>
                </a:lnTo>
                <a:lnTo>
                  <a:pt x="2364" y="720"/>
                </a:lnTo>
                <a:lnTo>
                  <a:pt x="2448" y="792"/>
                </a:lnTo>
                <a:lnTo>
                  <a:pt x="2556" y="900"/>
                </a:lnTo>
                <a:lnTo>
                  <a:pt x="2832" y="1080"/>
                </a:lnTo>
                <a:lnTo>
                  <a:pt x="2964" y="1140"/>
                </a:lnTo>
                <a:lnTo>
                  <a:pt x="3120" y="1248"/>
                </a:lnTo>
                <a:lnTo>
                  <a:pt x="3216" y="1320"/>
                </a:lnTo>
                <a:lnTo>
                  <a:pt x="3396" y="1440"/>
                </a:lnTo>
                <a:lnTo>
                  <a:pt x="3516" y="1488"/>
                </a:lnTo>
                <a:lnTo>
                  <a:pt x="3684" y="1572"/>
                </a:lnTo>
                <a:lnTo>
                  <a:pt x="3852" y="1632"/>
                </a:lnTo>
                <a:lnTo>
                  <a:pt x="3960" y="1656"/>
                </a:lnTo>
                <a:lnTo>
                  <a:pt x="4068" y="1668"/>
                </a:lnTo>
                <a:lnTo>
                  <a:pt x="4260" y="1692"/>
                </a:lnTo>
                <a:lnTo>
                  <a:pt x="4651" y="1747"/>
                </a:lnTo>
                <a:lnTo>
                  <a:pt x="4942" y="1785"/>
                </a:lnTo>
              </a:path>
            </a:pathLst>
          </a:custGeom>
          <a:noFill/>
          <a:ln cap="rnd" w="507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45160" y="2490840"/>
            <a:ext cx="524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81800" y="2838600"/>
            <a:ext cx="0" cy="30286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13360" y="1695600"/>
            <a:ext cx="469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ergy needed to overcome intermolecular fo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86480" y="4910040"/>
            <a:ext cx="3063960" cy="965160"/>
          </a:xfrm>
          <a:custGeom>
            <a:avLst/>
            <a:gdLst/>
            <a:ahLst/>
            <a:rect l="l" t="t" r="r" b="b"/>
            <a:pathLst>
              <a:path w="1930" h="608">
                <a:moveTo>
                  <a:pt x="1" y="605"/>
                </a:moveTo>
                <a:lnTo>
                  <a:pt x="0" y="0"/>
                </a:lnTo>
                <a:lnTo>
                  <a:pt x="157" y="112"/>
                </a:lnTo>
                <a:lnTo>
                  <a:pt x="220" y="158"/>
                </a:lnTo>
                <a:lnTo>
                  <a:pt x="369" y="256"/>
                </a:lnTo>
                <a:lnTo>
                  <a:pt x="489" y="305"/>
                </a:lnTo>
                <a:lnTo>
                  <a:pt x="665" y="392"/>
                </a:lnTo>
                <a:lnTo>
                  <a:pt x="833" y="452"/>
                </a:lnTo>
                <a:lnTo>
                  <a:pt x="941" y="476"/>
                </a:lnTo>
                <a:lnTo>
                  <a:pt x="1193" y="505"/>
                </a:lnTo>
                <a:lnTo>
                  <a:pt x="1635" y="567"/>
                </a:lnTo>
                <a:lnTo>
                  <a:pt x="1929" y="602"/>
                </a:lnTo>
                <a:lnTo>
                  <a:pt x="78" y="605"/>
                </a:lnTo>
                <a:lnTo>
                  <a:pt x="1" y="607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0280" y="3009960"/>
            <a:ext cx="7846920" cy="2840040"/>
          </a:xfrm>
          <a:custGeom>
            <a:avLst/>
            <a:gdLst/>
            <a:ahLst/>
            <a:rect l="l" t="t" r="r" b="b"/>
            <a:pathLst>
              <a:path w="4943" h="1789">
                <a:moveTo>
                  <a:pt x="0" y="1788"/>
                </a:moveTo>
                <a:lnTo>
                  <a:pt x="36" y="1764"/>
                </a:lnTo>
                <a:lnTo>
                  <a:pt x="96" y="1680"/>
                </a:lnTo>
                <a:lnTo>
                  <a:pt x="180" y="1584"/>
                </a:lnTo>
                <a:lnTo>
                  <a:pt x="264" y="1500"/>
                </a:lnTo>
                <a:lnTo>
                  <a:pt x="336" y="1428"/>
                </a:lnTo>
                <a:lnTo>
                  <a:pt x="396" y="1344"/>
                </a:lnTo>
                <a:lnTo>
                  <a:pt x="468" y="1272"/>
                </a:lnTo>
                <a:lnTo>
                  <a:pt x="540" y="1152"/>
                </a:lnTo>
                <a:lnTo>
                  <a:pt x="624" y="972"/>
                </a:lnTo>
                <a:lnTo>
                  <a:pt x="732" y="792"/>
                </a:lnTo>
                <a:lnTo>
                  <a:pt x="804" y="648"/>
                </a:lnTo>
                <a:lnTo>
                  <a:pt x="948" y="408"/>
                </a:lnTo>
                <a:lnTo>
                  <a:pt x="1140" y="180"/>
                </a:lnTo>
                <a:lnTo>
                  <a:pt x="1380" y="36"/>
                </a:lnTo>
                <a:lnTo>
                  <a:pt x="1572" y="0"/>
                </a:lnTo>
                <a:lnTo>
                  <a:pt x="1740" y="48"/>
                </a:lnTo>
                <a:lnTo>
                  <a:pt x="1860" y="132"/>
                </a:lnTo>
                <a:lnTo>
                  <a:pt x="1956" y="252"/>
                </a:lnTo>
                <a:lnTo>
                  <a:pt x="2148" y="516"/>
                </a:lnTo>
                <a:lnTo>
                  <a:pt x="2280" y="660"/>
                </a:lnTo>
                <a:lnTo>
                  <a:pt x="2364" y="720"/>
                </a:lnTo>
                <a:lnTo>
                  <a:pt x="2448" y="792"/>
                </a:lnTo>
                <a:lnTo>
                  <a:pt x="2556" y="900"/>
                </a:lnTo>
                <a:lnTo>
                  <a:pt x="2832" y="1080"/>
                </a:lnTo>
                <a:lnTo>
                  <a:pt x="2964" y="1140"/>
                </a:lnTo>
                <a:lnTo>
                  <a:pt x="3120" y="1248"/>
                </a:lnTo>
                <a:lnTo>
                  <a:pt x="3216" y="1320"/>
                </a:lnTo>
                <a:lnTo>
                  <a:pt x="3396" y="1440"/>
                </a:lnTo>
                <a:lnTo>
                  <a:pt x="3516" y="1488"/>
                </a:lnTo>
                <a:lnTo>
                  <a:pt x="3684" y="1572"/>
                </a:lnTo>
                <a:lnTo>
                  <a:pt x="3852" y="1632"/>
                </a:lnTo>
                <a:lnTo>
                  <a:pt x="3960" y="1656"/>
                </a:lnTo>
                <a:lnTo>
                  <a:pt x="4068" y="1668"/>
                </a:lnTo>
                <a:lnTo>
                  <a:pt x="4260" y="1692"/>
                </a:lnTo>
                <a:lnTo>
                  <a:pt x="4651" y="1747"/>
                </a:lnTo>
                <a:lnTo>
                  <a:pt x="4942" y="1785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45160" y="2490840"/>
            <a:ext cx="524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81800" y="2838600"/>
            <a:ext cx="0" cy="302868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86480" y="4910040"/>
            <a:ext cx="3063960" cy="965160"/>
          </a:xfrm>
          <a:custGeom>
            <a:avLst/>
            <a:gdLst/>
            <a:ahLst/>
            <a:rect l="l" t="t" r="r" b="b"/>
            <a:pathLst>
              <a:path w="1930" h="608">
                <a:moveTo>
                  <a:pt x="1" y="605"/>
                </a:moveTo>
                <a:lnTo>
                  <a:pt x="0" y="0"/>
                </a:lnTo>
                <a:lnTo>
                  <a:pt x="157" y="112"/>
                </a:lnTo>
                <a:lnTo>
                  <a:pt x="220" y="158"/>
                </a:lnTo>
                <a:lnTo>
                  <a:pt x="369" y="256"/>
                </a:lnTo>
                <a:lnTo>
                  <a:pt x="489" y="305"/>
                </a:lnTo>
                <a:lnTo>
                  <a:pt x="665" y="392"/>
                </a:lnTo>
                <a:lnTo>
                  <a:pt x="833" y="452"/>
                </a:lnTo>
                <a:lnTo>
                  <a:pt x="941" y="476"/>
                </a:lnTo>
                <a:lnTo>
                  <a:pt x="1193" y="505"/>
                </a:lnTo>
                <a:lnTo>
                  <a:pt x="1635" y="567"/>
                </a:lnTo>
                <a:lnTo>
                  <a:pt x="1929" y="602"/>
                </a:lnTo>
                <a:lnTo>
                  <a:pt x="78" y="605"/>
                </a:lnTo>
                <a:lnTo>
                  <a:pt x="1" y="607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7160" y="4419720"/>
            <a:ext cx="7793280" cy="1449360"/>
          </a:xfrm>
          <a:custGeom>
            <a:avLst/>
            <a:gdLst/>
            <a:ahLst/>
            <a:rect l="l" t="t" r="r" b="b"/>
            <a:pathLst>
              <a:path w="4909" h="913">
                <a:moveTo>
                  <a:pt x="0" y="912"/>
                </a:moveTo>
                <a:lnTo>
                  <a:pt x="36" y="912"/>
                </a:lnTo>
                <a:lnTo>
                  <a:pt x="72" y="900"/>
                </a:lnTo>
                <a:lnTo>
                  <a:pt x="240" y="852"/>
                </a:lnTo>
                <a:lnTo>
                  <a:pt x="648" y="708"/>
                </a:lnTo>
                <a:lnTo>
                  <a:pt x="732" y="684"/>
                </a:lnTo>
                <a:lnTo>
                  <a:pt x="780" y="660"/>
                </a:lnTo>
                <a:lnTo>
                  <a:pt x="852" y="636"/>
                </a:lnTo>
                <a:lnTo>
                  <a:pt x="996" y="576"/>
                </a:lnTo>
                <a:lnTo>
                  <a:pt x="1092" y="540"/>
                </a:lnTo>
                <a:lnTo>
                  <a:pt x="1176" y="492"/>
                </a:lnTo>
                <a:lnTo>
                  <a:pt x="1272" y="444"/>
                </a:lnTo>
                <a:lnTo>
                  <a:pt x="1344" y="396"/>
                </a:lnTo>
                <a:lnTo>
                  <a:pt x="1512" y="312"/>
                </a:lnTo>
                <a:lnTo>
                  <a:pt x="1566" y="294"/>
                </a:lnTo>
                <a:lnTo>
                  <a:pt x="1644" y="252"/>
                </a:lnTo>
                <a:lnTo>
                  <a:pt x="1728" y="216"/>
                </a:lnTo>
                <a:lnTo>
                  <a:pt x="1770" y="198"/>
                </a:lnTo>
                <a:lnTo>
                  <a:pt x="1836" y="168"/>
                </a:lnTo>
                <a:lnTo>
                  <a:pt x="1932" y="132"/>
                </a:lnTo>
                <a:lnTo>
                  <a:pt x="2004" y="108"/>
                </a:lnTo>
                <a:lnTo>
                  <a:pt x="2088" y="72"/>
                </a:lnTo>
                <a:lnTo>
                  <a:pt x="2166" y="54"/>
                </a:lnTo>
                <a:lnTo>
                  <a:pt x="2250" y="36"/>
                </a:lnTo>
                <a:lnTo>
                  <a:pt x="2328" y="18"/>
                </a:lnTo>
                <a:lnTo>
                  <a:pt x="2430" y="6"/>
                </a:lnTo>
                <a:lnTo>
                  <a:pt x="2490" y="0"/>
                </a:lnTo>
                <a:lnTo>
                  <a:pt x="2550" y="0"/>
                </a:lnTo>
                <a:lnTo>
                  <a:pt x="2592" y="6"/>
                </a:lnTo>
                <a:lnTo>
                  <a:pt x="2664" y="24"/>
                </a:lnTo>
                <a:lnTo>
                  <a:pt x="2784" y="48"/>
                </a:lnTo>
                <a:lnTo>
                  <a:pt x="2892" y="84"/>
                </a:lnTo>
                <a:lnTo>
                  <a:pt x="3036" y="150"/>
                </a:lnTo>
                <a:lnTo>
                  <a:pt x="3102" y="186"/>
                </a:lnTo>
                <a:lnTo>
                  <a:pt x="3210" y="240"/>
                </a:lnTo>
                <a:lnTo>
                  <a:pt x="3450" y="342"/>
                </a:lnTo>
                <a:lnTo>
                  <a:pt x="3672" y="420"/>
                </a:lnTo>
                <a:lnTo>
                  <a:pt x="3816" y="468"/>
                </a:lnTo>
                <a:lnTo>
                  <a:pt x="3990" y="534"/>
                </a:lnTo>
                <a:lnTo>
                  <a:pt x="4164" y="588"/>
                </a:lnTo>
                <a:lnTo>
                  <a:pt x="4374" y="666"/>
                </a:lnTo>
                <a:lnTo>
                  <a:pt x="4500" y="696"/>
                </a:lnTo>
                <a:lnTo>
                  <a:pt x="4602" y="720"/>
                </a:lnTo>
                <a:lnTo>
                  <a:pt x="4728" y="750"/>
                </a:lnTo>
                <a:lnTo>
                  <a:pt x="4842" y="768"/>
                </a:lnTo>
                <a:lnTo>
                  <a:pt x="4908" y="786"/>
                </a:lnTo>
              </a:path>
            </a:pathLst>
          </a:custGeom>
          <a:noFill/>
          <a:ln cap="rnd" w="507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00880" y="4629240"/>
            <a:ext cx="3078000" cy="1249200"/>
          </a:xfrm>
          <a:custGeom>
            <a:avLst/>
            <a:gdLst/>
            <a:ahLst/>
            <a:rect l="l" t="t" r="r" b="b"/>
            <a:pathLst>
              <a:path w="1939" h="787">
                <a:moveTo>
                  <a:pt x="0" y="0"/>
                </a:moveTo>
                <a:lnTo>
                  <a:pt x="0" y="786"/>
                </a:lnTo>
                <a:lnTo>
                  <a:pt x="1932" y="786"/>
                </a:lnTo>
                <a:lnTo>
                  <a:pt x="1938" y="660"/>
                </a:lnTo>
                <a:lnTo>
                  <a:pt x="1836" y="642"/>
                </a:lnTo>
                <a:lnTo>
                  <a:pt x="1680" y="618"/>
                </a:lnTo>
                <a:lnTo>
                  <a:pt x="1398" y="552"/>
                </a:lnTo>
                <a:lnTo>
                  <a:pt x="1164" y="462"/>
                </a:lnTo>
                <a:lnTo>
                  <a:pt x="1002" y="408"/>
                </a:lnTo>
                <a:lnTo>
                  <a:pt x="444" y="216"/>
                </a:lnTo>
                <a:lnTo>
                  <a:pt x="246" y="132"/>
                </a:lnTo>
                <a:lnTo>
                  <a:pt x="78" y="48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8080" y="3824280"/>
            <a:ext cx="524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22280" y="499680"/>
            <a:ext cx="8283600" cy="121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SzPct val="1022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t higher temperature more molecules have  enough energy - higher vapor pressur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13360" y="1695600"/>
            <a:ext cx="469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ergy needed to overcome intermolecular fo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hematical relation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72680" y="2576160"/>
            <a:ext cx="8334360" cy="37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is the natural loga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n = Log base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= Euler’s number an irrational number lik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heat of vaporization in J/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265480" y="1365120"/>
                <a:ext cx="4546440" cy="10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vap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2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vap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p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57200" y="2792160"/>
            <a:ext cx="8229600" cy="33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 = 8.3145 J/K m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hematical relation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265480" y="1365120"/>
                <a:ext cx="4548240" cy="10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vap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2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vap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p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1866960" y="3081240"/>
            <a:ext cx="6732360" cy="1293840"/>
          </a:xfrm>
          <a:custGeom>
            <a:avLst/>
            <a:gdLst/>
            <a:ahLst/>
            <a:rect l="l" t="t" r="r" b="b"/>
            <a:pathLst>
              <a:path w="18704" h="3597">
                <a:moveTo>
                  <a:pt x="5259" y="10790"/>
                </a:moveTo>
                <a:cubicBezTo>
                  <a:pt x="5222" y="10774"/>
                  <a:pt x="5215" y="10736"/>
                  <a:pt x="5184" y="10740"/>
                </a:cubicBezTo>
                <a:cubicBezTo>
                  <a:pt x="5184" y="10748"/>
                  <a:pt x="5184" y="10757"/>
                  <a:pt x="5184" y="10765"/>
                </a:cubicBezTo>
                <a:cubicBezTo>
                  <a:pt x="5294" y="10736"/>
                  <a:pt x="5292" y="10736"/>
                  <a:pt x="5407" y="10666"/>
                </a:cubicBezTo>
                <a:cubicBezTo>
                  <a:pt x="5594" y="10552"/>
                  <a:pt x="5758" y="10384"/>
                  <a:pt x="5904" y="10220"/>
                </a:cubicBezTo>
                <a:cubicBezTo>
                  <a:pt x="6060" y="10045"/>
                  <a:pt x="6176" y="9817"/>
                  <a:pt x="6251" y="9599"/>
                </a:cubicBezTo>
                <a:cubicBezTo>
                  <a:pt x="6279" y="9517"/>
                  <a:pt x="6309" y="9430"/>
                  <a:pt x="6201" y="9401"/>
                </a:cubicBezTo>
                <a:cubicBezTo>
                  <a:pt x="6097" y="9373"/>
                  <a:pt x="6005" y="9437"/>
                  <a:pt x="5928" y="9500"/>
                </a:cubicBezTo>
                <a:cubicBezTo>
                  <a:pt x="5825" y="9585"/>
                  <a:pt x="5751" y="9742"/>
                  <a:pt x="5730" y="9872"/>
                </a:cubicBezTo>
                <a:cubicBezTo>
                  <a:pt x="5708" y="10013"/>
                  <a:pt x="5730" y="10127"/>
                  <a:pt x="5804" y="10244"/>
                </a:cubicBezTo>
                <a:cubicBezTo>
                  <a:pt x="5872" y="10352"/>
                  <a:pt x="5933" y="10381"/>
                  <a:pt x="6052" y="10393"/>
                </a:cubicBezTo>
                <a:cubicBezTo>
                  <a:pt x="6142" y="10402"/>
                  <a:pt x="6270" y="10360"/>
                  <a:pt x="6350" y="10319"/>
                </a:cubicBezTo>
                <a:cubicBezTo>
                  <a:pt x="6456" y="10264"/>
                  <a:pt x="6531" y="10191"/>
                  <a:pt x="6623" y="10120"/>
                </a:cubicBezTo>
                <a:cubicBezTo>
                  <a:pt x="6705" y="10057"/>
                  <a:pt x="6818" y="9966"/>
                  <a:pt x="6921" y="9947"/>
                </a:cubicBezTo>
                <a:cubicBezTo>
                  <a:pt x="6983" y="9936"/>
                  <a:pt x="7047" y="9973"/>
                  <a:pt x="7045" y="10046"/>
                </a:cubicBezTo>
                <a:cubicBezTo>
                  <a:pt x="7043" y="10119"/>
                  <a:pt x="6956" y="10256"/>
                  <a:pt x="6921" y="10319"/>
                </a:cubicBezTo>
                <a:cubicBezTo>
                  <a:pt x="6883" y="10387"/>
                  <a:pt x="6837" y="10453"/>
                  <a:pt x="6796" y="10517"/>
                </a:cubicBezTo>
                <a:cubicBezTo>
                  <a:pt x="6925" y="10390"/>
                  <a:pt x="7056" y="10203"/>
                  <a:pt x="7218" y="10120"/>
                </a:cubicBezTo>
                <a:cubicBezTo>
                  <a:pt x="7259" y="10100"/>
                  <a:pt x="7265" y="10092"/>
                  <a:pt x="7293" y="10096"/>
                </a:cubicBezTo>
                <a:cubicBezTo>
                  <a:pt x="7319" y="10145"/>
                  <a:pt x="7343" y="10229"/>
                  <a:pt x="7367" y="10269"/>
                </a:cubicBezTo>
                <a:cubicBezTo>
                  <a:pt x="7403" y="10329"/>
                  <a:pt x="7471" y="10420"/>
                  <a:pt x="7541" y="10443"/>
                </a:cubicBezTo>
                <a:cubicBezTo>
                  <a:pt x="7604" y="10464"/>
                  <a:pt x="7680" y="10433"/>
                  <a:pt x="7739" y="10418"/>
                </a:cubicBezTo>
              </a:path>
              <a:path w="18704" h="3597">
                <a:moveTo>
                  <a:pt x="8830" y="9178"/>
                </a:moveTo>
                <a:cubicBezTo>
                  <a:pt x="8855" y="9178"/>
                  <a:pt x="8863" y="9178"/>
                  <a:pt x="8855" y="9153"/>
                </a:cubicBezTo>
                <a:cubicBezTo>
                  <a:pt x="8820" y="9230"/>
                  <a:pt x="8773" y="9296"/>
                  <a:pt x="8731" y="9376"/>
                </a:cubicBezTo>
                <a:cubicBezTo>
                  <a:pt x="8650" y="9529"/>
                  <a:pt x="8557" y="9679"/>
                  <a:pt x="8508" y="9847"/>
                </a:cubicBezTo>
                <a:cubicBezTo>
                  <a:pt x="8463" y="10001"/>
                  <a:pt x="8438" y="10183"/>
                  <a:pt x="8458" y="10344"/>
                </a:cubicBezTo>
                <a:cubicBezTo>
                  <a:pt x="8475" y="10483"/>
                  <a:pt x="8520" y="10630"/>
                  <a:pt x="8558" y="10765"/>
                </a:cubicBezTo>
                <a:cubicBezTo>
                  <a:pt x="8591" y="10881"/>
                  <a:pt x="8622" y="10997"/>
                  <a:pt x="8657" y="11112"/>
                </a:cubicBezTo>
                <a:cubicBezTo>
                  <a:pt x="8679" y="11185"/>
                  <a:pt x="8709" y="11271"/>
                  <a:pt x="8781" y="11311"/>
                </a:cubicBezTo>
                <a:cubicBezTo>
                  <a:pt x="8797" y="11311"/>
                  <a:pt x="8814" y="11311"/>
                  <a:pt x="8830" y="11311"/>
                </a:cubicBezTo>
              </a:path>
              <a:path w="18704" h="3597">
                <a:moveTo>
                  <a:pt x="9327" y="9401"/>
                </a:moveTo>
                <a:cubicBezTo>
                  <a:pt x="9327" y="9365"/>
                  <a:pt x="9332" y="9315"/>
                  <a:pt x="9376" y="9302"/>
                </a:cubicBezTo>
                <a:cubicBezTo>
                  <a:pt x="9434" y="9286"/>
                  <a:pt x="9552" y="9292"/>
                  <a:pt x="9599" y="9327"/>
                </a:cubicBezTo>
                <a:cubicBezTo>
                  <a:pt x="9708" y="9408"/>
                  <a:pt x="9719" y="9524"/>
                  <a:pt x="9723" y="9649"/>
                </a:cubicBezTo>
                <a:cubicBezTo>
                  <a:pt x="9726" y="9746"/>
                  <a:pt x="9646" y="9879"/>
                  <a:pt x="9575" y="9947"/>
                </a:cubicBezTo>
                <a:cubicBezTo>
                  <a:pt x="9532" y="9988"/>
                  <a:pt x="9365" y="10076"/>
                  <a:pt x="9302" y="10046"/>
                </a:cubicBezTo>
                <a:cubicBezTo>
                  <a:pt x="9224" y="10009"/>
                  <a:pt x="9211" y="9938"/>
                  <a:pt x="9252" y="9872"/>
                </a:cubicBezTo>
                <a:cubicBezTo>
                  <a:pt x="9320" y="9762"/>
                  <a:pt x="9474" y="9854"/>
                  <a:pt x="9550" y="9897"/>
                </a:cubicBezTo>
                <a:cubicBezTo>
                  <a:pt x="9629" y="9941"/>
                  <a:pt x="9690" y="9986"/>
                  <a:pt x="9773" y="10021"/>
                </a:cubicBezTo>
              </a:path>
              <a:path w="18704" h="3597">
                <a:moveTo>
                  <a:pt x="10021" y="9351"/>
                </a:moveTo>
                <a:cubicBezTo>
                  <a:pt x="10133" y="9281"/>
                  <a:pt x="10196" y="9255"/>
                  <a:pt x="10319" y="9227"/>
                </a:cubicBezTo>
                <a:cubicBezTo>
                  <a:pt x="10401" y="9208"/>
                  <a:pt x="10494" y="9175"/>
                  <a:pt x="10567" y="9227"/>
                </a:cubicBezTo>
                <a:cubicBezTo>
                  <a:pt x="10658" y="9292"/>
                  <a:pt x="10533" y="9342"/>
                  <a:pt x="10492" y="9376"/>
                </a:cubicBezTo>
                <a:cubicBezTo>
                  <a:pt x="10436" y="9423"/>
                  <a:pt x="10281" y="9481"/>
                  <a:pt x="10244" y="9525"/>
                </a:cubicBezTo>
                <a:cubicBezTo>
                  <a:pt x="10244" y="9533"/>
                  <a:pt x="10244" y="9542"/>
                  <a:pt x="10244" y="9550"/>
                </a:cubicBezTo>
                <a:cubicBezTo>
                  <a:pt x="10301" y="9593"/>
                  <a:pt x="10368" y="9596"/>
                  <a:pt x="10443" y="9599"/>
                </a:cubicBezTo>
                <a:cubicBezTo>
                  <a:pt x="10468" y="9600"/>
                  <a:pt x="10623" y="9610"/>
                  <a:pt x="10616" y="9674"/>
                </a:cubicBezTo>
                <a:cubicBezTo>
                  <a:pt x="10610" y="9734"/>
                  <a:pt x="10488" y="9817"/>
                  <a:pt x="10443" y="9847"/>
                </a:cubicBezTo>
                <a:cubicBezTo>
                  <a:pt x="10389" y="9874"/>
                  <a:pt x="10369" y="9886"/>
                  <a:pt x="10344" y="9922"/>
                </a:cubicBezTo>
              </a:path>
              <a:path w="18704" h="3597">
                <a:moveTo>
                  <a:pt x="10790" y="9773"/>
                </a:moveTo>
                <a:cubicBezTo>
                  <a:pt x="10815" y="9798"/>
                  <a:pt x="10823" y="9806"/>
                  <a:pt x="10790" y="9823"/>
                </a:cubicBezTo>
              </a:path>
              <a:path w="18704" h="3597">
                <a:moveTo>
                  <a:pt x="11832" y="9351"/>
                </a:moveTo>
                <a:cubicBezTo>
                  <a:pt x="11852" y="9311"/>
                  <a:pt x="11861" y="9305"/>
                  <a:pt x="11857" y="9277"/>
                </a:cubicBezTo>
                <a:cubicBezTo>
                  <a:pt x="11805" y="9225"/>
                  <a:pt x="11763" y="9211"/>
                  <a:pt x="11683" y="9227"/>
                </a:cubicBezTo>
                <a:cubicBezTo>
                  <a:pt x="11602" y="9243"/>
                  <a:pt x="11467" y="9291"/>
                  <a:pt x="11410" y="9351"/>
                </a:cubicBezTo>
                <a:cubicBezTo>
                  <a:pt x="11402" y="9368"/>
                  <a:pt x="11393" y="9384"/>
                  <a:pt x="11385" y="9401"/>
                </a:cubicBezTo>
                <a:cubicBezTo>
                  <a:pt x="11399" y="9496"/>
                  <a:pt x="11465" y="9520"/>
                  <a:pt x="11559" y="9550"/>
                </a:cubicBezTo>
                <a:cubicBezTo>
                  <a:pt x="11674" y="9586"/>
                  <a:pt x="11807" y="9625"/>
                  <a:pt x="11906" y="9699"/>
                </a:cubicBezTo>
                <a:cubicBezTo>
                  <a:pt x="11986" y="9759"/>
                  <a:pt x="11972" y="9825"/>
                  <a:pt x="11906" y="9872"/>
                </a:cubicBezTo>
                <a:cubicBezTo>
                  <a:pt x="11842" y="9918"/>
                  <a:pt x="11740" y="9951"/>
                  <a:pt x="11658" y="9922"/>
                </a:cubicBezTo>
                <a:cubicBezTo>
                  <a:pt x="11650" y="9914"/>
                  <a:pt x="11641" y="9905"/>
                  <a:pt x="11633" y="9897"/>
                </a:cubicBezTo>
                <a:cubicBezTo>
                  <a:pt x="11645" y="9793"/>
                  <a:pt x="11686" y="9729"/>
                  <a:pt x="11757" y="9649"/>
                </a:cubicBezTo>
                <a:cubicBezTo>
                  <a:pt x="11836" y="9561"/>
                  <a:pt x="11932" y="9512"/>
                  <a:pt x="12030" y="9451"/>
                </a:cubicBezTo>
                <a:cubicBezTo>
                  <a:pt x="12087" y="9413"/>
                  <a:pt x="12090" y="9397"/>
                  <a:pt x="12129" y="9401"/>
                </a:cubicBezTo>
              </a:path>
              <a:path w="18704" h="3597">
                <a:moveTo>
                  <a:pt x="9054" y="10244"/>
                </a:moveTo>
                <a:cubicBezTo>
                  <a:pt x="9013" y="10264"/>
                  <a:pt x="9007" y="10273"/>
                  <a:pt x="8979" y="10269"/>
                </a:cubicBezTo>
                <a:cubicBezTo>
                  <a:pt x="9122" y="10269"/>
                  <a:pt x="9259" y="10233"/>
                  <a:pt x="9401" y="10244"/>
                </a:cubicBezTo>
                <a:cubicBezTo>
                  <a:pt x="9633" y="10262"/>
                  <a:pt x="9862" y="10291"/>
                  <a:pt x="10096" y="10294"/>
                </a:cubicBezTo>
                <a:cubicBezTo>
                  <a:pt x="10375" y="10298"/>
                  <a:pt x="10638" y="10278"/>
                  <a:pt x="10914" y="10244"/>
                </a:cubicBezTo>
                <a:cubicBezTo>
                  <a:pt x="11195" y="10209"/>
                  <a:pt x="11475" y="10151"/>
                  <a:pt x="11757" y="10145"/>
                </a:cubicBezTo>
                <a:cubicBezTo>
                  <a:pt x="11895" y="10142"/>
                  <a:pt x="12021" y="10156"/>
                  <a:pt x="12154" y="10170"/>
                </a:cubicBezTo>
                <a:cubicBezTo>
                  <a:pt x="12162" y="10171"/>
                  <a:pt x="12308" y="10175"/>
                  <a:pt x="12229" y="10195"/>
                </a:cubicBezTo>
                <a:cubicBezTo>
                  <a:pt x="12206" y="10201"/>
                  <a:pt x="12178" y="10192"/>
                  <a:pt x="12154" y="10195"/>
                </a:cubicBezTo>
              </a:path>
              <a:path w="18704" h="3597">
                <a:moveTo>
                  <a:pt x="9178" y="10716"/>
                </a:moveTo>
                <a:cubicBezTo>
                  <a:pt x="9217" y="10703"/>
                  <a:pt x="9241" y="10704"/>
                  <a:pt x="9302" y="10691"/>
                </a:cubicBezTo>
                <a:cubicBezTo>
                  <a:pt x="9422" y="10665"/>
                  <a:pt x="9551" y="10646"/>
                  <a:pt x="9674" y="10641"/>
                </a:cubicBezTo>
                <a:cubicBezTo>
                  <a:pt x="9756" y="10638"/>
                  <a:pt x="9804" y="10600"/>
                  <a:pt x="9872" y="10641"/>
                </a:cubicBezTo>
                <a:cubicBezTo>
                  <a:pt x="9857" y="10718"/>
                  <a:pt x="9808" y="10793"/>
                  <a:pt x="9773" y="10864"/>
                </a:cubicBezTo>
                <a:cubicBezTo>
                  <a:pt x="9704" y="11001"/>
                  <a:pt x="9610" y="11118"/>
                  <a:pt x="9550" y="11261"/>
                </a:cubicBezTo>
                <a:cubicBezTo>
                  <a:pt x="9518" y="11338"/>
                  <a:pt x="9481" y="11428"/>
                  <a:pt x="9475" y="11509"/>
                </a:cubicBezTo>
                <a:cubicBezTo>
                  <a:pt x="9475" y="11534"/>
                  <a:pt x="9475" y="11542"/>
                  <a:pt x="9475" y="11559"/>
                </a:cubicBezTo>
              </a:path>
              <a:path w="18704" h="3597">
                <a:moveTo>
                  <a:pt x="10492" y="10790"/>
                </a:moveTo>
                <a:cubicBezTo>
                  <a:pt x="10533" y="10770"/>
                  <a:pt x="10549" y="10772"/>
                  <a:pt x="10542" y="10740"/>
                </a:cubicBezTo>
                <a:cubicBezTo>
                  <a:pt x="10494" y="10740"/>
                  <a:pt x="10428" y="10753"/>
                  <a:pt x="10393" y="10790"/>
                </a:cubicBezTo>
                <a:cubicBezTo>
                  <a:pt x="10309" y="10878"/>
                  <a:pt x="10203" y="11004"/>
                  <a:pt x="10145" y="11112"/>
                </a:cubicBezTo>
                <a:cubicBezTo>
                  <a:pt x="10101" y="11194"/>
                  <a:pt x="10100" y="11288"/>
                  <a:pt x="10170" y="11336"/>
                </a:cubicBezTo>
                <a:cubicBezTo>
                  <a:pt x="10268" y="11403"/>
                  <a:pt x="10362" y="11387"/>
                  <a:pt x="10468" y="11361"/>
                </a:cubicBezTo>
                <a:cubicBezTo>
                  <a:pt x="10534" y="11345"/>
                  <a:pt x="10675" y="11308"/>
                  <a:pt x="10691" y="11237"/>
                </a:cubicBezTo>
                <a:cubicBezTo>
                  <a:pt x="10691" y="11229"/>
                  <a:pt x="10691" y="11220"/>
                  <a:pt x="10691" y="11212"/>
                </a:cubicBezTo>
                <a:cubicBezTo>
                  <a:pt x="10603" y="11212"/>
                  <a:pt x="10527" y="11207"/>
                  <a:pt x="10443" y="11237"/>
                </a:cubicBezTo>
                <a:cubicBezTo>
                  <a:pt x="10386" y="11257"/>
                  <a:pt x="10333" y="11279"/>
                  <a:pt x="10319" y="11336"/>
                </a:cubicBezTo>
              </a:path>
              <a:path w="18704" h="3597">
                <a:moveTo>
                  <a:pt x="11237" y="10815"/>
                </a:moveTo>
                <a:cubicBezTo>
                  <a:pt x="11226" y="10782"/>
                  <a:pt x="11223" y="10792"/>
                  <a:pt x="11187" y="10765"/>
                </a:cubicBezTo>
                <a:cubicBezTo>
                  <a:pt x="11157" y="10806"/>
                  <a:pt x="11100" y="10835"/>
                  <a:pt x="11088" y="10889"/>
                </a:cubicBezTo>
                <a:cubicBezTo>
                  <a:pt x="11074" y="10952"/>
                  <a:pt x="11076" y="11084"/>
                  <a:pt x="11112" y="11137"/>
                </a:cubicBezTo>
                <a:cubicBezTo>
                  <a:pt x="11174" y="11227"/>
                  <a:pt x="11313" y="11226"/>
                  <a:pt x="11410" y="11212"/>
                </a:cubicBezTo>
                <a:cubicBezTo>
                  <a:pt x="11531" y="11195"/>
                  <a:pt x="11657" y="11107"/>
                  <a:pt x="11733" y="11013"/>
                </a:cubicBezTo>
                <a:cubicBezTo>
                  <a:pt x="11785" y="10949"/>
                  <a:pt x="11764" y="10863"/>
                  <a:pt x="11708" y="10815"/>
                </a:cubicBezTo>
                <a:cubicBezTo>
                  <a:pt x="11602" y="10724"/>
                  <a:pt x="11491" y="10740"/>
                  <a:pt x="11361" y="10740"/>
                </a:cubicBezTo>
                <a:cubicBezTo>
                  <a:pt x="11336" y="10740"/>
                  <a:pt x="11311" y="10740"/>
                  <a:pt x="11286" y="10740"/>
                </a:cubicBezTo>
              </a:path>
              <a:path w="18704" h="3597">
                <a:moveTo>
                  <a:pt x="12502" y="9103"/>
                </a:moveTo>
                <a:cubicBezTo>
                  <a:pt x="12543" y="9168"/>
                  <a:pt x="12581" y="9239"/>
                  <a:pt x="12626" y="9302"/>
                </a:cubicBezTo>
                <a:cubicBezTo>
                  <a:pt x="12723" y="9438"/>
                  <a:pt x="12806" y="9609"/>
                  <a:pt x="12849" y="9773"/>
                </a:cubicBezTo>
                <a:cubicBezTo>
                  <a:pt x="12896" y="9953"/>
                  <a:pt x="12916" y="10159"/>
                  <a:pt x="12898" y="10344"/>
                </a:cubicBezTo>
                <a:cubicBezTo>
                  <a:pt x="12877" y="10554"/>
                  <a:pt x="12805" y="10709"/>
                  <a:pt x="12700" y="10889"/>
                </a:cubicBezTo>
                <a:cubicBezTo>
                  <a:pt x="12619" y="11027"/>
                  <a:pt x="12524" y="11186"/>
                  <a:pt x="12427" y="11311"/>
                </a:cubicBezTo>
                <a:cubicBezTo>
                  <a:pt x="12367" y="11389"/>
                  <a:pt x="12309" y="11423"/>
                  <a:pt x="12229" y="11460"/>
                </a:cubicBezTo>
              </a:path>
              <a:path w="18704" h="3597">
                <a:moveTo>
                  <a:pt x="13419" y="10021"/>
                </a:moveTo>
                <a:cubicBezTo>
                  <a:pt x="13474" y="10021"/>
                  <a:pt x="13513" y="9999"/>
                  <a:pt x="13568" y="9996"/>
                </a:cubicBezTo>
                <a:cubicBezTo>
                  <a:pt x="13645" y="9992"/>
                  <a:pt x="13712" y="9971"/>
                  <a:pt x="13791" y="9971"/>
                </a:cubicBezTo>
                <a:cubicBezTo>
                  <a:pt x="13824" y="9971"/>
                  <a:pt x="13858" y="9971"/>
                  <a:pt x="13891" y="9971"/>
                </a:cubicBezTo>
              </a:path>
              <a:path w="18704" h="3597">
                <a:moveTo>
                  <a:pt x="13221" y="10443"/>
                </a:moveTo>
                <a:cubicBezTo>
                  <a:pt x="13189" y="10491"/>
                  <a:pt x="13260" y="10489"/>
                  <a:pt x="13320" y="10492"/>
                </a:cubicBezTo>
                <a:cubicBezTo>
                  <a:pt x="13418" y="10496"/>
                  <a:pt x="13524" y="10489"/>
                  <a:pt x="13618" y="10468"/>
                </a:cubicBezTo>
                <a:cubicBezTo>
                  <a:pt x="13690" y="10452"/>
                  <a:pt x="13741" y="10443"/>
                  <a:pt x="13816" y="10443"/>
                </a:cubicBezTo>
              </a:path>
              <a:path w="18704" h="3597">
                <a:moveTo>
                  <a:pt x="14585" y="9351"/>
                </a:moveTo>
                <a:cubicBezTo>
                  <a:pt x="14635" y="9417"/>
                  <a:pt x="14602" y="9409"/>
                  <a:pt x="14560" y="9475"/>
                </a:cubicBezTo>
                <a:cubicBezTo>
                  <a:pt x="14513" y="9549"/>
                  <a:pt x="14463" y="9604"/>
                  <a:pt x="14412" y="9674"/>
                </a:cubicBezTo>
                <a:cubicBezTo>
                  <a:pt x="14378" y="9721"/>
                  <a:pt x="14325" y="9771"/>
                  <a:pt x="14312" y="9823"/>
                </a:cubicBezTo>
                <a:cubicBezTo>
                  <a:pt x="14278" y="9823"/>
                  <a:pt x="14352" y="9783"/>
                  <a:pt x="14387" y="9748"/>
                </a:cubicBezTo>
                <a:cubicBezTo>
                  <a:pt x="14472" y="9663"/>
                  <a:pt x="14492" y="9583"/>
                  <a:pt x="14536" y="9475"/>
                </a:cubicBezTo>
                <a:cubicBezTo>
                  <a:pt x="14554" y="9431"/>
                  <a:pt x="14576" y="9397"/>
                  <a:pt x="14585" y="9351"/>
                </a:cubicBezTo>
                <a:cubicBezTo>
                  <a:pt x="14618" y="9359"/>
                  <a:pt x="14707" y="9407"/>
                  <a:pt x="14734" y="9426"/>
                </a:cubicBezTo>
                <a:cubicBezTo>
                  <a:pt x="14826" y="9490"/>
                  <a:pt x="14909" y="9566"/>
                  <a:pt x="15007" y="9624"/>
                </a:cubicBezTo>
                <a:cubicBezTo>
                  <a:pt x="15062" y="9657"/>
                  <a:pt x="15116" y="9687"/>
                  <a:pt x="15131" y="9748"/>
                </a:cubicBezTo>
                <a:cubicBezTo>
                  <a:pt x="15050" y="9812"/>
                  <a:pt x="14987" y="9820"/>
                  <a:pt x="14883" y="9823"/>
                </a:cubicBezTo>
                <a:cubicBezTo>
                  <a:pt x="14817" y="9825"/>
                  <a:pt x="14555" y="9856"/>
                  <a:pt x="14536" y="9798"/>
                </a:cubicBezTo>
              </a:path>
              <a:path w="18704" h="3597">
                <a:moveTo>
                  <a:pt x="15677" y="8558"/>
                </a:moveTo>
                <a:cubicBezTo>
                  <a:pt x="15638" y="8622"/>
                  <a:pt x="15620" y="8726"/>
                  <a:pt x="15602" y="8806"/>
                </a:cubicBezTo>
                <a:cubicBezTo>
                  <a:pt x="15563" y="8978"/>
                  <a:pt x="15545" y="9175"/>
                  <a:pt x="15528" y="9351"/>
                </a:cubicBezTo>
                <a:cubicBezTo>
                  <a:pt x="15518" y="9452"/>
                  <a:pt x="15514" y="9554"/>
                  <a:pt x="15478" y="9649"/>
                </a:cubicBezTo>
                <a:cubicBezTo>
                  <a:pt x="15470" y="9666"/>
                  <a:pt x="15461" y="9682"/>
                  <a:pt x="15453" y="9699"/>
                </a:cubicBezTo>
              </a:path>
              <a:path w="18704" h="3597">
                <a:moveTo>
                  <a:pt x="15180" y="9252"/>
                </a:moveTo>
                <a:cubicBezTo>
                  <a:pt x="15233" y="9284"/>
                  <a:pt x="15336" y="9318"/>
                  <a:pt x="15404" y="9327"/>
                </a:cubicBezTo>
                <a:cubicBezTo>
                  <a:pt x="15591" y="9351"/>
                  <a:pt x="15792" y="9322"/>
                  <a:pt x="15974" y="9302"/>
                </a:cubicBezTo>
                <a:cubicBezTo>
                  <a:pt x="15999" y="9302"/>
                  <a:pt x="16024" y="9302"/>
                  <a:pt x="16049" y="9302"/>
                </a:cubicBezTo>
              </a:path>
              <a:path w="18704" h="3597">
                <a:moveTo>
                  <a:pt x="16197" y="8806"/>
                </a:moveTo>
                <a:cubicBezTo>
                  <a:pt x="16137" y="8821"/>
                  <a:pt x="16140" y="8866"/>
                  <a:pt x="16123" y="8930"/>
                </a:cubicBezTo>
                <a:cubicBezTo>
                  <a:pt x="16082" y="9083"/>
                  <a:pt x="16076" y="9253"/>
                  <a:pt x="16024" y="9401"/>
                </a:cubicBezTo>
                <a:cubicBezTo>
                  <a:pt x="15985" y="9513"/>
                  <a:pt x="15946" y="9628"/>
                  <a:pt x="15925" y="9748"/>
                </a:cubicBezTo>
                <a:cubicBezTo>
                  <a:pt x="15925" y="9765"/>
                  <a:pt x="15925" y="9781"/>
                  <a:pt x="15925" y="9798"/>
                </a:cubicBezTo>
              </a:path>
              <a:path w="18704" h="3597">
                <a:moveTo>
                  <a:pt x="14188" y="10170"/>
                </a:moveTo>
                <a:cubicBezTo>
                  <a:pt x="14119" y="10163"/>
                  <a:pt x="14142" y="10165"/>
                  <a:pt x="14089" y="10145"/>
                </a:cubicBezTo>
                <a:cubicBezTo>
                  <a:pt x="14130" y="10145"/>
                  <a:pt x="14122" y="10145"/>
                  <a:pt x="14163" y="10145"/>
                </a:cubicBezTo>
                <a:cubicBezTo>
                  <a:pt x="15022" y="10145"/>
                  <a:pt x="16109" y="9960"/>
                  <a:pt x="16942" y="10170"/>
                </a:cubicBezTo>
                <a:cubicBezTo>
                  <a:pt x="17047" y="10196"/>
                  <a:pt x="17137" y="10210"/>
                  <a:pt x="17239" y="10244"/>
                </a:cubicBezTo>
                <a:cubicBezTo>
                  <a:pt x="17325" y="10273"/>
                  <a:pt x="17373" y="10289"/>
                  <a:pt x="17462" y="10294"/>
                </a:cubicBezTo>
                <a:cubicBezTo>
                  <a:pt x="17552" y="10299"/>
                  <a:pt x="17644" y="10294"/>
                  <a:pt x="17735" y="10294"/>
                </a:cubicBezTo>
              </a:path>
              <a:path w="18704" h="3597">
                <a:moveTo>
                  <a:pt x="14982" y="10691"/>
                </a:moveTo>
                <a:cubicBezTo>
                  <a:pt x="15023" y="10681"/>
                  <a:pt x="15022" y="10682"/>
                  <a:pt x="15032" y="10641"/>
                </a:cubicBezTo>
                <a:cubicBezTo>
                  <a:pt x="14979" y="10628"/>
                  <a:pt x="14946" y="10616"/>
                  <a:pt x="14883" y="10616"/>
                </a:cubicBezTo>
                <a:cubicBezTo>
                  <a:pt x="14780" y="10616"/>
                  <a:pt x="14657" y="10630"/>
                  <a:pt x="14560" y="10666"/>
                </a:cubicBezTo>
                <a:cubicBezTo>
                  <a:pt x="14518" y="10682"/>
                  <a:pt x="14467" y="10712"/>
                  <a:pt x="14486" y="10765"/>
                </a:cubicBezTo>
                <a:cubicBezTo>
                  <a:pt x="14521" y="10862"/>
                  <a:pt x="14629" y="10911"/>
                  <a:pt x="14709" y="10964"/>
                </a:cubicBezTo>
                <a:cubicBezTo>
                  <a:pt x="14786" y="11015"/>
                  <a:pt x="14900" y="11062"/>
                  <a:pt x="14957" y="11137"/>
                </a:cubicBezTo>
                <a:cubicBezTo>
                  <a:pt x="14988" y="11178"/>
                  <a:pt x="14995" y="11263"/>
                  <a:pt x="14932" y="11286"/>
                </a:cubicBezTo>
                <a:cubicBezTo>
                  <a:pt x="14880" y="11305"/>
                  <a:pt x="14791" y="11286"/>
                  <a:pt x="14734" y="11286"/>
                </a:cubicBezTo>
                <a:cubicBezTo>
                  <a:pt x="14750" y="11207"/>
                  <a:pt x="14802" y="11168"/>
                  <a:pt x="14858" y="11112"/>
                </a:cubicBezTo>
                <a:cubicBezTo>
                  <a:pt x="14945" y="11025"/>
                  <a:pt x="15054" y="10955"/>
                  <a:pt x="15131" y="10864"/>
                </a:cubicBezTo>
                <a:cubicBezTo>
                  <a:pt x="15172" y="10815"/>
                  <a:pt x="15207" y="10762"/>
                  <a:pt x="15255" y="10716"/>
                </a:cubicBezTo>
              </a:path>
              <a:path w="18704" h="3597">
                <a:moveTo>
                  <a:pt x="15280" y="11435"/>
                </a:moveTo>
                <a:cubicBezTo>
                  <a:pt x="15338" y="11480"/>
                  <a:pt x="15324" y="11447"/>
                  <a:pt x="15379" y="11435"/>
                </a:cubicBezTo>
                <a:cubicBezTo>
                  <a:pt x="15406" y="11429"/>
                  <a:pt x="15449" y="11435"/>
                  <a:pt x="15478" y="11435"/>
                </a:cubicBezTo>
              </a:path>
              <a:path w="18704" h="3597">
                <a:moveTo>
                  <a:pt x="15850" y="10840"/>
                </a:moveTo>
                <a:cubicBezTo>
                  <a:pt x="15927" y="10796"/>
                  <a:pt x="15955" y="10770"/>
                  <a:pt x="16049" y="10765"/>
                </a:cubicBezTo>
                <a:cubicBezTo>
                  <a:pt x="16141" y="10761"/>
                  <a:pt x="16192" y="10774"/>
                  <a:pt x="16272" y="10815"/>
                </a:cubicBezTo>
                <a:cubicBezTo>
                  <a:pt x="16349" y="10854"/>
                  <a:pt x="16376" y="10905"/>
                  <a:pt x="16297" y="10964"/>
                </a:cubicBezTo>
                <a:cubicBezTo>
                  <a:pt x="16224" y="11018"/>
                  <a:pt x="16167" y="11058"/>
                  <a:pt x="16073" y="11063"/>
                </a:cubicBezTo>
                <a:cubicBezTo>
                  <a:pt x="16024" y="11063"/>
                  <a:pt x="16007" y="11063"/>
                  <a:pt x="15974" y="11063"/>
                </a:cubicBezTo>
                <a:cubicBezTo>
                  <a:pt x="15923" y="11063"/>
                  <a:pt x="16023" y="11080"/>
                  <a:pt x="16073" y="11088"/>
                </a:cubicBezTo>
                <a:cubicBezTo>
                  <a:pt x="16149" y="11099"/>
                  <a:pt x="16233" y="11111"/>
                  <a:pt x="16297" y="11162"/>
                </a:cubicBezTo>
                <a:cubicBezTo>
                  <a:pt x="16323" y="11182"/>
                  <a:pt x="16412" y="11262"/>
                  <a:pt x="16371" y="11311"/>
                </a:cubicBezTo>
                <a:cubicBezTo>
                  <a:pt x="16331" y="11359"/>
                  <a:pt x="16227" y="11367"/>
                  <a:pt x="16173" y="11385"/>
                </a:cubicBezTo>
                <a:cubicBezTo>
                  <a:pt x="16108" y="11408"/>
                  <a:pt x="16039" y="11422"/>
                  <a:pt x="15974" y="11435"/>
                </a:cubicBezTo>
              </a:path>
              <a:path w="18704" h="3597">
                <a:moveTo>
                  <a:pt x="16917" y="10889"/>
                </a:moveTo>
                <a:cubicBezTo>
                  <a:pt x="16945" y="10852"/>
                  <a:pt x="16971" y="10836"/>
                  <a:pt x="16942" y="10889"/>
                </a:cubicBezTo>
                <a:cubicBezTo>
                  <a:pt x="16897" y="10969"/>
                  <a:pt x="16891" y="11025"/>
                  <a:pt x="16867" y="11112"/>
                </a:cubicBezTo>
                <a:cubicBezTo>
                  <a:pt x="16847" y="11184"/>
                  <a:pt x="16818" y="11233"/>
                  <a:pt x="16818" y="11311"/>
                </a:cubicBezTo>
                <a:cubicBezTo>
                  <a:pt x="16818" y="11336"/>
                  <a:pt x="16818" y="11344"/>
                  <a:pt x="16818" y="11361"/>
                </a:cubicBezTo>
              </a:path>
              <a:path w="18704" h="3597">
                <a:moveTo>
                  <a:pt x="17512" y="10716"/>
                </a:moveTo>
                <a:cubicBezTo>
                  <a:pt x="17502" y="10744"/>
                  <a:pt x="17469" y="10758"/>
                  <a:pt x="17438" y="10790"/>
                </a:cubicBezTo>
                <a:cubicBezTo>
                  <a:pt x="17385" y="10844"/>
                  <a:pt x="17339" y="10857"/>
                  <a:pt x="17314" y="10939"/>
                </a:cubicBezTo>
                <a:cubicBezTo>
                  <a:pt x="17307" y="10964"/>
                  <a:pt x="17272" y="11007"/>
                  <a:pt x="17289" y="11038"/>
                </a:cubicBezTo>
                <a:cubicBezTo>
                  <a:pt x="17326" y="11104"/>
                  <a:pt x="17385" y="11073"/>
                  <a:pt x="17438" y="11088"/>
                </a:cubicBezTo>
                <a:cubicBezTo>
                  <a:pt x="17502" y="11106"/>
                  <a:pt x="17543" y="11112"/>
                  <a:pt x="17611" y="11112"/>
                </a:cubicBezTo>
                <a:cubicBezTo>
                  <a:pt x="17636" y="11112"/>
                  <a:pt x="17644" y="11112"/>
                  <a:pt x="17661" y="11112"/>
                </a:cubicBezTo>
              </a:path>
              <a:path w="18704" h="3597">
                <a:moveTo>
                  <a:pt x="17711" y="10815"/>
                </a:moveTo>
                <a:cubicBezTo>
                  <a:pt x="17660" y="10828"/>
                  <a:pt x="17618" y="10893"/>
                  <a:pt x="17587" y="10939"/>
                </a:cubicBezTo>
                <a:cubicBezTo>
                  <a:pt x="17542" y="11007"/>
                  <a:pt x="17502" y="11091"/>
                  <a:pt x="17462" y="11162"/>
                </a:cubicBezTo>
                <a:cubicBezTo>
                  <a:pt x="17428" y="11222"/>
                  <a:pt x="17417" y="11283"/>
                  <a:pt x="17388" y="11336"/>
                </a:cubicBezTo>
                <a:cubicBezTo>
                  <a:pt x="17368" y="11376"/>
                  <a:pt x="17359" y="11382"/>
                  <a:pt x="17363" y="11410"/>
                </a:cubicBezTo>
              </a:path>
              <a:path w="18704" h="3597">
                <a:moveTo>
                  <a:pt x="18852" y="9153"/>
                </a:moveTo>
                <a:cubicBezTo>
                  <a:pt x="18816" y="9171"/>
                  <a:pt x="18822" y="9168"/>
                  <a:pt x="18802" y="9203"/>
                </a:cubicBezTo>
                <a:cubicBezTo>
                  <a:pt x="18752" y="9291"/>
                  <a:pt x="18672" y="9362"/>
                  <a:pt x="18628" y="9451"/>
                </a:cubicBezTo>
                <a:cubicBezTo>
                  <a:pt x="18583" y="9541"/>
                  <a:pt x="18551" y="9632"/>
                  <a:pt x="18504" y="9723"/>
                </a:cubicBezTo>
                <a:cubicBezTo>
                  <a:pt x="18449" y="9830"/>
                  <a:pt x="18440" y="9911"/>
                  <a:pt x="18405" y="10021"/>
                </a:cubicBezTo>
                <a:cubicBezTo>
                  <a:pt x="18371" y="10129"/>
                  <a:pt x="18341" y="10237"/>
                  <a:pt x="18306" y="10344"/>
                </a:cubicBezTo>
                <a:cubicBezTo>
                  <a:pt x="18273" y="10445"/>
                  <a:pt x="18260" y="10541"/>
                  <a:pt x="18231" y="10641"/>
                </a:cubicBezTo>
                <a:cubicBezTo>
                  <a:pt x="18203" y="10738"/>
                  <a:pt x="18187" y="10839"/>
                  <a:pt x="18182" y="10939"/>
                </a:cubicBezTo>
                <a:cubicBezTo>
                  <a:pt x="18174" y="11123"/>
                  <a:pt x="18181" y="11306"/>
                  <a:pt x="18207" y="11485"/>
                </a:cubicBezTo>
                <a:cubicBezTo>
                  <a:pt x="18213" y="11528"/>
                  <a:pt x="18214" y="11618"/>
                  <a:pt x="18231" y="11658"/>
                </a:cubicBezTo>
                <a:cubicBezTo>
                  <a:pt x="18231" y="11683"/>
                  <a:pt x="18231" y="11691"/>
                  <a:pt x="18256" y="11683"/>
                </a:cubicBezTo>
              </a:path>
              <a:path w="18704" h="3597">
                <a:moveTo>
                  <a:pt x="19248" y="9525"/>
                </a:moveTo>
                <a:cubicBezTo>
                  <a:pt x="19281" y="9501"/>
                  <a:pt x="19291" y="9467"/>
                  <a:pt x="19323" y="9451"/>
                </a:cubicBezTo>
                <a:cubicBezTo>
                  <a:pt x="19350" y="9438"/>
                  <a:pt x="19368" y="9421"/>
                  <a:pt x="19348" y="9475"/>
                </a:cubicBezTo>
                <a:cubicBezTo>
                  <a:pt x="19316" y="9565"/>
                  <a:pt x="19323" y="9651"/>
                  <a:pt x="19323" y="9748"/>
                </a:cubicBezTo>
                <a:cubicBezTo>
                  <a:pt x="19323" y="9844"/>
                  <a:pt x="19355" y="9995"/>
                  <a:pt x="19298" y="10071"/>
                </a:cubicBezTo>
              </a:path>
              <a:path w="18704" h="3597">
                <a:moveTo>
                  <a:pt x="18554" y="10418"/>
                </a:moveTo>
                <a:cubicBezTo>
                  <a:pt x="18571" y="10447"/>
                  <a:pt x="18561" y="10456"/>
                  <a:pt x="18579" y="10492"/>
                </a:cubicBezTo>
                <a:cubicBezTo>
                  <a:pt x="18596" y="10525"/>
                  <a:pt x="18765" y="10563"/>
                  <a:pt x="18802" y="10567"/>
                </a:cubicBezTo>
                <a:cubicBezTo>
                  <a:pt x="18971" y="10585"/>
                  <a:pt x="19154" y="10581"/>
                  <a:pt x="19323" y="10592"/>
                </a:cubicBezTo>
                <a:cubicBezTo>
                  <a:pt x="19463" y="10601"/>
                  <a:pt x="19607" y="10589"/>
                  <a:pt x="19745" y="10616"/>
                </a:cubicBezTo>
                <a:cubicBezTo>
                  <a:pt x="19814" y="10629"/>
                  <a:pt x="19906" y="10637"/>
                  <a:pt x="19968" y="10666"/>
                </a:cubicBezTo>
                <a:cubicBezTo>
                  <a:pt x="19993" y="10666"/>
                  <a:pt x="20001" y="10666"/>
                  <a:pt x="19993" y="10691"/>
                </a:cubicBezTo>
              </a:path>
              <a:path w="18704" h="3597">
                <a:moveTo>
                  <a:pt x="18604" y="10939"/>
                </a:moveTo>
                <a:cubicBezTo>
                  <a:pt x="18650" y="10927"/>
                  <a:pt x="18700" y="10896"/>
                  <a:pt x="18752" y="10889"/>
                </a:cubicBezTo>
                <a:cubicBezTo>
                  <a:pt x="18811" y="10881"/>
                  <a:pt x="18980" y="10861"/>
                  <a:pt x="19025" y="10914"/>
                </a:cubicBezTo>
                <a:cubicBezTo>
                  <a:pt x="19065" y="10961"/>
                  <a:pt x="18977" y="11023"/>
                  <a:pt x="18951" y="11038"/>
                </a:cubicBezTo>
                <a:cubicBezTo>
                  <a:pt x="18897" y="11070"/>
                  <a:pt x="18814" y="11123"/>
                  <a:pt x="18752" y="11137"/>
                </a:cubicBezTo>
                <a:cubicBezTo>
                  <a:pt x="18711" y="11137"/>
                  <a:pt x="18703" y="11137"/>
                  <a:pt x="18678" y="11137"/>
                </a:cubicBezTo>
                <a:cubicBezTo>
                  <a:pt x="18694" y="11185"/>
                  <a:pt x="18727" y="11169"/>
                  <a:pt x="18777" y="11187"/>
                </a:cubicBezTo>
                <a:cubicBezTo>
                  <a:pt x="18822" y="11203"/>
                  <a:pt x="18927" y="11243"/>
                  <a:pt x="18951" y="11286"/>
                </a:cubicBezTo>
                <a:cubicBezTo>
                  <a:pt x="18978" y="11335"/>
                  <a:pt x="18926" y="11383"/>
                  <a:pt x="18901" y="11410"/>
                </a:cubicBezTo>
                <a:cubicBezTo>
                  <a:pt x="18859" y="11455"/>
                  <a:pt x="18768" y="11523"/>
                  <a:pt x="18703" y="11534"/>
                </a:cubicBezTo>
                <a:cubicBezTo>
                  <a:pt x="18645" y="11544"/>
                  <a:pt x="18587" y="11559"/>
                  <a:pt x="18529" y="11559"/>
                </a:cubicBezTo>
                <a:cubicBezTo>
                  <a:pt x="18521" y="11559"/>
                  <a:pt x="18512" y="11559"/>
                  <a:pt x="18504" y="11559"/>
                </a:cubicBezTo>
              </a:path>
              <a:path w="18704" h="3597">
                <a:moveTo>
                  <a:pt x="19372" y="11038"/>
                </a:moveTo>
                <a:cubicBezTo>
                  <a:pt x="19501" y="11038"/>
                  <a:pt x="19620" y="11030"/>
                  <a:pt x="19745" y="11013"/>
                </a:cubicBezTo>
                <a:cubicBezTo>
                  <a:pt x="19785" y="11008"/>
                  <a:pt x="19829" y="11013"/>
                  <a:pt x="19869" y="11013"/>
                </a:cubicBezTo>
                <a:cubicBezTo>
                  <a:pt x="19827" y="11086"/>
                  <a:pt x="19771" y="11145"/>
                  <a:pt x="19720" y="11212"/>
                </a:cubicBezTo>
                <a:cubicBezTo>
                  <a:pt x="19661" y="11291"/>
                  <a:pt x="19638" y="11373"/>
                  <a:pt x="19596" y="11460"/>
                </a:cubicBezTo>
                <a:cubicBezTo>
                  <a:pt x="19570" y="11514"/>
                  <a:pt x="19546" y="11549"/>
                  <a:pt x="19546" y="11609"/>
                </a:cubicBezTo>
              </a:path>
              <a:path w="18704" h="3597">
                <a:moveTo>
                  <a:pt x="20092" y="11137"/>
                </a:moveTo>
                <a:cubicBezTo>
                  <a:pt x="20155" y="11113"/>
                  <a:pt x="20197" y="11112"/>
                  <a:pt x="20265" y="11112"/>
                </a:cubicBezTo>
                <a:cubicBezTo>
                  <a:pt x="20330" y="11112"/>
                  <a:pt x="20329" y="11111"/>
                  <a:pt x="20389" y="11137"/>
                </a:cubicBezTo>
                <a:cubicBezTo>
                  <a:pt x="20389" y="11196"/>
                  <a:pt x="20369" y="11223"/>
                  <a:pt x="20315" y="11261"/>
                </a:cubicBezTo>
                <a:cubicBezTo>
                  <a:pt x="20257" y="11302"/>
                  <a:pt x="20185" y="11331"/>
                  <a:pt x="20117" y="11336"/>
                </a:cubicBezTo>
                <a:cubicBezTo>
                  <a:pt x="20109" y="11336"/>
                  <a:pt x="20100" y="11336"/>
                  <a:pt x="20092" y="11336"/>
                </a:cubicBezTo>
                <a:cubicBezTo>
                  <a:pt x="20102" y="11366"/>
                  <a:pt x="20173" y="11380"/>
                  <a:pt x="20216" y="11385"/>
                </a:cubicBezTo>
                <a:cubicBezTo>
                  <a:pt x="20254" y="11390"/>
                  <a:pt x="20396" y="11388"/>
                  <a:pt x="20414" y="11435"/>
                </a:cubicBezTo>
                <a:cubicBezTo>
                  <a:pt x="20438" y="11497"/>
                  <a:pt x="20385" y="11552"/>
                  <a:pt x="20340" y="11584"/>
                </a:cubicBezTo>
                <a:cubicBezTo>
                  <a:pt x="20273" y="11632"/>
                  <a:pt x="20188" y="11634"/>
                  <a:pt x="20117" y="11658"/>
                </a:cubicBezTo>
                <a:cubicBezTo>
                  <a:pt x="20061" y="11677"/>
                  <a:pt x="20027" y="11683"/>
                  <a:pt x="19968" y="11683"/>
                </a:cubicBezTo>
                <a:cubicBezTo>
                  <a:pt x="19926" y="11683"/>
                  <a:pt x="19918" y="11683"/>
                  <a:pt x="19893" y="11683"/>
                </a:cubicBezTo>
              </a:path>
              <a:path w="18704" h="3597">
                <a:moveTo>
                  <a:pt x="20786" y="10815"/>
                </a:moveTo>
                <a:cubicBezTo>
                  <a:pt x="20842" y="10815"/>
                  <a:pt x="20884" y="10797"/>
                  <a:pt x="20935" y="10790"/>
                </a:cubicBezTo>
                <a:cubicBezTo>
                  <a:pt x="21045" y="10776"/>
                  <a:pt x="21145" y="10765"/>
                  <a:pt x="21258" y="10765"/>
                </a:cubicBezTo>
                <a:cubicBezTo>
                  <a:pt x="21281" y="10765"/>
                  <a:pt x="21419" y="10740"/>
                  <a:pt x="21357" y="10740"/>
                </a:cubicBezTo>
                <a:cubicBezTo>
                  <a:pt x="21349" y="10740"/>
                  <a:pt x="21340" y="10740"/>
                  <a:pt x="21332" y="10740"/>
                </a:cubicBezTo>
              </a:path>
              <a:path w="18704" h="3597">
                <a:moveTo>
                  <a:pt x="22250" y="9649"/>
                </a:moveTo>
                <a:cubicBezTo>
                  <a:pt x="22262" y="9614"/>
                  <a:pt x="22257" y="9624"/>
                  <a:pt x="22299" y="9624"/>
                </a:cubicBezTo>
                <a:cubicBezTo>
                  <a:pt x="22286" y="9690"/>
                  <a:pt x="22271" y="9756"/>
                  <a:pt x="22250" y="9823"/>
                </a:cubicBezTo>
                <a:cubicBezTo>
                  <a:pt x="22222" y="9913"/>
                  <a:pt x="22223" y="10006"/>
                  <a:pt x="22200" y="10096"/>
                </a:cubicBezTo>
                <a:cubicBezTo>
                  <a:pt x="22181" y="10170"/>
                  <a:pt x="22175" y="10219"/>
                  <a:pt x="22175" y="10294"/>
                </a:cubicBezTo>
                <a:cubicBezTo>
                  <a:pt x="22175" y="10302"/>
                  <a:pt x="22175" y="10311"/>
                  <a:pt x="22175" y="10319"/>
                </a:cubicBezTo>
              </a:path>
              <a:path w="18704" h="3597">
                <a:moveTo>
                  <a:pt x="21754" y="10691"/>
                </a:moveTo>
                <a:cubicBezTo>
                  <a:pt x="21754" y="10666"/>
                  <a:pt x="21754" y="10658"/>
                  <a:pt x="21729" y="10666"/>
                </a:cubicBezTo>
                <a:cubicBezTo>
                  <a:pt x="21848" y="10666"/>
                  <a:pt x="21960" y="10682"/>
                  <a:pt x="22076" y="10691"/>
                </a:cubicBezTo>
                <a:cubicBezTo>
                  <a:pt x="22230" y="10703"/>
                  <a:pt x="22371" y="10730"/>
                  <a:pt x="22523" y="10765"/>
                </a:cubicBezTo>
                <a:cubicBezTo>
                  <a:pt x="22632" y="10790"/>
                  <a:pt x="22736" y="10825"/>
                  <a:pt x="22845" y="10840"/>
                </a:cubicBezTo>
                <a:cubicBezTo>
                  <a:pt x="22864" y="10843"/>
                  <a:pt x="22983" y="10850"/>
                  <a:pt x="22994" y="10864"/>
                </a:cubicBezTo>
                <a:cubicBezTo>
                  <a:pt x="22994" y="10889"/>
                  <a:pt x="22994" y="10897"/>
                  <a:pt x="22969" y="10889"/>
                </a:cubicBezTo>
              </a:path>
              <a:path w="18704" h="3597">
                <a:moveTo>
                  <a:pt x="21878" y="11187"/>
                </a:moveTo>
                <a:cubicBezTo>
                  <a:pt x="21822" y="11187"/>
                  <a:pt x="21908" y="11163"/>
                  <a:pt x="21927" y="11162"/>
                </a:cubicBezTo>
                <a:cubicBezTo>
                  <a:pt x="21986" y="11158"/>
                  <a:pt x="22214" y="11128"/>
                  <a:pt x="22250" y="11187"/>
                </a:cubicBezTo>
                <a:cubicBezTo>
                  <a:pt x="22291" y="11254"/>
                  <a:pt x="22207" y="11364"/>
                  <a:pt x="22175" y="11410"/>
                </a:cubicBezTo>
                <a:cubicBezTo>
                  <a:pt x="22083" y="11540"/>
                  <a:pt x="21939" y="11650"/>
                  <a:pt x="21803" y="11733"/>
                </a:cubicBezTo>
                <a:cubicBezTo>
                  <a:pt x="21724" y="11781"/>
                  <a:pt x="21621" y="11825"/>
                  <a:pt x="21530" y="11832"/>
                </a:cubicBezTo>
                <a:cubicBezTo>
                  <a:pt x="21522" y="11832"/>
                  <a:pt x="21514" y="11832"/>
                  <a:pt x="21506" y="11832"/>
                </a:cubicBezTo>
                <a:cubicBezTo>
                  <a:pt x="21567" y="11771"/>
                  <a:pt x="21651" y="11687"/>
                  <a:pt x="21729" y="11658"/>
                </a:cubicBezTo>
                <a:cubicBezTo>
                  <a:pt x="21820" y="11624"/>
                  <a:pt x="21877" y="11668"/>
                  <a:pt x="21927" y="11708"/>
                </a:cubicBezTo>
                <a:cubicBezTo>
                  <a:pt x="22004" y="11769"/>
                  <a:pt x="21990" y="11799"/>
                  <a:pt x="22027" y="11881"/>
                </a:cubicBezTo>
                <a:cubicBezTo>
                  <a:pt x="22049" y="11904"/>
                  <a:pt x="22057" y="11909"/>
                  <a:pt x="22051" y="11931"/>
                </a:cubicBezTo>
              </a:path>
              <a:path w="18704" h="3597">
                <a:moveTo>
                  <a:pt x="22845" y="11509"/>
                </a:moveTo>
                <a:cubicBezTo>
                  <a:pt x="22845" y="11458"/>
                  <a:pt x="22854" y="11423"/>
                  <a:pt x="22820" y="11385"/>
                </a:cubicBezTo>
                <a:cubicBezTo>
                  <a:pt x="22778" y="11338"/>
                  <a:pt x="22722" y="11363"/>
                  <a:pt x="22671" y="11385"/>
                </a:cubicBezTo>
                <a:cubicBezTo>
                  <a:pt x="22609" y="11412"/>
                  <a:pt x="22548" y="11444"/>
                  <a:pt x="22523" y="11509"/>
                </a:cubicBezTo>
                <a:cubicBezTo>
                  <a:pt x="22523" y="11534"/>
                  <a:pt x="22523" y="11542"/>
                  <a:pt x="22523" y="11559"/>
                </a:cubicBezTo>
                <a:cubicBezTo>
                  <a:pt x="22590" y="11559"/>
                  <a:pt x="22634" y="11562"/>
                  <a:pt x="22696" y="11534"/>
                </a:cubicBezTo>
                <a:cubicBezTo>
                  <a:pt x="22755" y="11507"/>
                  <a:pt x="22788" y="11450"/>
                  <a:pt x="22845" y="11435"/>
                </a:cubicBezTo>
                <a:cubicBezTo>
                  <a:pt x="22788" y="11507"/>
                  <a:pt x="22745" y="11578"/>
                  <a:pt x="22696" y="11658"/>
                </a:cubicBezTo>
                <a:cubicBezTo>
                  <a:pt x="22639" y="11750"/>
                  <a:pt x="22573" y="11835"/>
                  <a:pt x="22523" y="11931"/>
                </a:cubicBezTo>
                <a:cubicBezTo>
                  <a:pt x="22501" y="11975"/>
                  <a:pt x="22498" y="11986"/>
                  <a:pt x="22473" y="12005"/>
                </a:cubicBezTo>
              </a:path>
              <a:path w="18704" h="3597">
                <a:moveTo>
                  <a:pt x="23316" y="11584"/>
                </a:moveTo>
                <a:cubicBezTo>
                  <a:pt x="23369" y="11522"/>
                  <a:pt x="23383" y="11540"/>
                  <a:pt x="23341" y="11485"/>
                </a:cubicBezTo>
                <a:cubicBezTo>
                  <a:pt x="23294" y="11450"/>
                  <a:pt x="23254" y="11460"/>
                  <a:pt x="23192" y="11460"/>
                </a:cubicBezTo>
                <a:cubicBezTo>
                  <a:pt x="23134" y="11460"/>
                  <a:pt x="23087" y="11477"/>
                  <a:pt x="23044" y="11509"/>
                </a:cubicBezTo>
                <a:cubicBezTo>
                  <a:pt x="23059" y="11573"/>
                  <a:pt x="23096" y="11592"/>
                  <a:pt x="23143" y="11633"/>
                </a:cubicBezTo>
                <a:cubicBezTo>
                  <a:pt x="23183" y="11668"/>
                  <a:pt x="23260" y="11732"/>
                  <a:pt x="23267" y="11782"/>
                </a:cubicBezTo>
                <a:cubicBezTo>
                  <a:pt x="23279" y="11870"/>
                  <a:pt x="23253" y="11860"/>
                  <a:pt x="23192" y="11906"/>
                </a:cubicBezTo>
                <a:cubicBezTo>
                  <a:pt x="23157" y="11932"/>
                  <a:pt x="23162" y="11931"/>
                  <a:pt x="23118" y="11931"/>
                </a:cubicBezTo>
                <a:cubicBezTo>
                  <a:pt x="23084" y="11914"/>
                  <a:pt x="23130" y="11850"/>
                  <a:pt x="23168" y="11807"/>
                </a:cubicBezTo>
                <a:cubicBezTo>
                  <a:pt x="23225" y="11742"/>
                  <a:pt x="23296" y="11659"/>
                  <a:pt x="23366" y="11609"/>
                </a:cubicBezTo>
                <a:cubicBezTo>
                  <a:pt x="23419" y="11571"/>
                  <a:pt x="23476" y="11518"/>
                  <a:pt x="23515" y="11460"/>
                </a:cubicBezTo>
                <a:cubicBezTo>
                  <a:pt x="23523" y="11443"/>
                  <a:pt x="23532" y="11427"/>
                  <a:pt x="23540" y="11410"/>
                </a:cubicBezTo>
              </a:path>
              <a:path w="18704" h="3597">
                <a:moveTo>
                  <a:pt x="23465" y="9525"/>
                </a:moveTo>
                <a:cubicBezTo>
                  <a:pt x="23425" y="9505"/>
                  <a:pt x="23419" y="9496"/>
                  <a:pt x="23391" y="9500"/>
                </a:cubicBezTo>
                <a:cubicBezTo>
                  <a:pt x="23452" y="9505"/>
                  <a:pt x="23510" y="9485"/>
                  <a:pt x="23564" y="9525"/>
                </a:cubicBezTo>
                <a:cubicBezTo>
                  <a:pt x="23694" y="9622"/>
                  <a:pt x="23768" y="9771"/>
                  <a:pt x="23812" y="9922"/>
                </a:cubicBezTo>
                <a:cubicBezTo>
                  <a:pt x="23870" y="10121"/>
                  <a:pt x="23884" y="10336"/>
                  <a:pt x="23887" y="10542"/>
                </a:cubicBezTo>
                <a:cubicBezTo>
                  <a:pt x="23891" y="10787"/>
                  <a:pt x="23924" y="11073"/>
                  <a:pt x="23862" y="11311"/>
                </a:cubicBezTo>
                <a:cubicBezTo>
                  <a:pt x="23824" y="11457"/>
                  <a:pt x="23753" y="11542"/>
                  <a:pt x="23639" y="11633"/>
                </a:cubicBezTo>
                <a:cubicBezTo>
                  <a:pt x="23514" y="11733"/>
                  <a:pt x="23366" y="11788"/>
                  <a:pt x="23242" y="11881"/>
                </a:cubicBezTo>
                <a:cubicBezTo>
                  <a:pt x="23163" y="11940"/>
                  <a:pt x="23092" y="11988"/>
                  <a:pt x="23019" y="12055"/>
                </a:cubicBezTo>
                <a:cubicBezTo>
                  <a:pt x="22983" y="12088"/>
                  <a:pt x="22965" y="12121"/>
                  <a:pt x="22944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1680" y="4106880"/>
            <a:ext cx="473040" cy="706320"/>
          </a:xfrm>
          <a:custGeom>
            <a:avLst/>
            <a:gdLst/>
            <a:ahLst/>
            <a:rect l="l" t="t" r="r" b="b"/>
            <a:pathLst>
              <a:path w="1315" h="1961">
                <a:moveTo>
                  <a:pt x="1712" y="12303"/>
                </a:moveTo>
                <a:cubicBezTo>
                  <a:pt x="1734" y="12290"/>
                  <a:pt x="1843" y="12214"/>
                  <a:pt x="1885" y="12254"/>
                </a:cubicBezTo>
                <a:cubicBezTo>
                  <a:pt x="1911" y="12279"/>
                  <a:pt x="1910" y="12340"/>
                  <a:pt x="1910" y="12378"/>
                </a:cubicBezTo>
                <a:cubicBezTo>
                  <a:pt x="1910" y="12419"/>
                  <a:pt x="1904" y="12457"/>
                  <a:pt x="1860" y="12477"/>
                </a:cubicBezTo>
                <a:cubicBezTo>
                  <a:pt x="1826" y="12493"/>
                  <a:pt x="1848" y="12490"/>
                  <a:pt x="1811" y="12502"/>
                </a:cubicBezTo>
                <a:cubicBezTo>
                  <a:pt x="1854" y="12533"/>
                  <a:pt x="1908" y="12550"/>
                  <a:pt x="1960" y="12576"/>
                </a:cubicBezTo>
                <a:cubicBezTo>
                  <a:pt x="2023" y="12608"/>
                  <a:pt x="2117" y="12675"/>
                  <a:pt x="2133" y="12750"/>
                </a:cubicBezTo>
                <a:cubicBezTo>
                  <a:pt x="2156" y="12858"/>
                  <a:pt x="2111" y="12916"/>
                  <a:pt x="2059" y="12998"/>
                </a:cubicBezTo>
                <a:cubicBezTo>
                  <a:pt x="2022" y="13057"/>
                  <a:pt x="2004" y="13072"/>
                  <a:pt x="1935" y="13072"/>
                </a:cubicBezTo>
                <a:cubicBezTo>
                  <a:pt x="1878" y="13072"/>
                  <a:pt x="1892" y="13043"/>
                  <a:pt x="1885" y="12998"/>
                </a:cubicBezTo>
              </a:path>
              <a:path w="1315" h="1961">
                <a:moveTo>
                  <a:pt x="2183" y="12204"/>
                </a:moveTo>
                <a:cubicBezTo>
                  <a:pt x="2203" y="12157"/>
                  <a:pt x="2189" y="12094"/>
                  <a:pt x="2208" y="12055"/>
                </a:cubicBezTo>
                <a:cubicBezTo>
                  <a:pt x="2216" y="12047"/>
                  <a:pt x="2224" y="12038"/>
                  <a:pt x="2232" y="12030"/>
                </a:cubicBezTo>
                <a:cubicBezTo>
                  <a:pt x="2251" y="12104"/>
                  <a:pt x="2269" y="12169"/>
                  <a:pt x="2282" y="12254"/>
                </a:cubicBezTo>
                <a:cubicBezTo>
                  <a:pt x="2304" y="12397"/>
                  <a:pt x="2307" y="12530"/>
                  <a:pt x="2307" y="12675"/>
                </a:cubicBezTo>
                <a:cubicBezTo>
                  <a:pt x="2307" y="12746"/>
                  <a:pt x="2300" y="12771"/>
                  <a:pt x="2332" y="12824"/>
                </a:cubicBezTo>
              </a:path>
              <a:path w="1315" h="1961">
                <a:moveTo>
                  <a:pt x="2902" y="11733"/>
                </a:moveTo>
                <a:cubicBezTo>
                  <a:pt x="2875" y="11657"/>
                  <a:pt x="2838" y="11563"/>
                  <a:pt x="2778" y="11509"/>
                </a:cubicBezTo>
                <a:cubicBezTo>
                  <a:pt x="2740" y="11475"/>
                  <a:pt x="2656" y="11416"/>
                  <a:pt x="2604" y="11410"/>
                </a:cubicBezTo>
                <a:cubicBezTo>
                  <a:pt x="2501" y="11397"/>
                  <a:pt x="2404" y="11431"/>
                  <a:pt x="2307" y="11460"/>
                </a:cubicBezTo>
                <a:cubicBezTo>
                  <a:pt x="2172" y="11501"/>
                  <a:pt x="2023" y="11545"/>
                  <a:pt x="1910" y="11633"/>
                </a:cubicBezTo>
                <a:cubicBezTo>
                  <a:pt x="1849" y="11681"/>
                  <a:pt x="1793" y="11768"/>
                  <a:pt x="1761" y="11832"/>
                </a:cubicBezTo>
                <a:cubicBezTo>
                  <a:pt x="1723" y="11907"/>
                  <a:pt x="1676" y="12055"/>
                  <a:pt x="1662" y="12129"/>
                </a:cubicBezTo>
                <a:cubicBezTo>
                  <a:pt x="1640" y="12248"/>
                  <a:pt x="1605" y="12382"/>
                  <a:pt x="1588" y="12502"/>
                </a:cubicBezTo>
                <a:cubicBezTo>
                  <a:pt x="1567" y="12650"/>
                  <a:pt x="1593" y="12805"/>
                  <a:pt x="1612" y="12948"/>
                </a:cubicBezTo>
                <a:cubicBezTo>
                  <a:pt x="1620" y="13006"/>
                  <a:pt x="1640" y="13102"/>
                  <a:pt x="1687" y="13146"/>
                </a:cubicBezTo>
                <a:cubicBezTo>
                  <a:pt x="1743" y="13198"/>
                  <a:pt x="1792" y="13251"/>
                  <a:pt x="1860" y="13295"/>
                </a:cubicBezTo>
                <a:cubicBezTo>
                  <a:pt x="1921" y="13334"/>
                  <a:pt x="1959" y="13367"/>
                  <a:pt x="2034" y="13370"/>
                </a:cubicBezTo>
                <a:cubicBezTo>
                  <a:pt x="2114" y="13374"/>
                  <a:pt x="2185" y="13377"/>
                  <a:pt x="2257" y="13345"/>
                </a:cubicBezTo>
                <a:cubicBezTo>
                  <a:pt x="2373" y="13293"/>
                  <a:pt x="2430" y="13243"/>
                  <a:pt x="2530" y="13171"/>
                </a:cubicBezTo>
                <a:cubicBezTo>
                  <a:pt x="2585" y="13131"/>
                  <a:pt x="2627" y="13093"/>
                  <a:pt x="2679" y="13047"/>
                </a:cubicBezTo>
                <a:cubicBezTo>
                  <a:pt x="2736" y="12996"/>
                  <a:pt x="2775" y="12945"/>
                  <a:pt x="2803" y="12874"/>
                </a:cubicBezTo>
                <a:cubicBezTo>
                  <a:pt x="2838" y="12784"/>
                  <a:pt x="2864" y="12696"/>
                  <a:pt x="2877" y="12601"/>
                </a:cubicBezTo>
                <a:cubicBezTo>
                  <a:pt x="2895" y="12468"/>
                  <a:pt x="2869" y="12322"/>
                  <a:pt x="2853" y="12204"/>
                </a:cubicBezTo>
                <a:cubicBezTo>
                  <a:pt x="2844" y="12135"/>
                  <a:pt x="2832" y="12070"/>
                  <a:pt x="2803" y="12005"/>
                </a:cubicBezTo>
                <a:cubicBezTo>
                  <a:pt x="2777" y="11948"/>
                  <a:pt x="2750" y="11875"/>
                  <a:pt x="2704" y="11832"/>
                </a:cubicBezTo>
                <a:cubicBezTo>
                  <a:pt x="2660" y="11791"/>
                  <a:pt x="2627" y="11799"/>
                  <a:pt x="2580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30200" y="4411800"/>
            <a:ext cx="6616800" cy="1231920"/>
          </a:xfrm>
          <a:custGeom>
            <a:avLst/>
            <a:gdLst/>
            <a:ahLst/>
            <a:rect l="l" t="t" r="r" b="b"/>
            <a:pathLst>
              <a:path w="18381" h="3424">
                <a:moveTo>
                  <a:pt x="3696" y="13494"/>
                </a:moveTo>
                <a:cubicBezTo>
                  <a:pt x="3696" y="13527"/>
                  <a:pt x="3696" y="13560"/>
                  <a:pt x="3696" y="13593"/>
                </a:cubicBezTo>
                <a:cubicBezTo>
                  <a:pt x="3802" y="13580"/>
                  <a:pt x="3887" y="13517"/>
                  <a:pt x="3969" y="13444"/>
                </a:cubicBezTo>
                <a:cubicBezTo>
                  <a:pt x="4124" y="13307"/>
                  <a:pt x="4290" y="13152"/>
                  <a:pt x="4390" y="12973"/>
                </a:cubicBezTo>
                <a:cubicBezTo>
                  <a:pt x="4430" y="12901"/>
                  <a:pt x="4401" y="12907"/>
                  <a:pt x="4390" y="12849"/>
                </a:cubicBezTo>
                <a:cubicBezTo>
                  <a:pt x="4285" y="12822"/>
                  <a:pt x="4219" y="12886"/>
                  <a:pt x="4142" y="12973"/>
                </a:cubicBezTo>
                <a:cubicBezTo>
                  <a:pt x="4021" y="13109"/>
                  <a:pt x="3908" y="13354"/>
                  <a:pt x="3944" y="13543"/>
                </a:cubicBezTo>
                <a:cubicBezTo>
                  <a:pt x="3981" y="13737"/>
                  <a:pt x="4190" y="13754"/>
                  <a:pt x="4341" y="13717"/>
                </a:cubicBezTo>
                <a:cubicBezTo>
                  <a:pt x="4537" y="13670"/>
                  <a:pt x="4679" y="13532"/>
                  <a:pt x="4812" y="13395"/>
                </a:cubicBezTo>
                <a:cubicBezTo>
                  <a:pt x="4871" y="13334"/>
                  <a:pt x="4916" y="13289"/>
                  <a:pt x="4986" y="13246"/>
                </a:cubicBezTo>
                <a:cubicBezTo>
                  <a:pt x="4979" y="13327"/>
                  <a:pt x="4963" y="13390"/>
                  <a:pt x="4936" y="13469"/>
                </a:cubicBezTo>
                <a:cubicBezTo>
                  <a:pt x="4913" y="13537"/>
                  <a:pt x="4911" y="13574"/>
                  <a:pt x="4911" y="13643"/>
                </a:cubicBezTo>
                <a:cubicBezTo>
                  <a:pt x="4988" y="13587"/>
                  <a:pt x="5039" y="13523"/>
                  <a:pt x="5110" y="13444"/>
                </a:cubicBezTo>
                <a:cubicBezTo>
                  <a:pt x="5178" y="13369"/>
                  <a:pt x="5225" y="13333"/>
                  <a:pt x="5308" y="13295"/>
                </a:cubicBezTo>
                <a:cubicBezTo>
                  <a:pt x="5308" y="13403"/>
                  <a:pt x="5291" y="13519"/>
                  <a:pt x="5333" y="13618"/>
                </a:cubicBezTo>
                <a:cubicBezTo>
                  <a:pt x="5341" y="13634"/>
                  <a:pt x="5350" y="13651"/>
                  <a:pt x="5358" y="13667"/>
                </a:cubicBezTo>
              </a:path>
              <a:path w="18381" h="3424">
                <a:moveTo>
                  <a:pt x="6896" y="12502"/>
                </a:moveTo>
                <a:cubicBezTo>
                  <a:pt x="6888" y="12510"/>
                  <a:pt x="6879" y="12518"/>
                  <a:pt x="6871" y="12526"/>
                </a:cubicBezTo>
                <a:cubicBezTo>
                  <a:pt x="6930" y="12512"/>
                  <a:pt x="6978" y="12513"/>
                  <a:pt x="7045" y="12502"/>
                </a:cubicBezTo>
                <a:cubicBezTo>
                  <a:pt x="7135" y="12487"/>
                  <a:pt x="7256" y="12475"/>
                  <a:pt x="7342" y="12452"/>
                </a:cubicBezTo>
                <a:cubicBezTo>
                  <a:pt x="7383" y="12432"/>
                  <a:pt x="7389" y="12423"/>
                  <a:pt x="7417" y="12427"/>
                </a:cubicBezTo>
              </a:path>
              <a:path w="18381" h="3424">
                <a:moveTo>
                  <a:pt x="7094" y="12477"/>
                </a:moveTo>
                <a:cubicBezTo>
                  <a:pt x="6977" y="12516"/>
                  <a:pt x="6755" y="12549"/>
                  <a:pt x="6672" y="12650"/>
                </a:cubicBezTo>
                <a:cubicBezTo>
                  <a:pt x="6660" y="12665"/>
                  <a:pt x="6588" y="12783"/>
                  <a:pt x="6598" y="12799"/>
                </a:cubicBezTo>
                <a:cubicBezTo>
                  <a:pt x="6647" y="12875"/>
                  <a:pt x="6720" y="12857"/>
                  <a:pt x="6796" y="12874"/>
                </a:cubicBezTo>
                <a:cubicBezTo>
                  <a:pt x="6850" y="12886"/>
                  <a:pt x="6981" y="12929"/>
                  <a:pt x="7020" y="12973"/>
                </a:cubicBezTo>
                <a:cubicBezTo>
                  <a:pt x="7068" y="13028"/>
                  <a:pt x="6967" y="13116"/>
                  <a:pt x="6945" y="13146"/>
                </a:cubicBezTo>
                <a:cubicBezTo>
                  <a:pt x="6885" y="13228"/>
                  <a:pt x="6823" y="13259"/>
                  <a:pt x="6747" y="13320"/>
                </a:cubicBezTo>
              </a:path>
              <a:path w="18381" h="3424">
                <a:moveTo>
                  <a:pt x="7888" y="12626"/>
                </a:moveTo>
                <a:cubicBezTo>
                  <a:pt x="7896" y="12618"/>
                  <a:pt x="7905" y="12609"/>
                  <a:pt x="7913" y="12601"/>
                </a:cubicBezTo>
                <a:cubicBezTo>
                  <a:pt x="7840" y="12601"/>
                  <a:pt x="7783" y="12603"/>
                  <a:pt x="7714" y="12626"/>
                </a:cubicBezTo>
                <a:cubicBezTo>
                  <a:pt x="7625" y="12655"/>
                  <a:pt x="7505" y="12740"/>
                  <a:pt x="7491" y="12824"/>
                </a:cubicBezTo>
                <a:cubicBezTo>
                  <a:pt x="7481" y="12886"/>
                  <a:pt x="7600" y="12915"/>
                  <a:pt x="7640" y="12923"/>
                </a:cubicBezTo>
                <a:cubicBezTo>
                  <a:pt x="7719" y="12938"/>
                  <a:pt x="7759" y="12933"/>
                  <a:pt x="7764" y="13022"/>
                </a:cubicBezTo>
                <a:cubicBezTo>
                  <a:pt x="7770" y="13120"/>
                  <a:pt x="7703" y="13137"/>
                  <a:pt x="7640" y="13196"/>
                </a:cubicBezTo>
                <a:cubicBezTo>
                  <a:pt x="7623" y="13213"/>
                  <a:pt x="7607" y="13229"/>
                  <a:pt x="7590" y="13246"/>
                </a:cubicBezTo>
              </a:path>
              <a:path w="18381" h="3424">
                <a:moveTo>
                  <a:pt x="7640" y="12650"/>
                </a:moveTo>
                <a:cubicBezTo>
                  <a:pt x="7784" y="12650"/>
                  <a:pt x="7922" y="12641"/>
                  <a:pt x="8062" y="12626"/>
                </a:cubicBezTo>
                <a:cubicBezTo>
                  <a:pt x="8138" y="12618"/>
                  <a:pt x="8165" y="12628"/>
                  <a:pt x="8235" y="12601"/>
                </a:cubicBezTo>
              </a:path>
              <a:path w="18381" h="3424">
                <a:moveTo>
                  <a:pt x="8607" y="12700"/>
                </a:moveTo>
                <a:cubicBezTo>
                  <a:pt x="8523" y="12700"/>
                  <a:pt x="8487" y="12699"/>
                  <a:pt x="8434" y="12774"/>
                </a:cubicBezTo>
                <a:cubicBezTo>
                  <a:pt x="8368" y="12867"/>
                  <a:pt x="8359" y="12905"/>
                  <a:pt x="8359" y="13022"/>
                </a:cubicBezTo>
                <a:cubicBezTo>
                  <a:pt x="8359" y="13141"/>
                  <a:pt x="8416" y="13199"/>
                  <a:pt x="8533" y="13221"/>
                </a:cubicBezTo>
                <a:cubicBezTo>
                  <a:pt x="8624" y="13238"/>
                  <a:pt x="8729" y="13164"/>
                  <a:pt x="8781" y="13097"/>
                </a:cubicBezTo>
                <a:cubicBezTo>
                  <a:pt x="8823" y="13043"/>
                  <a:pt x="8868" y="12917"/>
                  <a:pt x="8855" y="12849"/>
                </a:cubicBezTo>
                <a:cubicBezTo>
                  <a:pt x="8842" y="12780"/>
                  <a:pt x="8739" y="12731"/>
                  <a:pt x="8682" y="12725"/>
                </a:cubicBezTo>
                <a:cubicBezTo>
                  <a:pt x="8665" y="12725"/>
                  <a:pt x="8649" y="12725"/>
                  <a:pt x="8632" y="12725"/>
                </a:cubicBezTo>
              </a:path>
              <a:path w="18381" h="3424">
                <a:moveTo>
                  <a:pt x="6375" y="13692"/>
                </a:moveTo>
                <a:cubicBezTo>
                  <a:pt x="6452" y="13683"/>
                  <a:pt x="6518" y="13669"/>
                  <a:pt x="6598" y="13667"/>
                </a:cubicBezTo>
                <a:cubicBezTo>
                  <a:pt x="7136" y="13653"/>
                  <a:pt x="7675" y="13678"/>
                  <a:pt x="8210" y="13643"/>
                </a:cubicBezTo>
                <a:cubicBezTo>
                  <a:pt x="8342" y="13634"/>
                  <a:pt x="8503" y="13646"/>
                  <a:pt x="8632" y="13618"/>
                </a:cubicBezTo>
                <a:cubicBezTo>
                  <a:pt x="8691" y="13605"/>
                  <a:pt x="8757" y="13593"/>
                  <a:pt x="8806" y="13568"/>
                </a:cubicBezTo>
                <a:cubicBezTo>
                  <a:pt x="8798" y="13568"/>
                  <a:pt x="8789" y="13568"/>
                  <a:pt x="8781" y="13568"/>
                </a:cubicBezTo>
              </a:path>
              <a:path w="18381" h="3424">
                <a:moveTo>
                  <a:pt x="6796" y="12254"/>
                </a:moveTo>
                <a:cubicBezTo>
                  <a:pt x="6769" y="12266"/>
                  <a:pt x="6719" y="12256"/>
                  <a:pt x="6697" y="12278"/>
                </a:cubicBezTo>
                <a:cubicBezTo>
                  <a:pt x="6646" y="12329"/>
                  <a:pt x="6592" y="12418"/>
                  <a:pt x="6548" y="12477"/>
                </a:cubicBezTo>
                <a:cubicBezTo>
                  <a:pt x="6463" y="12591"/>
                  <a:pt x="6395" y="12740"/>
                  <a:pt x="6350" y="12874"/>
                </a:cubicBezTo>
                <a:cubicBezTo>
                  <a:pt x="6295" y="13038"/>
                  <a:pt x="6260" y="13200"/>
                  <a:pt x="6226" y="13370"/>
                </a:cubicBezTo>
                <a:cubicBezTo>
                  <a:pt x="6190" y="13552"/>
                  <a:pt x="6157" y="13735"/>
                  <a:pt x="6127" y="13915"/>
                </a:cubicBezTo>
                <a:cubicBezTo>
                  <a:pt x="6106" y="14043"/>
                  <a:pt x="6090" y="14136"/>
                  <a:pt x="6127" y="14263"/>
                </a:cubicBezTo>
                <a:cubicBezTo>
                  <a:pt x="6159" y="14375"/>
                  <a:pt x="6179" y="14453"/>
                  <a:pt x="6226" y="14560"/>
                </a:cubicBezTo>
                <a:cubicBezTo>
                  <a:pt x="6265" y="14648"/>
                  <a:pt x="6287" y="14744"/>
                  <a:pt x="6325" y="14833"/>
                </a:cubicBezTo>
                <a:cubicBezTo>
                  <a:pt x="6351" y="14893"/>
                  <a:pt x="6374" y="14949"/>
                  <a:pt x="6400" y="15007"/>
                </a:cubicBezTo>
              </a:path>
              <a:path w="18381" h="3424">
                <a:moveTo>
                  <a:pt x="9079" y="12278"/>
                </a:moveTo>
                <a:cubicBezTo>
                  <a:pt x="9085" y="12277"/>
                  <a:pt x="9111" y="12237"/>
                  <a:pt x="9153" y="12254"/>
                </a:cubicBezTo>
                <a:cubicBezTo>
                  <a:pt x="9232" y="12286"/>
                  <a:pt x="9264" y="12381"/>
                  <a:pt x="9302" y="12452"/>
                </a:cubicBezTo>
                <a:cubicBezTo>
                  <a:pt x="9375" y="12589"/>
                  <a:pt x="9395" y="12747"/>
                  <a:pt x="9426" y="12898"/>
                </a:cubicBezTo>
                <a:cubicBezTo>
                  <a:pt x="9456" y="13044"/>
                  <a:pt x="9470" y="13220"/>
                  <a:pt x="9451" y="13370"/>
                </a:cubicBezTo>
                <a:cubicBezTo>
                  <a:pt x="9433" y="13507"/>
                  <a:pt x="9427" y="13659"/>
                  <a:pt x="9376" y="13791"/>
                </a:cubicBezTo>
                <a:cubicBezTo>
                  <a:pt x="9327" y="13918"/>
                  <a:pt x="9248" y="14046"/>
                  <a:pt x="9178" y="14163"/>
                </a:cubicBezTo>
                <a:cubicBezTo>
                  <a:pt x="9120" y="14260"/>
                  <a:pt x="9076" y="14358"/>
                  <a:pt x="9029" y="14461"/>
                </a:cubicBezTo>
                <a:cubicBezTo>
                  <a:pt x="8998" y="14528"/>
                  <a:pt x="8962" y="14597"/>
                  <a:pt x="8930" y="14660"/>
                </a:cubicBezTo>
                <a:cubicBezTo>
                  <a:pt x="8901" y="14717"/>
                  <a:pt x="8854" y="14778"/>
                  <a:pt x="8830" y="14833"/>
                </a:cubicBezTo>
                <a:cubicBezTo>
                  <a:pt x="8830" y="14841"/>
                  <a:pt x="8830" y="14850"/>
                  <a:pt x="8830" y="14858"/>
                </a:cubicBezTo>
              </a:path>
              <a:path w="18381" h="3424">
                <a:moveTo>
                  <a:pt x="6697" y="14089"/>
                </a:moveTo>
                <a:cubicBezTo>
                  <a:pt x="6781" y="14078"/>
                  <a:pt x="6862" y="14063"/>
                  <a:pt x="6945" y="14039"/>
                </a:cubicBezTo>
                <a:cubicBezTo>
                  <a:pt x="6999" y="14023"/>
                  <a:pt x="7110" y="13960"/>
                  <a:pt x="7169" y="13990"/>
                </a:cubicBezTo>
                <a:cubicBezTo>
                  <a:pt x="7226" y="14019"/>
                  <a:pt x="7182" y="14101"/>
                  <a:pt x="7169" y="14139"/>
                </a:cubicBezTo>
                <a:cubicBezTo>
                  <a:pt x="7129" y="14254"/>
                  <a:pt x="7080" y="14380"/>
                  <a:pt x="7020" y="14486"/>
                </a:cubicBezTo>
                <a:cubicBezTo>
                  <a:pt x="6968" y="14577"/>
                  <a:pt x="6930" y="14667"/>
                  <a:pt x="6896" y="14759"/>
                </a:cubicBezTo>
                <a:cubicBezTo>
                  <a:pt x="6876" y="14813"/>
                  <a:pt x="6849" y="14817"/>
                  <a:pt x="6896" y="14833"/>
                </a:cubicBezTo>
              </a:path>
              <a:path w="18381" h="3424">
                <a:moveTo>
                  <a:pt x="7813" y="14064"/>
                </a:moveTo>
                <a:cubicBezTo>
                  <a:pt x="7852" y="14026"/>
                  <a:pt x="7869" y="14024"/>
                  <a:pt x="7863" y="13990"/>
                </a:cubicBezTo>
                <a:cubicBezTo>
                  <a:pt x="7803" y="13990"/>
                  <a:pt x="7798" y="14015"/>
                  <a:pt x="7764" y="14064"/>
                </a:cubicBezTo>
                <a:cubicBezTo>
                  <a:pt x="7695" y="14163"/>
                  <a:pt x="7653" y="14249"/>
                  <a:pt x="7615" y="14362"/>
                </a:cubicBezTo>
                <a:cubicBezTo>
                  <a:pt x="7588" y="14441"/>
                  <a:pt x="7569" y="14543"/>
                  <a:pt x="7640" y="14610"/>
                </a:cubicBezTo>
                <a:cubicBezTo>
                  <a:pt x="7694" y="14661"/>
                  <a:pt x="7782" y="14635"/>
                  <a:pt x="7838" y="14610"/>
                </a:cubicBezTo>
                <a:cubicBezTo>
                  <a:pt x="7884" y="14589"/>
                  <a:pt x="7932" y="14562"/>
                  <a:pt x="7938" y="14511"/>
                </a:cubicBezTo>
                <a:cubicBezTo>
                  <a:pt x="7938" y="14503"/>
                  <a:pt x="7938" y="14494"/>
                  <a:pt x="7938" y="14486"/>
                </a:cubicBezTo>
                <a:cubicBezTo>
                  <a:pt x="7867" y="14486"/>
                  <a:pt x="7827" y="14498"/>
                  <a:pt x="7764" y="14536"/>
                </a:cubicBezTo>
                <a:cubicBezTo>
                  <a:pt x="7686" y="14583"/>
                  <a:pt x="7628" y="14648"/>
                  <a:pt x="7615" y="14734"/>
                </a:cubicBezTo>
                <a:cubicBezTo>
                  <a:pt x="7615" y="14742"/>
                  <a:pt x="7615" y="14751"/>
                  <a:pt x="7615" y="14759"/>
                </a:cubicBezTo>
              </a:path>
              <a:path w="18381" h="3424">
                <a:moveTo>
                  <a:pt x="8409" y="14188"/>
                </a:moveTo>
                <a:cubicBezTo>
                  <a:pt x="8409" y="14172"/>
                  <a:pt x="8409" y="14155"/>
                  <a:pt x="8409" y="14139"/>
                </a:cubicBezTo>
                <a:cubicBezTo>
                  <a:pt x="8350" y="14153"/>
                  <a:pt x="8343" y="14187"/>
                  <a:pt x="8310" y="14238"/>
                </a:cubicBezTo>
                <a:cubicBezTo>
                  <a:pt x="8252" y="14330"/>
                  <a:pt x="8240" y="14427"/>
                  <a:pt x="8235" y="14536"/>
                </a:cubicBezTo>
                <a:cubicBezTo>
                  <a:pt x="8233" y="14587"/>
                  <a:pt x="8257" y="14692"/>
                  <a:pt x="8334" y="14660"/>
                </a:cubicBezTo>
                <a:cubicBezTo>
                  <a:pt x="8437" y="14618"/>
                  <a:pt x="8485" y="14538"/>
                  <a:pt x="8558" y="14461"/>
                </a:cubicBezTo>
                <a:cubicBezTo>
                  <a:pt x="8625" y="14391"/>
                  <a:pt x="8607" y="14331"/>
                  <a:pt x="8607" y="14238"/>
                </a:cubicBezTo>
                <a:cubicBezTo>
                  <a:pt x="8607" y="14183"/>
                  <a:pt x="8526" y="14167"/>
                  <a:pt x="8483" y="14163"/>
                </a:cubicBezTo>
                <a:cubicBezTo>
                  <a:pt x="8448" y="14163"/>
                  <a:pt x="8431" y="14168"/>
                  <a:pt x="8409" y="14188"/>
                </a:cubicBezTo>
              </a:path>
              <a:path w="18381" h="3424">
                <a:moveTo>
                  <a:pt x="9996" y="13469"/>
                </a:moveTo>
                <a:cubicBezTo>
                  <a:pt x="9927" y="13469"/>
                  <a:pt x="10127" y="13469"/>
                  <a:pt x="10145" y="13469"/>
                </a:cubicBezTo>
                <a:cubicBezTo>
                  <a:pt x="10261" y="13469"/>
                  <a:pt x="10376" y="13469"/>
                  <a:pt x="10492" y="13469"/>
                </a:cubicBezTo>
              </a:path>
              <a:path w="18381" h="3424">
                <a:moveTo>
                  <a:pt x="9748" y="13891"/>
                </a:moveTo>
                <a:cubicBezTo>
                  <a:pt x="9748" y="13915"/>
                  <a:pt x="9748" y="13924"/>
                  <a:pt x="9748" y="13940"/>
                </a:cubicBezTo>
                <a:cubicBezTo>
                  <a:pt x="9833" y="13940"/>
                  <a:pt x="9913" y="13975"/>
                  <a:pt x="9996" y="13965"/>
                </a:cubicBezTo>
                <a:cubicBezTo>
                  <a:pt x="10104" y="13952"/>
                  <a:pt x="10184" y="13915"/>
                  <a:pt x="10294" y="13915"/>
                </a:cubicBezTo>
              </a:path>
              <a:path w="18381" h="3424">
                <a:moveTo>
                  <a:pt x="11509" y="12849"/>
                </a:moveTo>
                <a:cubicBezTo>
                  <a:pt x="11516" y="12821"/>
                  <a:pt x="11570" y="12773"/>
                  <a:pt x="11534" y="12799"/>
                </a:cubicBezTo>
                <a:cubicBezTo>
                  <a:pt x="11435" y="12870"/>
                  <a:pt x="11358" y="12948"/>
                  <a:pt x="11286" y="13047"/>
                </a:cubicBezTo>
                <a:cubicBezTo>
                  <a:pt x="11234" y="13118"/>
                  <a:pt x="11137" y="13222"/>
                  <a:pt x="11162" y="13320"/>
                </a:cubicBezTo>
                <a:cubicBezTo>
                  <a:pt x="11177" y="13379"/>
                  <a:pt x="11319" y="13401"/>
                  <a:pt x="11361" y="13395"/>
                </a:cubicBezTo>
                <a:cubicBezTo>
                  <a:pt x="11445" y="13384"/>
                  <a:pt x="11526" y="13353"/>
                  <a:pt x="11609" y="13345"/>
                </a:cubicBezTo>
                <a:cubicBezTo>
                  <a:pt x="11633" y="13343"/>
                  <a:pt x="11659" y="13345"/>
                  <a:pt x="11683" y="13345"/>
                </a:cubicBezTo>
              </a:path>
              <a:path w="18381" h="3424">
                <a:moveTo>
                  <a:pt x="11857" y="12948"/>
                </a:moveTo>
                <a:cubicBezTo>
                  <a:pt x="11841" y="13026"/>
                  <a:pt x="11809" y="13120"/>
                  <a:pt x="11782" y="13196"/>
                </a:cubicBezTo>
                <a:cubicBezTo>
                  <a:pt x="11736" y="13329"/>
                  <a:pt x="11658" y="13480"/>
                  <a:pt x="11633" y="13618"/>
                </a:cubicBezTo>
                <a:cubicBezTo>
                  <a:pt x="11625" y="13663"/>
                  <a:pt x="11633" y="13721"/>
                  <a:pt x="11633" y="13767"/>
                </a:cubicBezTo>
              </a:path>
              <a:path w="18381" h="3424">
                <a:moveTo>
                  <a:pt x="12030" y="13593"/>
                </a:moveTo>
                <a:cubicBezTo>
                  <a:pt x="12030" y="13618"/>
                  <a:pt x="12030" y="13626"/>
                  <a:pt x="12030" y="13593"/>
                </a:cubicBezTo>
              </a:path>
              <a:path w="18381" h="3424">
                <a:moveTo>
                  <a:pt x="12675" y="12973"/>
                </a:moveTo>
                <a:cubicBezTo>
                  <a:pt x="12691" y="12909"/>
                  <a:pt x="12734" y="12902"/>
                  <a:pt x="12799" y="12898"/>
                </a:cubicBezTo>
                <a:cubicBezTo>
                  <a:pt x="12880" y="12893"/>
                  <a:pt x="12934" y="12933"/>
                  <a:pt x="12973" y="12998"/>
                </a:cubicBezTo>
                <a:cubicBezTo>
                  <a:pt x="13027" y="13089"/>
                  <a:pt x="13041" y="13131"/>
                  <a:pt x="12973" y="13221"/>
                </a:cubicBezTo>
                <a:cubicBezTo>
                  <a:pt x="12905" y="13311"/>
                  <a:pt x="12839" y="13356"/>
                  <a:pt x="12750" y="13419"/>
                </a:cubicBezTo>
                <a:cubicBezTo>
                  <a:pt x="12716" y="13443"/>
                  <a:pt x="12714" y="13459"/>
                  <a:pt x="12675" y="13469"/>
                </a:cubicBezTo>
              </a:path>
              <a:path w="18381" h="3424">
                <a:moveTo>
                  <a:pt x="12204" y="13146"/>
                </a:moveTo>
                <a:cubicBezTo>
                  <a:pt x="12230" y="13110"/>
                  <a:pt x="12242" y="13105"/>
                  <a:pt x="12278" y="13072"/>
                </a:cubicBezTo>
                <a:cubicBezTo>
                  <a:pt x="12315" y="13038"/>
                  <a:pt x="12377" y="13024"/>
                  <a:pt x="12427" y="12998"/>
                </a:cubicBezTo>
                <a:cubicBezTo>
                  <a:pt x="12471" y="12975"/>
                  <a:pt x="12557" y="12935"/>
                  <a:pt x="12601" y="12923"/>
                </a:cubicBezTo>
                <a:cubicBezTo>
                  <a:pt x="12643" y="12912"/>
                  <a:pt x="12708" y="12904"/>
                  <a:pt x="12750" y="12898"/>
                </a:cubicBezTo>
                <a:cubicBezTo>
                  <a:pt x="12802" y="12891"/>
                  <a:pt x="12857" y="12942"/>
                  <a:pt x="12898" y="12973"/>
                </a:cubicBezTo>
                <a:cubicBezTo>
                  <a:pt x="12952" y="13014"/>
                  <a:pt x="12945" y="13063"/>
                  <a:pt x="12948" y="13122"/>
                </a:cubicBezTo>
                <a:cubicBezTo>
                  <a:pt x="12951" y="13193"/>
                  <a:pt x="12911" y="13263"/>
                  <a:pt x="12874" y="13320"/>
                </a:cubicBezTo>
                <a:cubicBezTo>
                  <a:pt x="12806" y="13423"/>
                  <a:pt x="12727" y="13461"/>
                  <a:pt x="12626" y="13519"/>
                </a:cubicBezTo>
                <a:cubicBezTo>
                  <a:pt x="12558" y="13558"/>
                  <a:pt x="12452" y="13648"/>
                  <a:pt x="12378" y="13667"/>
                </a:cubicBezTo>
                <a:cubicBezTo>
                  <a:pt x="12310" y="13685"/>
                  <a:pt x="12233" y="13653"/>
                  <a:pt x="12179" y="13643"/>
                </a:cubicBezTo>
                <a:cubicBezTo>
                  <a:pt x="12105" y="13629"/>
                  <a:pt x="12116" y="13607"/>
                  <a:pt x="12055" y="13568"/>
                </a:cubicBezTo>
                <a:cubicBezTo>
                  <a:pt x="12024" y="13548"/>
                  <a:pt x="12000" y="13538"/>
                  <a:pt x="11981" y="13519"/>
                </a:cubicBezTo>
                <a:cubicBezTo>
                  <a:pt x="12035" y="13498"/>
                  <a:pt x="12091" y="13489"/>
                  <a:pt x="12154" y="13469"/>
                </a:cubicBezTo>
                <a:cubicBezTo>
                  <a:pt x="12250" y="13439"/>
                  <a:pt x="12334" y="13440"/>
                  <a:pt x="12427" y="13419"/>
                </a:cubicBezTo>
                <a:cubicBezTo>
                  <a:pt x="12492" y="13404"/>
                  <a:pt x="12584" y="13399"/>
                  <a:pt x="12650" y="13444"/>
                </a:cubicBezTo>
                <a:cubicBezTo>
                  <a:pt x="12708" y="13484"/>
                  <a:pt x="12763" y="13533"/>
                  <a:pt x="12799" y="13593"/>
                </a:cubicBezTo>
                <a:cubicBezTo>
                  <a:pt x="12817" y="13622"/>
                  <a:pt x="12858" y="13706"/>
                  <a:pt x="12898" y="13717"/>
                </a:cubicBezTo>
                <a:cubicBezTo>
                  <a:pt x="12920" y="13723"/>
                  <a:pt x="12950" y="13714"/>
                  <a:pt x="12973" y="13717"/>
                </a:cubicBezTo>
              </a:path>
              <a:path w="18381" h="3424">
                <a:moveTo>
                  <a:pt x="13295" y="13717"/>
                </a:moveTo>
                <a:cubicBezTo>
                  <a:pt x="13295" y="13769"/>
                  <a:pt x="13322" y="13734"/>
                  <a:pt x="13345" y="13717"/>
                </a:cubicBezTo>
              </a:path>
              <a:path w="18381" h="3424">
                <a:moveTo>
                  <a:pt x="13568" y="12923"/>
                </a:moveTo>
                <a:cubicBezTo>
                  <a:pt x="13641" y="12923"/>
                  <a:pt x="13693" y="12945"/>
                  <a:pt x="13767" y="12948"/>
                </a:cubicBezTo>
                <a:cubicBezTo>
                  <a:pt x="13825" y="12950"/>
                  <a:pt x="13953" y="12954"/>
                  <a:pt x="13990" y="12998"/>
                </a:cubicBezTo>
                <a:cubicBezTo>
                  <a:pt x="14050" y="13068"/>
                  <a:pt x="13976" y="13208"/>
                  <a:pt x="13940" y="13271"/>
                </a:cubicBezTo>
                <a:cubicBezTo>
                  <a:pt x="13868" y="13397"/>
                  <a:pt x="13801" y="13509"/>
                  <a:pt x="13742" y="13643"/>
                </a:cubicBezTo>
                <a:cubicBezTo>
                  <a:pt x="13734" y="13661"/>
                  <a:pt x="13661" y="13767"/>
                  <a:pt x="13692" y="13791"/>
                </a:cubicBezTo>
                <a:cubicBezTo>
                  <a:pt x="13700" y="13791"/>
                  <a:pt x="13709" y="13791"/>
                  <a:pt x="13717" y="13791"/>
                </a:cubicBezTo>
              </a:path>
              <a:path w="18381" h="3424">
                <a:moveTo>
                  <a:pt x="14660" y="13022"/>
                </a:moveTo>
                <a:cubicBezTo>
                  <a:pt x="14631" y="13061"/>
                  <a:pt x="14610" y="13099"/>
                  <a:pt x="14585" y="13146"/>
                </a:cubicBezTo>
                <a:cubicBezTo>
                  <a:pt x="14543" y="13225"/>
                  <a:pt x="14528" y="13317"/>
                  <a:pt x="14486" y="13395"/>
                </a:cubicBezTo>
                <a:cubicBezTo>
                  <a:pt x="14441" y="13477"/>
                  <a:pt x="14405" y="13559"/>
                  <a:pt x="14362" y="13643"/>
                </a:cubicBezTo>
                <a:cubicBezTo>
                  <a:pt x="14334" y="13699"/>
                  <a:pt x="14298" y="13721"/>
                  <a:pt x="14263" y="13767"/>
                </a:cubicBezTo>
              </a:path>
              <a:path w="18381" h="3424">
                <a:moveTo>
                  <a:pt x="14858" y="13519"/>
                </a:moveTo>
                <a:cubicBezTo>
                  <a:pt x="14913" y="13519"/>
                  <a:pt x="14786" y="13531"/>
                  <a:pt x="14759" y="13543"/>
                </a:cubicBezTo>
                <a:cubicBezTo>
                  <a:pt x="14685" y="13575"/>
                  <a:pt x="14591" y="13578"/>
                  <a:pt x="14511" y="13593"/>
                </a:cubicBezTo>
                <a:cubicBezTo>
                  <a:pt x="14486" y="13593"/>
                  <a:pt x="14478" y="13593"/>
                  <a:pt x="14461" y="13593"/>
                </a:cubicBezTo>
                <a:cubicBezTo>
                  <a:pt x="14490" y="13651"/>
                  <a:pt x="14567" y="13668"/>
                  <a:pt x="14635" y="13692"/>
                </a:cubicBezTo>
                <a:cubicBezTo>
                  <a:pt x="14702" y="13715"/>
                  <a:pt x="14774" y="13749"/>
                  <a:pt x="14833" y="13767"/>
                </a:cubicBezTo>
                <a:cubicBezTo>
                  <a:pt x="14875" y="13780"/>
                  <a:pt x="14868" y="13762"/>
                  <a:pt x="14908" y="13791"/>
                </a:cubicBezTo>
              </a:path>
              <a:path w="18381" h="3424">
                <a:moveTo>
                  <a:pt x="15379" y="13221"/>
                </a:moveTo>
                <a:cubicBezTo>
                  <a:pt x="15427" y="13185"/>
                  <a:pt x="15473" y="13190"/>
                  <a:pt x="15528" y="13171"/>
                </a:cubicBezTo>
                <a:cubicBezTo>
                  <a:pt x="15601" y="13146"/>
                  <a:pt x="15676" y="13137"/>
                  <a:pt x="15751" y="13122"/>
                </a:cubicBezTo>
                <a:cubicBezTo>
                  <a:pt x="15784" y="13122"/>
                  <a:pt x="15800" y="13122"/>
                  <a:pt x="15825" y="13122"/>
                </a:cubicBezTo>
              </a:path>
              <a:path w="18381" h="3424">
                <a:moveTo>
                  <a:pt x="15627" y="13171"/>
                </a:moveTo>
                <a:cubicBezTo>
                  <a:pt x="15599" y="13273"/>
                  <a:pt x="15594" y="13366"/>
                  <a:pt x="15577" y="13469"/>
                </a:cubicBezTo>
                <a:cubicBezTo>
                  <a:pt x="15555" y="13602"/>
                  <a:pt x="15521" y="13694"/>
                  <a:pt x="15429" y="13791"/>
                </a:cubicBezTo>
                <a:cubicBezTo>
                  <a:pt x="15364" y="13860"/>
                  <a:pt x="15299" y="13886"/>
                  <a:pt x="15205" y="13891"/>
                </a:cubicBezTo>
                <a:cubicBezTo>
                  <a:pt x="15137" y="13895"/>
                  <a:pt x="15131" y="13875"/>
                  <a:pt x="15131" y="13816"/>
                </a:cubicBezTo>
              </a:path>
              <a:path w="18381" h="3424">
                <a:moveTo>
                  <a:pt x="11361" y="14932"/>
                </a:moveTo>
                <a:cubicBezTo>
                  <a:pt x="11408" y="14932"/>
                  <a:pt x="11422" y="14935"/>
                  <a:pt x="11460" y="14908"/>
                </a:cubicBezTo>
                <a:cubicBezTo>
                  <a:pt x="11419" y="14918"/>
                  <a:pt x="11403" y="14952"/>
                  <a:pt x="11361" y="14957"/>
                </a:cubicBezTo>
                <a:cubicBezTo>
                  <a:pt x="11316" y="14962"/>
                  <a:pt x="11333" y="14973"/>
                  <a:pt x="11361" y="14982"/>
                </a:cubicBezTo>
              </a:path>
              <a:path w="18381" h="3424">
                <a:moveTo>
                  <a:pt x="12353" y="14560"/>
                </a:moveTo>
                <a:cubicBezTo>
                  <a:pt x="12385" y="14522"/>
                  <a:pt x="12437" y="14481"/>
                  <a:pt x="12378" y="14461"/>
                </a:cubicBezTo>
                <a:cubicBezTo>
                  <a:pt x="12280" y="14485"/>
                  <a:pt x="12264" y="14563"/>
                  <a:pt x="12204" y="14635"/>
                </a:cubicBezTo>
                <a:cubicBezTo>
                  <a:pt x="12125" y="14730"/>
                  <a:pt x="12035" y="14846"/>
                  <a:pt x="12055" y="14982"/>
                </a:cubicBezTo>
                <a:cubicBezTo>
                  <a:pt x="12073" y="15099"/>
                  <a:pt x="12163" y="15106"/>
                  <a:pt x="12254" y="15081"/>
                </a:cubicBezTo>
                <a:cubicBezTo>
                  <a:pt x="12359" y="15052"/>
                  <a:pt x="12469" y="14968"/>
                  <a:pt x="12502" y="14858"/>
                </a:cubicBezTo>
                <a:cubicBezTo>
                  <a:pt x="12527" y="14775"/>
                  <a:pt x="12486" y="14682"/>
                  <a:pt x="12452" y="14610"/>
                </a:cubicBezTo>
                <a:cubicBezTo>
                  <a:pt x="12424" y="14552"/>
                  <a:pt x="12412" y="14547"/>
                  <a:pt x="12353" y="14536"/>
                </a:cubicBezTo>
              </a:path>
              <a:path w="18381" h="3424">
                <a:moveTo>
                  <a:pt x="13022" y="14734"/>
                </a:moveTo>
                <a:cubicBezTo>
                  <a:pt x="12989" y="14708"/>
                  <a:pt x="12945" y="14693"/>
                  <a:pt x="12898" y="14709"/>
                </a:cubicBezTo>
                <a:cubicBezTo>
                  <a:pt x="12831" y="14732"/>
                  <a:pt x="12798" y="14821"/>
                  <a:pt x="12774" y="14883"/>
                </a:cubicBezTo>
                <a:cubicBezTo>
                  <a:pt x="12746" y="14955"/>
                  <a:pt x="12724" y="15052"/>
                  <a:pt x="12799" y="15106"/>
                </a:cubicBezTo>
                <a:cubicBezTo>
                  <a:pt x="12886" y="15168"/>
                  <a:pt x="12968" y="15121"/>
                  <a:pt x="13047" y="15081"/>
                </a:cubicBezTo>
                <a:cubicBezTo>
                  <a:pt x="13138" y="15035"/>
                  <a:pt x="13164" y="14949"/>
                  <a:pt x="13196" y="14858"/>
                </a:cubicBezTo>
                <a:cubicBezTo>
                  <a:pt x="13213" y="14811"/>
                  <a:pt x="13256" y="14696"/>
                  <a:pt x="13196" y="14660"/>
                </a:cubicBezTo>
                <a:cubicBezTo>
                  <a:pt x="13169" y="14644"/>
                  <a:pt x="13115" y="14677"/>
                  <a:pt x="13097" y="14684"/>
                </a:cubicBezTo>
              </a:path>
              <a:path w="18381" h="3424">
                <a:moveTo>
                  <a:pt x="14039" y="14660"/>
                </a:moveTo>
                <a:cubicBezTo>
                  <a:pt x="14039" y="14604"/>
                  <a:pt x="14046" y="14579"/>
                  <a:pt x="13990" y="14560"/>
                </a:cubicBezTo>
                <a:cubicBezTo>
                  <a:pt x="13920" y="14536"/>
                  <a:pt x="13751" y="14551"/>
                  <a:pt x="13692" y="14585"/>
                </a:cubicBezTo>
                <a:cubicBezTo>
                  <a:pt x="13639" y="14615"/>
                  <a:pt x="13629" y="14660"/>
                  <a:pt x="13667" y="14709"/>
                </a:cubicBezTo>
                <a:cubicBezTo>
                  <a:pt x="13723" y="14783"/>
                  <a:pt x="13811" y="14833"/>
                  <a:pt x="13866" y="14908"/>
                </a:cubicBezTo>
                <a:cubicBezTo>
                  <a:pt x="13905" y="14962"/>
                  <a:pt x="13937" y="15027"/>
                  <a:pt x="13891" y="15081"/>
                </a:cubicBezTo>
                <a:cubicBezTo>
                  <a:pt x="13838" y="15143"/>
                  <a:pt x="13772" y="15205"/>
                  <a:pt x="13692" y="15230"/>
                </a:cubicBezTo>
                <a:cubicBezTo>
                  <a:pt x="13667" y="15230"/>
                  <a:pt x="13659" y="15230"/>
                  <a:pt x="13643" y="15230"/>
                </a:cubicBezTo>
                <a:cubicBezTo>
                  <a:pt x="13661" y="15135"/>
                  <a:pt x="13709" y="15108"/>
                  <a:pt x="13767" y="15032"/>
                </a:cubicBezTo>
                <a:cubicBezTo>
                  <a:pt x="13839" y="14938"/>
                  <a:pt x="13930" y="14870"/>
                  <a:pt x="14015" y="14784"/>
                </a:cubicBezTo>
                <a:cubicBezTo>
                  <a:pt x="14056" y="14743"/>
                  <a:pt x="14095" y="14719"/>
                  <a:pt x="14139" y="14684"/>
                </a:cubicBezTo>
              </a:path>
              <a:path w="18381" h="3424">
                <a:moveTo>
                  <a:pt x="14412" y="14684"/>
                </a:moveTo>
                <a:cubicBezTo>
                  <a:pt x="14514" y="14633"/>
                  <a:pt x="14569" y="14635"/>
                  <a:pt x="14684" y="14635"/>
                </a:cubicBezTo>
                <a:cubicBezTo>
                  <a:pt x="14719" y="14635"/>
                  <a:pt x="14737" y="14640"/>
                  <a:pt x="14759" y="14660"/>
                </a:cubicBezTo>
                <a:cubicBezTo>
                  <a:pt x="14742" y="14743"/>
                  <a:pt x="14687" y="14794"/>
                  <a:pt x="14610" y="14833"/>
                </a:cubicBezTo>
                <a:cubicBezTo>
                  <a:pt x="14538" y="14869"/>
                  <a:pt x="14474" y="14895"/>
                  <a:pt x="14412" y="14932"/>
                </a:cubicBezTo>
                <a:cubicBezTo>
                  <a:pt x="14469" y="14932"/>
                  <a:pt x="14508" y="14948"/>
                  <a:pt x="14560" y="14957"/>
                </a:cubicBezTo>
                <a:cubicBezTo>
                  <a:pt x="14622" y="14967"/>
                  <a:pt x="14616" y="14963"/>
                  <a:pt x="14660" y="15007"/>
                </a:cubicBezTo>
                <a:cubicBezTo>
                  <a:pt x="14611" y="15068"/>
                  <a:pt x="14583" y="15117"/>
                  <a:pt x="14511" y="15156"/>
                </a:cubicBezTo>
                <a:cubicBezTo>
                  <a:pt x="14459" y="15185"/>
                  <a:pt x="14396" y="15224"/>
                  <a:pt x="14337" y="15230"/>
                </a:cubicBezTo>
                <a:cubicBezTo>
                  <a:pt x="14312" y="15230"/>
                  <a:pt x="14304" y="15230"/>
                  <a:pt x="14288" y="15230"/>
                </a:cubicBezTo>
              </a:path>
              <a:path w="18381" h="3424">
                <a:moveTo>
                  <a:pt x="15255" y="14684"/>
                </a:moveTo>
                <a:cubicBezTo>
                  <a:pt x="15232" y="14639"/>
                  <a:pt x="15225" y="14724"/>
                  <a:pt x="15205" y="14759"/>
                </a:cubicBezTo>
                <a:cubicBezTo>
                  <a:pt x="15146" y="14859"/>
                  <a:pt x="15118" y="14985"/>
                  <a:pt x="15056" y="15081"/>
                </a:cubicBezTo>
                <a:cubicBezTo>
                  <a:pt x="15014" y="15145"/>
                  <a:pt x="14973" y="15177"/>
                  <a:pt x="14957" y="15255"/>
                </a:cubicBezTo>
              </a:path>
              <a:path w="18381" h="3424">
                <a:moveTo>
                  <a:pt x="15627" y="14709"/>
                </a:moveTo>
                <a:cubicBezTo>
                  <a:pt x="15616" y="14676"/>
                  <a:pt x="15581" y="14668"/>
                  <a:pt x="15553" y="14709"/>
                </a:cubicBezTo>
                <a:cubicBezTo>
                  <a:pt x="15516" y="14763"/>
                  <a:pt x="15528" y="14821"/>
                  <a:pt x="15528" y="14883"/>
                </a:cubicBezTo>
                <a:cubicBezTo>
                  <a:pt x="15528" y="14953"/>
                  <a:pt x="15581" y="14991"/>
                  <a:pt x="15652" y="15007"/>
                </a:cubicBezTo>
                <a:cubicBezTo>
                  <a:pt x="15746" y="15028"/>
                  <a:pt x="15839" y="14996"/>
                  <a:pt x="15925" y="14982"/>
                </a:cubicBezTo>
                <a:cubicBezTo>
                  <a:pt x="15966" y="14982"/>
                  <a:pt x="15974" y="14982"/>
                  <a:pt x="15999" y="14982"/>
                </a:cubicBezTo>
              </a:path>
              <a:path w="18381" h="3424">
                <a:moveTo>
                  <a:pt x="16173" y="14610"/>
                </a:moveTo>
                <a:cubicBezTo>
                  <a:pt x="16089" y="14622"/>
                  <a:pt x="16072" y="14661"/>
                  <a:pt x="16024" y="14734"/>
                </a:cubicBezTo>
                <a:cubicBezTo>
                  <a:pt x="15956" y="14837"/>
                  <a:pt x="15876" y="14944"/>
                  <a:pt x="15825" y="15056"/>
                </a:cubicBezTo>
                <a:cubicBezTo>
                  <a:pt x="15791" y="15130"/>
                  <a:pt x="15738" y="15247"/>
                  <a:pt x="15677" y="15304"/>
                </a:cubicBezTo>
                <a:cubicBezTo>
                  <a:pt x="15633" y="15326"/>
                  <a:pt x="15621" y="15329"/>
                  <a:pt x="15602" y="15354"/>
                </a:cubicBezTo>
              </a:path>
              <a:path w="18381" h="3424">
                <a:moveTo>
                  <a:pt x="17909" y="13047"/>
                </a:moveTo>
                <a:cubicBezTo>
                  <a:pt x="17876" y="13031"/>
                  <a:pt x="17851" y="12996"/>
                  <a:pt x="17810" y="12998"/>
                </a:cubicBezTo>
                <a:cubicBezTo>
                  <a:pt x="17729" y="13002"/>
                  <a:pt x="17673" y="13051"/>
                  <a:pt x="17611" y="13097"/>
                </a:cubicBezTo>
                <a:cubicBezTo>
                  <a:pt x="17485" y="13190"/>
                  <a:pt x="17369" y="13274"/>
                  <a:pt x="17264" y="13395"/>
                </a:cubicBezTo>
                <a:cubicBezTo>
                  <a:pt x="17127" y="13552"/>
                  <a:pt x="17047" y="13692"/>
                  <a:pt x="16942" y="13866"/>
                </a:cubicBezTo>
                <a:cubicBezTo>
                  <a:pt x="16863" y="13998"/>
                  <a:pt x="16793" y="14115"/>
                  <a:pt x="16743" y="14263"/>
                </a:cubicBezTo>
                <a:cubicBezTo>
                  <a:pt x="16696" y="14404"/>
                  <a:pt x="16669" y="14536"/>
                  <a:pt x="16669" y="14684"/>
                </a:cubicBezTo>
                <a:cubicBezTo>
                  <a:pt x="16669" y="14805"/>
                  <a:pt x="16663" y="14918"/>
                  <a:pt x="16694" y="15032"/>
                </a:cubicBezTo>
                <a:cubicBezTo>
                  <a:pt x="16709" y="15089"/>
                  <a:pt x="16723" y="15149"/>
                  <a:pt x="16743" y="15205"/>
                </a:cubicBezTo>
              </a:path>
              <a:path w="18381" h="3424">
                <a:moveTo>
                  <a:pt x="18033" y="13419"/>
                </a:moveTo>
                <a:cubicBezTo>
                  <a:pt x="18033" y="13395"/>
                  <a:pt x="18033" y="13387"/>
                  <a:pt x="18058" y="13395"/>
                </a:cubicBezTo>
                <a:cubicBezTo>
                  <a:pt x="18016" y="13415"/>
                  <a:pt x="17954" y="13516"/>
                  <a:pt x="17934" y="13568"/>
                </a:cubicBezTo>
                <a:cubicBezTo>
                  <a:pt x="17890" y="13683"/>
                  <a:pt x="17836" y="13786"/>
                  <a:pt x="17785" y="13891"/>
                </a:cubicBezTo>
                <a:cubicBezTo>
                  <a:pt x="17762" y="13938"/>
                  <a:pt x="17745" y="14014"/>
                  <a:pt x="17735" y="14064"/>
                </a:cubicBezTo>
              </a:path>
              <a:path w="18381" h="3424">
                <a:moveTo>
                  <a:pt x="17115" y="14238"/>
                </a:moveTo>
                <a:cubicBezTo>
                  <a:pt x="17080" y="14218"/>
                  <a:pt x="17046" y="14203"/>
                  <a:pt x="17016" y="14188"/>
                </a:cubicBezTo>
                <a:cubicBezTo>
                  <a:pt x="17110" y="14188"/>
                  <a:pt x="17198" y="14207"/>
                  <a:pt x="17289" y="14213"/>
                </a:cubicBezTo>
                <a:cubicBezTo>
                  <a:pt x="17496" y="14227"/>
                  <a:pt x="17703" y="14252"/>
                  <a:pt x="17909" y="14263"/>
                </a:cubicBezTo>
                <a:cubicBezTo>
                  <a:pt x="18106" y="14274"/>
                  <a:pt x="18504" y="14198"/>
                  <a:pt x="18653" y="14288"/>
                </a:cubicBezTo>
              </a:path>
              <a:path w="18381" h="3424">
                <a:moveTo>
                  <a:pt x="17214" y="14560"/>
                </a:moveTo>
                <a:cubicBezTo>
                  <a:pt x="17228" y="14480"/>
                  <a:pt x="17275" y="14511"/>
                  <a:pt x="17363" y="14511"/>
                </a:cubicBezTo>
                <a:cubicBezTo>
                  <a:pt x="17415" y="14511"/>
                  <a:pt x="17508" y="14533"/>
                  <a:pt x="17537" y="14585"/>
                </a:cubicBezTo>
                <a:cubicBezTo>
                  <a:pt x="17537" y="14593"/>
                  <a:pt x="17537" y="14602"/>
                  <a:pt x="17537" y="14610"/>
                </a:cubicBezTo>
                <a:cubicBezTo>
                  <a:pt x="17502" y="14702"/>
                  <a:pt x="17406" y="14769"/>
                  <a:pt x="17314" y="14833"/>
                </a:cubicBezTo>
                <a:cubicBezTo>
                  <a:pt x="17260" y="14871"/>
                  <a:pt x="17225" y="14896"/>
                  <a:pt x="17165" y="14908"/>
                </a:cubicBezTo>
                <a:cubicBezTo>
                  <a:pt x="17259" y="14908"/>
                  <a:pt x="17351" y="14896"/>
                  <a:pt x="17438" y="14932"/>
                </a:cubicBezTo>
                <a:cubicBezTo>
                  <a:pt x="17512" y="14963"/>
                  <a:pt x="17539" y="15008"/>
                  <a:pt x="17487" y="15081"/>
                </a:cubicBezTo>
                <a:cubicBezTo>
                  <a:pt x="17436" y="15153"/>
                  <a:pt x="17365" y="15192"/>
                  <a:pt x="17289" y="15230"/>
                </a:cubicBezTo>
                <a:cubicBezTo>
                  <a:pt x="17262" y="15244"/>
                  <a:pt x="17175" y="15316"/>
                  <a:pt x="17140" y="15280"/>
                </a:cubicBezTo>
                <a:cubicBezTo>
                  <a:pt x="17140" y="15272"/>
                  <a:pt x="17140" y="15263"/>
                  <a:pt x="17140" y="15255"/>
                </a:cubicBezTo>
              </a:path>
              <a:path w="18381" h="3424">
                <a:moveTo>
                  <a:pt x="17909" y="14660"/>
                </a:moveTo>
                <a:cubicBezTo>
                  <a:pt x="17884" y="14660"/>
                  <a:pt x="17876" y="14660"/>
                  <a:pt x="17884" y="14635"/>
                </a:cubicBezTo>
                <a:cubicBezTo>
                  <a:pt x="17980" y="14635"/>
                  <a:pt x="18158" y="14602"/>
                  <a:pt x="18231" y="14660"/>
                </a:cubicBezTo>
                <a:cubicBezTo>
                  <a:pt x="18262" y="14684"/>
                  <a:pt x="18267" y="14746"/>
                  <a:pt x="18256" y="14784"/>
                </a:cubicBezTo>
                <a:cubicBezTo>
                  <a:pt x="18228" y="14877"/>
                  <a:pt x="18153" y="14971"/>
                  <a:pt x="18107" y="15056"/>
                </a:cubicBezTo>
                <a:cubicBezTo>
                  <a:pt x="18069" y="15126"/>
                  <a:pt x="18039" y="15188"/>
                  <a:pt x="18008" y="15255"/>
                </a:cubicBezTo>
                <a:cubicBezTo>
                  <a:pt x="17986" y="15277"/>
                  <a:pt x="17977" y="15282"/>
                  <a:pt x="17983" y="15304"/>
                </a:cubicBezTo>
              </a:path>
              <a:path w="18381" h="3424">
                <a:moveTo>
                  <a:pt x="18455" y="14808"/>
                </a:moveTo>
                <a:cubicBezTo>
                  <a:pt x="18531" y="14780"/>
                  <a:pt x="18595" y="14784"/>
                  <a:pt x="18678" y="14784"/>
                </a:cubicBezTo>
                <a:cubicBezTo>
                  <a:pt x="18737" y="14784"/>
                  <a:pt x="18783" y="14800"/>
                  <a:pt x="18827" y="14833"/>
                </a:cubicBezTo>
                <a:cubicBezTo>
                  <a:pt x="18798" y="14904"/>
                  <a:pt x="18747" y="14922"/>
                  <a:pt x="18678" y="14957"/>
                </a:cubicBezTo>
                <a:cubicBezTo>
                  <a:pt x="18625" y="14983"/>
                  <a:pt x="18596" y="15016"/>
                  <a:pt x="18554" y="15056"/>
                </a:cubicBezTo>
                <a:cubicBezTo>
                  <a:pt x="18593" y="15095"/>
                  <a:pt x="18623" y="15117"/>
                  <a:pt x="18678" y="15131"/>
                </a:cubicBezTo>
                <a:cubicBezTo>
                  <a:pt x="18708" y="15138"/>
                  <a:pt x="18752" y="15161"/>
                  <a:pt x="18728" y="15205"/>
                </a:cubicBezTo>
                <a:cubicBezTo>
                  <a:pt x="18704" y="15249"/>
                  <a:pt x="18645" y="15282"/>
                  <a:pt x="18604" y="15304"/>
                </a:cubicBezTo>
                <a:cubicBezTo>
                  <a:pt x="18547" y="15334"/>
                  <a:pt x="18486" y="15356"/>
                  <a:pt x="18430" y="15379"/>
                </a:cubicBezTo>
                <a:cubicBezTo>
                  <a:pt x="18389" y="15399"/>
                  <a:pt x="18383" y="15408"/>
                  <a:pt x="18355" y="15404"/>
                </a:cubicBezTo>
              </a:path>
              <a:path w="18381" h="3424">
                <a:moveTo>
                  <a:pt x="19571" y="14362"/>
                </a:moveTo>
                <a:cubicBezTo>
                  <a:pt x="19584" y="14402"/>
                  <a:pt x="19619" y="14387"/>
                  <a:pt x="19670" y="14387"/>
                </a:cubicBezTo>
                <a:cubicBezTo>
                  <a:pt x="19827" y="14387"/>
                  <a:pt x="19984" y="14387"/>
                  <a:pt x="20141" y="14387"/>
                </a:cubicBezTo>
              </a:path>
              <a:path w="18381" h="3424">
                <a:moveTo>
                  <a:pt x="21258" y="13643"/>
                </a:moveTo>
                <a:cubicBezTo>
                  <a:pt x="21203" y="13697"/>
                  <a:pt x="21165" y="13771"/>
                  <a:pt x="21134" y="13841"/>
                </a:cubicBezTo>
                <a:cubicBezTo>
                  <a:pt x="21092" y="13936"/>
                  <a:pt x="21025" y="14033"/>
                  <a:pt x="21010" y="14139"/>
                </a:cubicBezTo>
                <a:cubicBezTo>
                  <a:pt x="20999" y="14216"/>
                  <a:pt x="20985" y="14282"/>
                  <a:pt x="20985" y="14362"/>
                </a:cubicBezTo>
                <a:cubicBezTo>
                  <a:pt x="20985" y="14387"/>
                  <a:pt x="20985" y="14395"/>
                  <a:pt x="20985" y="14412"/>
                </a:cubicBezTo>
              </a:path>
              <a:path w="18381" h="3424">
                <a:moveTo>
                  <a:pt x="20414" y="14709"/>
                </a:moveTo>
                <a:cubicBezTo>
                  <a:pt x="20497" y="14678"/>
                  <a:pt x="20571" y="14684"/>
                  <a:pt x="20662" y="14684"/>
                </a:cubicBezTo>
                <a:cubicBezTo>
                  <a:pt x="20798" y="14684"/>
                  <a:pt x="20925" y="14723"/>
                  <a:pt x="21059" y="14734"/>
                </a:cubicBezTo>
                <a:cubicBezTo>
                  <a:pt x="21142" y="14741"/>
                  <a:pt x="21279" y="14731"/>
                  <a:pt x="21357" y="14759"/>
                </a:cubicBezTo>
                <a:cubicBezTo>
                  <a:pt x="21388" y="14770"/>
                  <a:pt x="21399" y="14787"/>
                  <a:pt x="21406" y="14808"/>
                </a:cubicBezTo>
              </a:path>
              <a:path w="18381" h="3424">
                <a:moveTo>
                  <a:pt x="20935" y="15180"/>
                </a:moveTo>
                <a:cubicBezTo>
                  <a:pt x="20952" y="15180"/>
                  <a:pt x="20968" y="15180"/>
                  <a:pt x="20985" y="15180"/>
                </a:cubicBezTo>
                <a:cubicBezTo>
                  <a:pt x="20931" y="15223"/>
                  <a:pt x="20870" y="15296"/>
                  <a:pt x="20811" y="15329"/>
                </a:cubicBezTo>
                <a:cubicBezTo>
                  <a:pt x="20725" y="15378"/>
                  <a:pt x="20629" y="15414"/>
                  <a:pt x="20538" y="15453"/>
                </a:cubicBezTo>
                <a:cubicBezTo>
                  <a:pt x="20494" y="15472"/>
                  <a:pt x="20460" y="15494"/>
                  <a:pt x="20414" y="15503"/>
                </a:cubicBezTo>
              </a:path>
              <a:path w="18381" h="3424">
                <a:moveTo>
                  <a:pt x="20513" y="15106"/>
                </a:moveTo>
                <a:cubicBezTo>
                  <a:pt x="20568" y="15137"/>
                  <a:pt x="20624" y="15176"/>
                  <a:pt x="20662" y="15230"/>
                </a:cubicBezTo>
                <a:cubicBezTo>
                  <a:pt x="20712" y="15301"/>
                  <a:pt x="20732" y="15383"/>
                  <a:pt x="20786" y="15453"/>
                </a:cubicBezTo>
                <a:cubicBezTo>
                  <a:pt x="20807" y="15480"/>
                  <a:pt x="20837" y="15504"/>
                  <a:pt x="20861" y="15528"/>
                </a:cubicBezTo>
              </a:path>
              <a:path w="18381" h="3424">
                <a:moveTo>
                  <a:pt x="21729" y="13370"/>
                </a:moveTo>
                <a:cubicBezTo>
                  <a:pt x="21747" y="13415"/>
                  <a:pt x="21758" y="13401"/>
                  <a:pt x="21779" y="13444"/>
                </a:cubicBezTo>
                <a:cubicBezTo>
                  <a:pt x="21847" y="13582"/>
                  <a:pt x="21946" y="13695"/>
                  <a:pt x="22002" y="13841"/>
                </a:cubicBezTo>
                <a:cubicBezTo>
                  <a:pt x="22084" y="14055"/>
                  <a:pt x="22094" y="14290"/>
                  <a:pt x="22027" y="14511"/>
                </a:cubicBezTo>
                <a:cubicBezTo>
                  <a:pt x="21949" y="14770"/>
                  <a:pt x="21785" y="14984"/>
                  <a:pt x="21605" y="15180"/>
                </a:cubicBezTo>
                <a:cubicBezTo>
                  <a:pt x="21477" y="15319"/>
                  <a:pt x="21312" y="15419"/>
                  <a:pt x="21158" y="15528"/>
                </a:cubicBezTo>
                <a:cubicBezTo>
                  <a:pt x="21093" y="15574"/>
                  <a:pt x="21041" y="15620"/>
                  <a:pt x="20985" y="156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17960" y="5045040"/>
            <a:ext cx="1617840" cy="46080"/>
          </a:xfrm>
          <a:custGeom>
            <a:avLst/>
            <a:gdLst/>
            <a:ahLst/>
            <a:rect l="l" t="t" r="r" b="b"/>
            <a:pathLst>
              <a:path w="4491" h="125">
                <a:moveTo>
                  <a:pt x="11187" y="14039"/>
                </a:moveTo>
                <a:cubicBezTo>
                  <a:pt x="11220" y="14039"/>
                  <a:pt x="11204" y="14039"/>
                  <a:pt x="11237" y="14039"/>
                </a:cubicBezTo>
                <a:cubicBezTo>
                  <a:pt x="11340" y="14039"/>
                  <a:pt x="11435" y="14023"/>
                  <a:pt x="11534" y="14015"/>
                </a:cubicBezTo>
                <a:cubicBezTo>
                  <a:pt x="11894" y="13987"/>
                  <a:pt x="12270" y="14014"/>
                  <a:pt x="12626" y="14039"/>
                </a:cubicBezTo>
                <a:cubicBezTo>
                  <a:pt x="12775" y="14049"/>
                  <a:pt x="12925" y="14052"/>
                  <a:pt x="13072" y="14064"/>
                </a:cubicBezTo>
                <a:cubicBezTo>
                  <a:pt x="13369" y="14088"/>
                  <a:pt x="13670" y="14059"/>
                  <a:pt x="13965" y="14089"/>
                </a:cubicBezTo>
                <a:cubicBezTo>
                  <a:pt x="14066" y="14099"/>
                  <a:pt x="14163" y="14128"/>
                  <a:pt x="14263" y="14139"/>
                </a:cubicBezTo>
                <a:cubicBezTo>
                  <a:pt x="14714" y="14190"/>
                  <a:pt x="15198" y="14139"/>
                  <a:pt x="15652" y="141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ges of st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aph of temperature versus heat applied is called a heating cu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erature a solid turns to a liquid is the melt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required to accomplish this change is called the Heat (or Enthalpy) of Fus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f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por Pres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9760" y="1206000"/>
            <a:ext cx="670536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porization - change from liquid to gas at boil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poration - change from liquid to gas below boil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51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(or Enthalpy) of Vaporization 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)- the energy required to vaporize 1 mol at 1 at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99080" y="3598920"/>
            <a:ext cx="2306880" cy="2652480"/>
          </a:xfrm>
          <a:custGeom>
            <a:avLst/>
            <a:gdLst/>
            <a:ahLst/>
            <a:rect l="l" t="t" r="r" b="b"/>
            <a:pathLst>
              <a:path w="1453" h="1671">
                <a:moveTo>
                  <a:pt x="431" y="0"/>
                </a:moveTo>
                <a:lnTo>
                  <a:pt x="1020" y="0"/>
                </a:lnTo>
                <a:lnTo>
                  <a:pt x="1020" y="98"/>
                </a:lnTo>
                <a:lnTo>
                  <a:pt x="954" y="98"/>
                </a:lnTo>
                <a:lnTo>
                  <a:pt x="954" y="450"/>
                </a:lnTo>
                <a:lnTo>
                  <a:pt x="1447" y="1593"/>
                </a:lnTo>
                <a:lnTo>
                  <a:pt x="1450" y="1600"/>
                </a:lnTo>
                <a:lnTo>
                  <a:pt x="1451" y="1607"/>
                </a:lnTo>
                <a:lnTo>
                  <a:pt x="1452" y="1614"/>
                </a:lnTo>
                <a:lnTo>
                  <a:pt x="1451" y="1623"/>
                </a:lnTo>
                <a:lnTo>
                  <a:pt x="1449" y="1631"/>
                </a:lnTo>
                <a:lnTo>
                  <a:pt x="1446" y="1638"/>
                </a:lnTo>
                <a:lnTo>
                  <a:pt x="1442" y="1645"/>
                </a:lnTo>
                <a:lnTo>
                  <a:pt x="1437" y="1651"/>
                </a:lnTo>
                <a:lnTo>
                  <a:pt x="1431" y="1657"/>
                </a:lnTo>
                <a:lnTo>
                  <a:pt x="1425" y="1661"/>
                </a:lnTo>
                <a:lnTo>
                  <a:pt x="1418" y="1665"/>
                </a:lnTo>
                <a:lnTo>
                  <a:pt x="1411" y="1668"/>
                </a:lnTo>
                <a:lnTo>
                  <a:pt x="1403" y="1669"/>
                </a:lnTo>
                <a:lnTo>
                  <a:pt x="1396" y="1669"/>
                </a:lnTo>
                <a:lnTo>
                  <a:pt x="60" y="1669"/>
                </a:lnTo>
                <a:lnTo>
                  <a:pt x="52" y="1670"/>
                </a:lnTo>
                <a:lnTo>
                  <a:pt x="44" y="1668"/>
                </a:lnTo>
                <a:lnTo>
                  <a:pt x="37" y="1667"/>
                </a:lnTo>
                <a:lnTo>
                  <a:pt x="29" y="1663"/>
                </a:lnTo>
                <a:lnTo>
                  <a:pt x="19" y="1655"/>
                </a:lnTo>
                <a:lnTo>
                  <a:pt x="12" y="1649"/>
                </a:lnTo>
                <a:lnTo>
                  <a:pt x="6" y="1640"/>
                </a:lnTo>
                <a:lnTo>
                  <a:pt x="2" y="1631"/>
                </a:lnTo>
                <a:lnTo>
                  <a:pt x="0" y="1620"/>
                </a:lnTo>
                <a:lnTo>
                  <a:pt x="0" y="1610"/>
                </a:lnTo>
                <a:lnTo>
                  <a:pt x="2" y="1599"/>
                </a:lnTo>
                <a:lnTo>
                  <a:pt x="6" y="1589"/>
                </a:lnTo>
                <a:lnTo>
                  <a:pt x="9" y="1582"/>
                </a:lnTo>
                <a:lnTo>
                  <a:pt x="17" y="1567"/>
                </a:lnTo>
                <a:lnTo>
                  <a:pt x="497" y="450"/>
                </a:lnTo>
                <a:lnTo>
                  <a:pt x="497" y="98"/>
                </a:lnTo>
                <a:lnTo>
                  <a:pt x="431" y="98"/>
                </a:lnTo>
                <a:lnTo>
                  <a:pt x="43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99080" y="5486400"/>
            <a:ext cx="2306880" cy="765000"/>
          </a:xfrm>
          <a:custGeom>
            <a:avLst/>
            <a:gdLst/>
            <a:ahLst/>
            <a:rect l="l" t="t" r="r" b="b"/>
            <a:pathLst>
              <a:path w="1453" h="482">
                <a:moveTo>
                  <a:pt x="1282" y="0"/>
                </a:moveTo>
                <a:lnTo>
                  <a:pt x="1447" y="404"/>
                </a:lnTo>
                <a:lnTo>
                  <a:pt x="1450" y="411"/>
                </a:lnTo>
                <a:lnTo>
                  <a:pt x="1451" y="418"/>
                </a:lnTo>
                <a:lnTo>
                  <a:pt x="1452" y="425"/>
                </a:lnTo>
                <a:lnTo>
                  <a:pt x="1451" y="434"/>
                </a:lnTo>
                <a:lnTo>
                  <a:pt x="1449" y="442"/>
                </a:lnTo>
                <a:lnTo>
                  <a:pt x="1446" y="449"/>
                </a:lnTo>
                <a:lnTo>
                  <a:pt x="1442" y="456"/>
                </a:lnTo>
                <a:lnTo>
                  <a:pt x="1437" y="462"/>
                </a:lnTo>
                <a:lnTo>
                  <a:pt x="1431" y="468"/>
                </a:lnTo>
                <a:lnTo>
                  <a:pt x="1425" y="472"/>
                </a:lnTo>
                <a:lnTo>
                  <a:pt x="1418" y="476"/>
                </a:lnTo>
                <a:lnTo>
                  <a:pt x="1411" y="479"/>
                </a:lnTo>
                <a:lnTo>
                  <a:pt x="1403" y="480"/>
                </a:lnTo>
                <a:lnTo>
                  <a:pt x="1396" y="480"/>
                </a:lnTo>
                <a:lnTo>
                  <a:pt x="60" y="480"/>
                </a:lnTo>
                <a:lnTo>
                  <a:pt x="52" y="481"/>
                </a:lnTo>
                <a:lnTo>
                  <a:pt x="44" y="479"/>
                </a:lnTo>
                <a:lnTo>
                  <a:pt x="37" y="478"/>
                </a:lnTo>
                <a:lnTo>
                  <a:pt x="29" y="474"/>
                </a:lnTo>
                <a:lnTo>
                  <a:pt x="19" y="466"/>
                </a:lnTo>
                <a:lnTo>
                  <a:pt x="12" y="460"/>
                </a:lnTo>
                <a:lnTo>
                  <a:pt x="6" y="451"/>
                </a:lnTo>
                <a:lnTo>
                  <a:pt x="2" y="442"/>
                </a:lnTo>
                <a:lnTo>
                  <a:pt x="0" y="431"/>
                </a:lnTo>
                <a:lnTo>
                  <a:pt x="0" y="421"/>
                </a:lnTo>
                <a:lnTo>
                  <a:pt x="2" y="410"/>
                </a:lnTo>
                <a:lnTo>
                  <a:pt x="6" y="400"/>
                </a:lnTo>
                <a:lnTo>
                  <a:pt x="9" y="393"/>
                </a:lnTo>
                <a:lnTo>
                  <a:pt x="17" y="378"/>
                </a:lnTo>
                <a:lnTo>
                  <a:pt x="178" y="0"/>
                </a:lnTo>
                <a:lnTo>
                  <a:pt x="1282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45360" y="56451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59760" y="56451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02560" y="58737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88160" y="595008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31520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8000640" y="5028840"/>
            <a:ext cx="1522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7696080" y="525744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0" y="5181120"/>
            <a:ext cx="2286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506520" y="1081080"/>
          <a:ext cx="8146800" cy="52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081080"/>
                    <a:ext cx="814680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2190600" y="628560"/>
            <a:ext cx="6458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0400" y="4700520"/>
            <a:ext cx="1094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4462560"/>
            <a:ext cx="2041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and 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51360" y="3551400"/>
            <a:ext cx="2019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81760" y="1747800"/>
            <a:ext cx="2176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and S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69160" y="1547640"/>
            <a:ext cx="15429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506520" y="1081080"/>
          <a:ext cx="8146800" cy="52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081080"/>
                    <a:ext cx="814680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2190600" y="628560"/>
            <a:ext cx="6458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63720" y="4295880"/>
            <a:ext cx="156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t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236560" y="2153880"/>
            <a:ext cx="2471040" cy="1340640"/>
            <a:chOff x="5236560" y="2153880"/>
            <a:chExt cx="2471040" cy="1340640"/>
          </a:xfrm>
        </p:grpSpPr>
        <p:sp>
          <p:nvSpPr>
            <p:cNvPr id="393" name=""/>
            <p:cNvSpPr/>
            <p:nvPr/>
          </p:nvSpPr>
          <p:spPr>
            <a:xfrm>
              <a:off x="5236560" y="2427120"/>
              <a:ext cx="2471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Heat o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Vaporizat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324480" y="2153880"/>
              <a:ext cx="50760" cy="493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1620360" y="1676520"/>
            <a:ext cx="5809320" cy="3695760"/>
            <a:chOff x="1620360" y="1676520"/>
            <a:chExt cx="5809320" cy="3695760"/>
          </a:xfrm>
        </p:grpSpPr>
        <p:sp>
          <p:nvSpPr>
            <p:cNvPr id="396" name=""/>
            <p:cNvSpPr/>
            <p:nvPr/>
          </p:nvSpPr>
          <p:spPr>
            <a:xfrm flipH="1">
              <a:off x="2057040" y="2068560"/>
              <a:ext cx="1017720" cy="33037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20360" y="1676520"/>
              <a:ext cx="3612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Slope is Heat Capacit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28840" y="2050920"/>
              <a:ext cx="1704960" cy="10731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167440" y="1714320"/>
              <a:ext cx="2262240" cy="115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ing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int is determined by the vapor pressure of the solid and the liqu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lting point the vapor pressure of the solid = vapor pressure of the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iling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hed when the vapor pressure equals the external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boiling point  is the boiling point at 1 atm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 heating - Heating above the boil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cooling - Cooling below the freez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ase Diagra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ot of temperature versus pressure for a closed system, with lines to indicate where there is a phase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430360" y="5927760"/>
            <a:ext cx="3505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1555920" y="-3657600"/>
            <a:ext cx="10141200" cy="9545760"/>
            <a:chOff x="-1555920" y="-3657600"/>
            <a:chExt cx="10141200" cy="9545760"/>
          </a:xfrm>
        </p:grpSpPr>
        <p:sp>
          <p:nvSpPr>
            <p:cNvPr id="408" name=""/>
            <p:cNvSpPr/>
            <p:nvPr/>
          </p:nvSpPr>
          <p:spPr>
            <a:xfrm>
              <a:off x="938160" y="482760"/>
              <a:ext cx="7647120" cy="540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43160" y="1486080"/>
              <a:ext cx="857520" cy="276192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1555920" y="2607840"/>
              <a:ext cx="5537160" cy="328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20009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200095"/>
                </a:path>
              </a:pathLst>
            </a:custGeom>
            <a:noFill/>
            <a:ln cap="rnd"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-154080" y="-3657600"/>
              <a:ext cx="8423280" cy="78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14" y="14845"/>
                  </a:moveTo>
                  <a:arcTo wR="10800" hR="10800" stAng="1319726" swAng="40802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14" y="14845"/>
                  </a:moveTo>
                  <a:arcTo wR="10800" hR="10800" stAng="1319726" swAng="4080274"/>
                </a:path>
              </a:pathLst>
            </a:custGeom>
            <a:noFill/>
            <a:ln cap="rnd"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76480" y="1536840"/>
              <a:ext cx="1009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Sol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67280" y="1765440"/>
              <a:ext cx="1485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Liqu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08600" y="5191200"/>
              <a:ext cx="100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Ga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920880" y="3043080"/>
            <a:ext cx="118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46d0"/>
                </a:solidFill>
                <a:latin typeface="Times New Roman"/>
              </a:rPr>
              <a:t>1 A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3257640"/>
            <a:ext cx="7410600" cy="0"/>
          </a:xfrm>
          <a:prstGeom prst="line">
            <a:avLst/>
          </a:prstGeom>
          <a:ln w="1260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941480" y="4417920"/>
            <a:ext cx="3303720" cy="657000"/>
            <a:chOff x="1941480" y="4417920"/>
            <a:chExt cx="3303720" cy="657000"/>
          </a:xfrm>
        </p:grpSpPr>
        <p:sp>
          <p:nvSpPr>
            <p:cNvPr id="418" name=""/>
            <p:cNvSpPr/>
            <p:nvPr/>
          </p:nvSpPr>
          <p:spPr>
            <a:xfrm>
              <a:off x="4730760" y="4417920"/>
              <a:ext cx="514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62320" y="4762440"/>
              <a:ext cx="240012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41480" y="4433760"/>
              <a:ext cx="514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749240" y="3319560"/>
            <a:ext cx="3896280" cy="552240"/>
            <a:chOff x="1749240" y="3319560"/>
            <a:chExt cx="3896280" cy="552240"/>
          </a:xfrm>
        </p:grpSpPr>
        <p:sp>
          <p:nvSpPr>
            <p:cNvPr id="422" name=""/>
            <p:cNvSpPr/>
            <p:nvPr/>
          </p:nvSpPr>
          <p:spPr>
            <a:xfrm>
              <a:off x="5224320" y="3352680"/>
              <a:ext cx="421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749240" y="3319560"/>
              <a:ext cx="3464280" cy="519120"/>
              <a:chOff x="1749240" y="3319560"/>
              <a:chExt cx="3464280" cy="519120"/>
            </a:xfrm>
          </p:grpSpPr>
          <p:sp>
            <p:nvSpPr>
              <p:cNvPr id="424" name=""/>
              <p:cNvSpPr/>
              <p:nvPr/>
            </p:nvSpPr>
            <p:spPr>
              <a:xfrm>
                <a:off x="2025720" y="3586320"/>
                <a:ext cx="3187800" cy="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749240" y="3319560"/>
                <a:ext cx="421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2106360" y="2655720"/>
            <a:ext cx="3896280" cy="552600"/>
            <a:chOff x="2106360" y="2655720"/>
            <a:chExt cx="3896280" cy="552600"/>
          </a:xfrm>
        </p:grpSpPr>
        <p:sp>
          <p:nvSpPr>
            <p:cNvPr id="427" name=""/>
            <p:cNvSpPr/>
            <p:nvPr/>
          </p:nvSpPr>
          <p:spPr>
            <a:xfrm>
              <a:off x="5581440" y="2689200"/>
              <a:ext cx="421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82840" y="2922480"/>
              <a:ext cx="318780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06360" y="2655720"/>
              <a:ext cx="421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6058080" y="2381400"/>
            <a:ext cx="62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3192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191280" y="1599840"/>
            <a:ext cx="0" cy="762120"/>
          </a:xfrm>
          <a:prstGeom prst="line">
            <a:avLst/>
          </a:prstGeom>
          <a:ln w="12600">
            <a:solidFill>
              <a:srgbClr val="d93192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05440" y="1141560"/>
            <a:ext cx="62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3192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343560" y="1371600"/>
            <a:ext cx="1676520" cy="38160"/>
          </a:xfrm>
          <a:prstGeom prst="line">
            <a:avLst/>
          </a:prstGeom>
          <a:ln w="12600">
            <a:solidFill>
              <a:srgbClr val="d93192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929720" y="1006560"/>
            <a:ext cx="62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3192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7981920" y="1542960"/>
            <a:ext cx="324000" cy="2152800"/>
          </a:xfrm>
          <a:prstGeom prst="line">
            <a:avLst/>
          </a:prstGeom>
          <a:ln w="12600">
            <a:solidFill>
              <a:srgbClr val="d93192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-116280" y="2193480"/>
            <a:ext cx="15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759800" y="3811680"/>
            <a:ext cx="62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3192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-1555920" y="-3657600"/>
            <a:ext cx="10141200" cy="9545760"/>
            <a:chOff x="-1555920" y="-3657600"/>
            <a:chExt cx="10141200" cy="9545760"/>
          </a:xfrm>
        </p:grpSpPr>
        <p:sp>
          <p:nvSpPr>
            <p:cNvPr id="439" name=""/>
            <p:cNvSpPr/>
            <p:nvPr/>
          </p:nvSpPr>
          <p:spPr>
            <a:xfrm>
              <a:off x="938160" y="482760"/>
              <a:ext cx="7647120" cy="540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43160" y="1486080"/>
              <a:ext cx="857520" cy="276192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1555920" y="2607840"/>
              <a:ext cx="5537160" cy="328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20009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200095"/>
                </a:path>
              </a:pathLst>
            </a:custGeom>
            <a:noFill/>
            <a:ln cap="rnd"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154080" y="-3657600"/>
              <a:ext cx="8423280" cy="78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14" y="14845"/>
                  </a:moveTo>
                  <a:arcTo wR="10800" hR="10800" stAng="1319726" swAng="40802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14" y="14845"/>
                  </a:moveTo>
                  <a:arcTo wR="10800" hR="10800" stAng="1319726" swAng="4080274"/>
                </a:path>
              </a:pathLst>
            </a:custGeom>
            <a:noFill/>
            <a:ln cap="rnd"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6480" y="1536840"/>
              <a:ext cx="1009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Sol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67280" y="1765440"/>
              <a:ext cx="1485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Liqu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08600" y="5191200"/>
              <a:ext cx="100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Ga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143160" y="1486080"/>
            <a:ext cx="857520" cy="276192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1555920" y="2607840"/>
            <a:ext cx="5537160" cy="328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4200095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4200095"/>
              </a:path>
            </a:pathLst>
          </a:custGeom>
          <a:noFill/>
          <a:ln cap="rnd"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154080" y="-3657600"/>
            <a:ext cx="8423280" cy="78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14" y="14845"/>
                </a:moveTo>
                <a:arcTo wR="10800" hR="10800" stAng="1319726" swAng="4080274"/>
                <a:lnTo>
                  <a:pt x="10800" y="10800"/>
                </a:lnTo>
                <a:close/>
              </a:path>
              <a:path fill="none" w="21600" h="21600">
                <a:moveTo>
                  <a:pt x="20814" y="14845"/>
                </a:moveTo>
                <a:arcTo wR="10800" hR="10800" stAng="1319726" swAng="4080274"/>
              </a:path>
            </a:pathLst>
          </a:custGeom>
          <a:noFill/>
          <a:ln cap="rnd"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352520" y="3905280"/>
            <a:ext cx="2590920" cy="945720"/>
            <a:chOff x="1352520" y="3905280"/>
            <a:chExt cx="2590920" cy="945720"/>
          </a:xfrm>
        </p:grpSpPr>
        <p:sp>
          <p:nvSpPr>
            <p:cNvPr id="450" name=""/>
            <p:cNvSpPr/>
            <p:nvPr/>
          </p:nvSpPr>
          <p:spPr>
            <a:xfrm>
              <a:off x="1352520" y="3905280"/>
              <a:ext cx="16574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b46d0"/>
                  </a:solidFill>
                  <a:latin typeface="Times New Roman"/>
                </a:rPr>
                <a:t>Triple Poi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33680" y="4247640"/>
              <a:ext cx="1409760" cy="209880"/>
            </a:xfrm>
            <a:prstGeom prst="line">
              <a:avLst/>
            </a:prstGeom>
            <a:ln w="12600">
              <a:solidFill>
                <a:srgbClr val="7b46d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753160" y="1238400"/>
            <a:ext cx="2152440" cy="945720"/>
            <a:chOff x="5753160" y="1238400"/>
            <a:chExt cx="2152440" cy="945720"/>
          </a:xfrm>
        </p:grpSpPr>
        <p:sp>
          <p:nvSpPr>
            <p:cNvPr id="453" name=""/>
            <p:cNvSpPr/>
            <p:nvPr/>
          </p:nvSpPr>
          <p:spPr>
            <a:xfrm>
              <a:off x="5753160" y="1238400"/>
              <a:ext cx="16574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b46d0"/>
                  </a:solidFill>
                  <a:latin typeface="Times New Roman"/>
                </a:rPr>
                <a:t>Critical Poi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86600" y="1542960"/>
              <a:ext cx="819000" cy="190440"/>
            </a:xfrm>
            <a:prstGeom prst="line">
              <a:avLst/>
            </a:prstGeom>
            <a:ln w="12600">
              <a:solidFill>
                <a:srgbClr val="7b46d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430360" y="5927760"/>
            <a:ext cx="3505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-116280" y="2193480"/>
            <a:ext cx="15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point where the liquid phase of a substance cannot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al temperature and critical pressure denote this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-1555920" y="-3657600"/>
            <a:ext cx="10141200" cy="9545760"/>
            <a:chOff x="-1555920" y="-3657600"/>
            <a:chExt cx="10141200" cy="9545760"/>
          </a:xfrm>
        </p:grpSpPr>
        <p:sp>
          <p:nvSpPr>
            <p:cNvPr id="460" name=""/>
            <p:cNvSpPr/>
            <p:nvPr/>
          </p:nvSpPr>
          <p:spPr>
            <a:xfrm>
              <a:off x="938160" y="482760"/>
              <a:ext cx="7647120" cy="540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43160" y="1486080"/>
              <a:ext cx="857520" cy="276192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-1555920" y="2607840"/>
              <a:ext cx="5537160" cy="328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20009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200095"/>
                </a:path>
              </a:pathLst>
            </a:custGeom>
            <a:noFill/>
            <a:ln cap="rnd"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154080" y="-3657600"/>
              <a:ext cx="8423280" cy="78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14" y="14845"/>
                  </a:moveTo>
                  <a:arcTo wR="10800" hR="10800" stAng="1319726" swAng="40802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14" y="14845"/>
                  </a:moveTo>
                  <a:arcTo wR="10800" hR="10800" stAng="1319726" swAng="4080274"/>
                </a:path>
              </a:pathLst>
            </a:custGeom>
            <a:noFill/>
            <a:ln cap="rnd"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76480" y="1536840"/>
              <a:ext cx="1009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Sol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67280" y="1765440"/>
              <a:ext cx="1485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Liqu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08600" y="5191200"/>
              <a:ext cx="100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Ga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3143160" y="1486080"/>
            <a:ext cx="857520" cy="276192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-1555920" y="2607840"/>
            <a:ext cx="5537160" cy="328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4200095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4200095"/>
              </a:path>
            </a:pathLst>
          </a:custGeom>
          <a:noFill/>
          <a:ln cap="rnd"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-154080" y="-3657600"/>
            <a:ext cx="8423280" cy="78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14" y="14845"/>
                </a:moveTo>
                <a:arcTo wR="10800" hR="10800" stAng="1319726" swAng="4080274"/>
                <a:lnTo>
                  <a:pt x="10800" y="10800"/>
                </a:lnTo>
                <a:close/>
              </a:path>
              <a:path fill="none" w="21600" h="21600">
                <a:moveTo>
                  <a:pt x="20814" y="14845"/>
                </a:moveTo>
                <a:arcTo wR="10800" hR="10800" stAng="1319726" swAng="4080274"/>
              </a:path>
            </a:pathLst>
          </a:custGeom>
          <a:noFill/>
          <a:ln cap="rnd"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36520" y="1508040"/>
            <a:ext cx="147960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948960" y="39996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s is the phase diagram for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density of liquid water is higher than solid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30360" y="5927760"/>
            <a:ext cx="3505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16200000">
            <a:off x="-116280" y="2193480"/>
            <a:ext cx="15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838080" y="476280"/>
            <a:ext cx="7753320" cy="55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000320" y="1238400"/>
            <a:ext cx="533160" cy="30096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-1555920" y="2607840"/>
            <a:ext cx="5537160" cy="328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4200095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4200095"/>
              </a:path>
            </a:pathLst>
          </a:custGeom>
          <a:noFill/>
          <a:ln cap="rnd"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-154080" y="-3657600"/>
            <a:ext cx="8423280" cy="78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14" y="14845"/>
                </a:moveTo>
                <a:arcTo wR="10800" hR="10800" stAng="1319726" swAng="4080274"/>
                <a:lnTo>
                  <a:pt x="10800" y="10800"/>
                </a:lnTo>
                <a:close/>
              </a:path>
              <a:path fill="none" w="21600" h="21600">
                <a:moveTo>
                  <a:pt x="20814" y="14845"/>
                </a:moveTo>
                <a:arcTo wR="10800" hR="10800" stAng="1319726" swAng="4080274"/>
              </a:path>
            </a:pathLst>
          </a:custGeom>
          <a:noFill/>
          <a:ln cap="rnd"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90640" y="2438280"/>
            <a:ext cx="100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29240" y="2343240"/>
            <a:ext cx="148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86480" y="4952880"/>
            <a:ext cx="100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95320" y="4286160"/>
            <a:ext cx="144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46d0"/>
                </a:solidFill>
                <a:latin typeface="Times New Roman"/>
              </a:rPr>
              <a:t>1 A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90720" y="4705200"/>
            <a:ext cx="7410240" cy="0"/>
          </a:xfrm>
          <a:prstGeom prst="line">
            <a:avLst/>
          </a:prstGeom>
          <a:ln w="1260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746280" y="533520"/>
            <a:ext cx="7975440" cy="168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is is the phase diagram for  CO</a:t>
            </a:r>
            <a:r>
              <a:rPr b="0" lang="en-US" sz="3000" spc="-1" strike="noStrike" baseline="-25000">
                <a:solidFill>
                  <a:srgbClr val="000099"/>
                </a:solidFill>
                <a:latin typeface="Arial"/>
              </a:rPr>
              <a:t>2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e solid is more dense than the liqu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e solid sublimes at 1 at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30360" y="5927760"/>
            <a:ext cx="3505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16280" y="2193480"/>
            <a:ext cx="15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porization is an endothermic process - it requires h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is required to overcome intermolecular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e swea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molecular fo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molecules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) the  atoms are bonded to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molecular refers to the forces between the molec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what hold the molecules together in the condensed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molecular fo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when compared to ionic and covalent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pole dip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don dispersion fo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hase changes the molecules stay int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used to overcome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pole - Dip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line up in the presence of a electric field. The opposite ends of  the dipole can attract each other so the molecules stay clos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% as strong as covalent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er with greater di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role in g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2269800" y="922320"/>
            <a:ext cx="4740480" cy="609480"/>
            <a:chOff x="2269800" y="922320"/>
            <a:chExt cx="4740480" cy="609480"/>
          </a:xfrm>
        </p:grpSpPr>
        <p:grpSp>
          <p:nvGrpSpPr>
            <p:cNvPr id="493" name=""/>
            <p:cNvGrpSpPr/>
            <p:nvPr/>
          </p:nvGrpSpPr>
          <p:grpSpPr>
            <a:xfrm>
              <a:off x="2269800" y="922320"/>
              <a:ext cx="1616400" cy="609480"/>
              <a:chOff x="2269800" y="922320"/>
              <a:chExt cx="1616400" cy="609480"/>
            </a:xfrm>
          </p:grpSpPr>
          <p:sp>
            <p:nvSpPr>
              <p:cNvPr id="494" name=""/>
              <p:cNvSpPr/>
              <p:nvPr/>
            </p:nvSpPr>
            <p:spPr>
              <a:xfrm>
                <a:off x="2286000" y="922320"/>
                <a:ext cx="16002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336840" y="93816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269800" y="96840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393880" y="922320"/>
              <a:ext cx="1616400" cy="609480"/>
              <a:chOff x="5393880" y="922320"/>
              <a:chExt cx="1616400" cy="609480"/>
            </a:xfrm>
          </p:grpSpPr>
          <p:sp>
            <p:nvSpPr>
              <p:cNvPr id="498" name=""/>
              <p:cNvSpPr/>
              <p:nvPr/>
            </p:nvSpPr>
            <p:spPr>
              <a:xfrm>
                <a:off x="5410080" y="922320"/>
                <a:ext cx="16002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461280" y="93816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93880" y="96840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3886200" y="1219320"/>
              <a:ext cx="1523880" cy="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031760" y="1841760"/>
            <a:ext cx="7186320" cy="4318560"/>
            <a:chOff x="1031760" y="1841760"/>
            <a:chExt cx="7186320" cy="4318560"/>
          </a:xfrm>
        </p:grpSpPr>
        <p:sp>
          <p:nvSpPr>
            <p:cNvPr id="503" name=""/>
            <p:cNvSpPr/>
            <p:nvPr/>
          </p:nvSpPr>
          <p:spPr>
            <a:xfrm flipV="1">
              <a:off x="1752480" y="2819160"/>
              <a:ext cx="990720" cy="6858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743200" y="2819520"/>
              <a:ext cx="0" cy="167616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4038120" y="3200400"/>
              <a:ext cx="1676520" cy="2286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962520" y="3276360"/>
              <a:ext cx="0" cy="11430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52480" y="3505320"/>
              <a:ext cx="2133720" cy="83952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447920" y="4572000"/>
              <a:ext cx="0" cy="129528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47920" y="4572000"/>
              <a:ext cx="1371600" cy="7632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590920" y="4647960"/>
              <a:ext cx="228600" cy="99036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590920" y="5181480"/>
              <a:ext cx="1981080" cy="4572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876920" y="4952520"/>
              <a:ext cx="2057400" cy="2286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5789160" y="4494240"/>
              <a:ext cx="1220760" cy="45864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5713560" y="3274560"/>
              <a:ext cx="2211120" cy="9162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7086600" y="2895120"/>
              <a:ext cx="838080" cy="129564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895480" y="2133720"/>
              <a:ext cx="3276720" cy="6858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866920" y="5029200"/>
              <a:ext cx="1143000" cy="45720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590920" y="5562720"/>
              <a:ext cx="3047760" cy="15228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666880" y="4419720"/>
              <a:ext cx="1371600" cy="114300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4495320" y="4572000"/>
              <a:ext cx="1219320" cy="60948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648320"/>
              <a:ext cx="1828800" cy="53316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95280" y="4572000"/>
              <a:ext cx="1295640" cy="99072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52480" y="3505320"/>
              <a:ext cx="1067040" cy="114300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38480" y="3276720"/>
              <a:ext cx="1600200" cy="121896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3962520" y="2133360"/>
              <a:ext cx="2209680" cy="114300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867280" y="2209680"/>
              <a:ext cx="381240" cy="99072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867280" y="4191120"/>
              <a:ext cx="1905120" cy="38088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67280" y="3352680"/>
              <a:ext cx="1143000" cy="152424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114440" y="3429000"/>
              <a:ext cx="1600200" cy="91440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14800" y="4495680"/>
              <a:ext cx="1600200" cy="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4038480" y="4495320"/>
              <a:ext cx="533520" cy="76212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676520" y="3276360"/>
              <a:ext cx="2286000" cy="22860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5791320" y="2819160"/>
              <a:ext cx="1371600" cy="53316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523960" y="2407320"/>
              <a:ext cx="1700640" cy="1290600"/>
              <a:chOff x="2523960" y="2407320"/>
              <a:chExt cx="1700640" cy="1290600"/>
            </a:xfrm>
          </p:grpSpPr>
          <p:sp>
            <p:nvSpPr>
              <p:cNvPr id="535" name=""/>
              <p:cNvSpPr/>
              <p:nvPr/>
            </p:nvSpPr>
            <p:spPr>
              <a:xfrm rot="12480000">
                <a:off x="2573280" y="2747520"/>
                <a:ext cx="1602000" cy="60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2480000">
                <a:off x="2756520" y="254232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2480000">
                <a:off x="3808800" y="310176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5943240" y="1841760"/>
              <a:ext cx="1597320" cy="1523880"/>
              <a:chOff x="5943240" y="1841760"/>
              <a:chExt cx="1597320" cy="1523880"/>
            </a:xfrm>
          </p:grpSpPr>
          <p:sp>
            <p:nvSpPr>
              <p:cNvPr id="539" name=""/>
              <p:cNvSpPr/>
              <p:nvPr/>
            </p:nvSpPr>
            <p:spPr>
              <a:xfrm rot="2520000">
                <a:off x="5941800" y="2298600"/>
                <a:ext cx="1600200" cy="60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520000">
                <a:off x="6873480" y="262404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520000">
                <a:off x="6095880" y="189864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6609240" y="3828240"/>
              <a:ext cx="1608840" cy="1510920"/>
              <a:chOff x="6609240" y="3828240"/>
              <a:chExt cx="1608840" cy="1510920"/>
            </a:xfrm>
          </p:grpSpPr>
          <p:sp>
            <p:nvSpPr>
              <p:cNvPr id="543" name=""/>
              <p:cNvSpPr/>
              <p:nvPr/>
            </p:nvSpPr>
            <p:spPr>
              <a:xfrm rot="19140000">
                <a:off x="6613200" y="4277880"/>
                <a:ext cx="1600200" cy="61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8340000">
                <a:off x="6852240" y="459648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8340000">
                <a:off x="7762680" y="388584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365360" y="4955040"/>
              <a:ext cx="1700280" cy="927360"/>
              <a:chOff x="4365360" y="4955040"/>
              <a:chExt cx="1700280" cy="927360"/>
            </a:xfrm>
          </p:grpSpPr>
          <p:sp>
            <p:nvSpPr>
              <p:cNvPr id="547" name=""/>
              <p:cNvSpPr/>
              <p:nvPr/>
            </p:nvSpPr>
            <p:spPr>
              <a:xfrm rot="720000">
                <a:off x="4419360" y="5114520"/>
                <a:ext cx="1600200" cy="60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720000">
                <a:off x="5459040" y="522432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720000">
                <a:off x="4415760" y="502092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5440320" y="3086280"/>
              <a:ext cx="609480" cy="1615680"/>
              <a:chOff x="5440320" y="3086280"/>
              <a:chExt cx="609480" cy="1615680"/>
            </a:xfrm>
          </p:grpSpPr>
          <p:sp>
            <p:nvSpPr>
              <p:cNvPr id="551" name=""/>
              <p:cNvSpPr/>
              <p:nvPr/>
            </p:nvSpPr>
            <p:spPr>
              <a:xfrm>
                <a:off x="5440320" y="3086280"/>
                <a:ext cx="609480" cy="160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6200000">
                <a:off x="5533200" y="313524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5592600" y="429048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17560" y="4064760"/>
              <a:ext cx="1690200" cy="876600"/>
              <a:chOff x="2617560" y="4064760"/>
              <a:chExt cx="1690200" cy="876600"/>
            </a:xfrm>
          </p:grpSpPr>
          <p:sp>
            <p:nvSpPr>
              <p:cNvPr id="555" name=""/>
              <p:cNvSpPr/>
              <p:nvPr/>
            </p:nvSpPr>
            <p:spPr>
              <a:xfrm rot="21000000">
                <a:off x="2666520" y="4199040"/>
                <a:ext cx="1600200" cy="60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1000000">
                <a:off x="3709800" y="413208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1000000">
                <a:off x="2660040" y="435888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1245960" y="5283720"/>
              <a:ext cx="1690200" cy="876600"/>
              <a:chOff x="1245960" y="5283720"/>
              <a:chExt cx="1690200" cy="876600"/>
            </a:xfrm>
          </p:grpSpPr>
          <p:sp>
            <p:nvSpPr>
              <p:cNvPr id="559" name=""/>
              <p:cNvSpPr/>
              <p:nvPr/>
            </p:nvSpPr>
            <p:spPr>
              <a:xfrm rot="21000000">
                <a:off x="1294920" y="5418000"/>
                <a:ext cx="1600200" cy="60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1000000">
                <a:off x="2338200" y="535104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1000000">
                <a:off x="1288440" y="557820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1031760" y="3256200"/>
              <a:ext cx="1054080" cy="1711800"/>
              <a:chOff x="1031760" y="3256200"/>
              <a:chExt cx="1054080" cy="1711800"/>
            </a:xfrm>
          </p:grpSpPr>
          <p:sp>
            <p:nvSpPr>
              <p:cNvPr id="563" name=""/>
              <p:cNvSpPr/>
              <p:nvPr/>
            </p:nvSpPr>
            <p:spPr>
              <a:xfrm rot="6420000">
                <a:off x="757800" y="3805920"/>
                <a:ext cx="1601640" cy="612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6420000">
                <a:off x="1209960" y="426924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6420000">
                <a:off x="1603080" y="321768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drogen Bon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cially strong dipole-dipole forces when H is attached to F, O, or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three becaus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ve high electronega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small enough to get cl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 boil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63680" y="539640"/>
            <a:ext cx="8216640" cy="593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57200" y="457200"/>
            <a:ext cx="8229600" cy="6095880"/>
            <a:chOff x="457200" y="457200"/>
            <a:chExt cx="8229600" cy="6095880"/>
          </a:xfrm>
        </p:grpSpPr>
        <p:sp>
          <p:nvSpPr>
            <p:cNvPr id="570" name=""/>
            <p:cNvSpPr/>
            <p:nvPr/>
          </p:nvSpPr>
          <p:spPr>
            <a:xfrm>
              <a:off x="457200" y="457200"/>
              <a:ext cx="0" cy="6019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03480" y="457200"/>
              <a:ext cx="0" cy="6019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47960" y="533520"/>
              <a:ext cx="0" cy="6019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96040" y="457200"/>
              <a:ext cx="0" cy="6019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40520" y="457200"/>
              <a:ext cx="0" cy="6095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686800" y="457200"/>
              <a:ext cx="0" cy="6095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95360" y="533520"/>
            <a:ext cx="8153280" cy="5943600"/>
            <a:chOff x="495360" y="533520"/>
            <a:chExt cx="8153280" cy="5943600"/>
          </a:xfrm>
        </p:grpSpPr>
        <p:sp>
          <p:nvSpPr>
            <p:cNvPr id="577" name=""/>
            <p:cNvSpPr/>
            <p:nvPr/>
          </p:nvSpPr>
          <p:spPr>
            <a:xfrm flipH="1">
              <a:off x="596880" y="533520"/>
              <a:ext cx="805176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495360" y="2514600"/>
              <a:ext cx="805176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96880" y="4495680"/>
              <a:ext cx="805176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495360" y="6477120"/>
              <a:ext cx="815328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283400" y="4067280"/>
            <a:ext cx="6639480" cy="2152080"/>
            <a:chOff x="1283400" y="4067280"/>
            <a:chExt cx="6639480" cy="2152080"/>
          </a:xfrm>
        </p:grpSpPr>
        <p:sp>
          <p:nvSpPr>
            <p:cNvPr id="582" name=""/>
            <p:cNvSpPr/>
            <p:nvPr/>
          </p:nvSpPr>
          <p:spPr>
            <a:xfrm>
              <a:off x="2025720" y="5742000"/>
              <a:ext cx="146160" cy="14616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70200" y="4775040"/>
              <a:ext cx="146160" cy="14616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15040" y="4270320"/>
              <a:ext cx="145800" cy="14616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31080" y="4067280"/>
              <a:ext cx="146160" cy="1458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2090880" y="4857480"/>
              <a:ext cx="1658880" cy="98100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762360" y="4340160"/>
              <a:ext cx="1630440" cy="50472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392800" y="4149360"/>
              <a:ext cx="1603440" cy="2048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83400" y="5572080"/>
              <a:ext cx="8679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CH</a:t>
              </a:r>
              <a:r>
                <a:rPr b="0" lang="en-US" sz="3200" spc="-1" strike="noStrike" baseline="-25000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93240" y="4807080"/>
              <a:ext cx="9349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SiH</a:t>
              </a:r>
              <a:r>
                <a:rPr b="0" lang="en-US" sz="3200" spc="-1" strike="noStrike" baseline="-25000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08200" y="4417920"/>
              <a:ext cx="10720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GeH</a:t>
              </a:r>
              <a:r>
                <a:rPr b="0" lang="en-US" sz="3200" spc="-1" strike="noStrike" baseline="-25000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96520" y="4273560"/>
              <a:ext cx="1026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SnH</a:t>
              </a:r>
              <a:r>
                <a:rPr b="0" lang="en-US" sz="3200" spc="-1" strike="noStrike" baseline="-25000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181880" y="2828880"/>
            <a:ext cx="6971040" cy="2018880"/>
            <a:chOff x="1181880" y="2828880"/>
            <a:chExt cx="6971040" cy="2018880"/>
          </a:xfrm>
        </p:grpSpPr>
        <p:sp>
          <p:nvSpPr>
            <p:cNvPr id="594" name=""/>
            <p:cNvSpPr/>
            <p:nvPr/>
          </p:nvSpPr>
          <p:spPr>
            <a:xfrm>
              <a:off x="2942640" y="4200480"/>
              <a:ext cx="8222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Times New Roman"/>
                </a:rPr>
                <a:t>PH</a:t>
              </a:r>
              <a:r>
                <a:rPr b="0" lang="en-US" sz="32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39760" y="3032280"/>
              <a:ext cx="142920" cy="144360"/>
            </a:xfrm>
            <a:prstGeom prst="ellipse">
              <a:avLst/>
            </a:prstGeom>
            <a:solidFill>
              <a:srgbClr val="00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84600" y="4287960"/>
              <a:ext cx="142920" cy="144360"/>
            </a:xfrm>
            <a:prstGeom prst="ellipse">
              <a:avLst/>
            </a:prstGeom>
            <a:solidFill>
              <a:srgbClr val="00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29080" y="3610080"/>
              <a:ext cx="142920" cy="144360"/>
            </a:xfrm>
            <a:prstGeom prst="ellipse">
              <a:avLst/>
            </a:prstGeom>
            <a:solidFill>
              <a:srgbClr val="00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59520" y="3147840"/>
              <a:ext cx="142920" cy="144720"/>
            </a:xfrm>
            <a:prstGeom prst="ellipse">
              <a:avLst/>
            </a:prstGeom>
            <a:solidFill>
              <a:srgbClr val="00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81880" y="2828880"/>
              <a:ext cx="8906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Times New Roman"/>
                </a:rPr>
                <a:t>NH</a:t>
              </a:r>
              <a:r>
                <a:rPr b="0" lang="en-US" sz="32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26560" y="2959200"/>
              <a:ext cx="1026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Times New Roman"/>
                </a:rPr>
                <a:t>SbH</a:t>
              </a:r>
              <a:r>
                <a:rPr b="0" lang="en-US" sz="32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04920" y="3097080"/>
              <a:ext cx="1644840" cy="1255680"/>
            </a:xfrm>
            <a:prstGeom prst="line">
              <a:avLst/>
            </a:prstGeom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3749760" y="3703320"/>
              <a:ext cx="1644480" cy="677880"/>
            </a:xfrm>
            <a:prstGeom prst="line">
              <a:avLst/>
            </a:prstGeom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5408640" y="3227040"/>
              <a:ext cx="1601640" cy="476280"/>
            </a:xfrm>
            <a:prstGeom prst="line">
              <a:avLst/>
            </a:prstGeom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24480" y="3521160"/>
              <a:ext cx="1049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Times New Roman"/>
                </a:rPr>
                <a:t>AsH</a:t>
              </a:r>
              <a:r>
                <a:rPr b="0" lang="en-US" sz="32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134000" y="426960"/>
            <a:ext cx="7045920" cy="3376800"/>
            <a:chOff x="1134000" y="426960"/>
            <a:chExt cx="7045920" cy="3376800"/>
          </a:xfrm>
        </p:grpSpPr>
        <p:sp>
          <p:nvSpPr>
            <p:cNvPr id="606" name=""/>
            <p:cNvSpPr/>
            <p:nvPr/>
          </p:nvSpPr>
          <p:spPr>
            <a:xfrm>
              <a:off x="1134000" y="426960"/>
              <a:ext cx="8906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0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87560" y="615960"/>
              <a:ext cx="21600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8960" y="3017880"/>
              <a:ext cx="8222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0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87760" y="3664080"/>
              <a:ext cx="21600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7920" y="2789280"/>
              <a:ext cx="100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0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S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40240" y="3359160"/>
              <a:ext cx="21600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53560" y="2484360"/>
              <a:ext cx="1026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0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T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64480" y="2673360"/>
              <a:ext cx="21564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095560" y="677880"/>
              <a:ext cx="1638360" cy="30560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3726000" y="3429000"/>
              <a:ext cx="1684080" cy="3380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409720" y="2743200"/>
              <a:ext cx="1600200" cy="685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347120" y="1920960"/>
            <a:ext cx="6444000" cy="2642040"/>
            <a:chOff x="1347120" y="1920960"/>
            <a:chExt cx="6444000" cy="2642040"/>
          </a:xfrm>
        </p:grpSpPr>
        <p:sp>
          <p:nvSpPr>
            <p:cNvPr id="618" name=""/>
            <p:cNvSpPr/>
            <p:nvPr/>
          </p:nvSpPr>
          <p:spPr>
            <a:xfrm>
              <a:off x="2035080" y="21938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47120" y="1920960"/>
              <a:ext cx="704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H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79920" y="4084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10360" y="39830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85080" y="3693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76240" y="3406680"/>
              <a:ext cx="614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H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73000" y="3983040"/>
              <a:ext cx="885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HB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669840" y="3637080"/>
              <a:ext cx="86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HC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04920" y="2260440"/>
              <a:ext cx="1644840" cy="19051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3765600" y="4063680"/>
              <a:ext cx="1614600" cy="144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5381640" y="3760920"/>
              <a:ext cx="1657440" cy="3031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667400" y="538200"/>
            <a:ext cx="369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Boiling Poi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38480" y="2254320"/>
            <a:ext cx="786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º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79080" y="422280"/>
            <a:ext cx="7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78720" y="4202280"/>
            <a:ext cx="933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79080" y="5932440"/>
            <a:ext cx="7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1716120" y="2511360"/>
          <a:ext cx="1725480" cy="16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511360"/>
                    <a:ext cx="172548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5045040" y="1508040"/>
          <a:ext cx="3246480" cy="37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5040" y="1508040"/>
                    <a:ext cx="324648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3398040" y="2470320"/>
            <a:ext cx="616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7160" y="2975040"/>
            <a:ext cx="522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82200" y="3568680"/>
            <a:ext cx="616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ndon Dispersion Fo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693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- polar molecules also exert forces on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wise, no solids or liqu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s are not evenly distributed at every instant i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n instantaneous dip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es a dipole in the atom next to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ed dipole- induced dipole inte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671480" y="3102120"/>
            <a:ext cx="5527800" cy="836640"/>
            <a:chOff x="1671480" y="3102120"/>
            <a:chExt cx="5527800" cy="836640"/>
          </a:xfrm>
        </p:grpSpPr>
        <p:sp>
          <p:nvSpPr>
            <p:cNvPr id="646" name=""/>
            <p:cNvSpPr/>
            <p:nvPr/>
          </p:nvSpPr>
          <p:spPr>
            <a:xfrm>
              <a:off x="1671480" y="3102120"/>
              <a:ext cx="1746360" cy="765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1815480" y="3195720"/>
              <a:ext cx="1460160" cy="579960"/>
              <a:chOff x="1815480" y="3195720"/>
              <a:chExt cx="1460160" cy="579960"/>
            </a:xfrm>
          </p:grpSpPr>
          <p:sp>
            <p:nvSpPr>
              <p:cNvPr id="648" name=""/>
              <p:cNvSpPr/>
              <p:nvPr/>
            </p:nvSpPr>
            <p:spPr>
              <a:xfrm>
                <a:off x="1815480" y="319572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96480" y="319572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311560" y="3484440"/>
                <a:ext cx="43308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5452920" y="3173400"/>
              <a:ext cx="1746360" cy="765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5596920" y="3267000"/>
              <a:ext cx="1460160" cy="579960"/>
              <a:chOff x="5596920" y="3267000"/>
              <a:chExt cx="1460160" cy="579960"/>
            </a:xfrm>
          </p:grpSpPr>
          <p:sp>
            <p:nvSpPr>
              <p:cNvPr id="653" name=""/>
              <p:cNvSpPr/>
              <p:nvPr/>
            </p:nvSpPr>
            <p:spPr>
              <a:xfrm>
                <a:off x="5596920" y="326700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77920" y="326700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93000" y="3556080"/>
                <a:ext cx="43308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1599480" y="2514600"/>
            <a:ext cx="5579280" cy="1482840"/>
            <a:chOff x="1599480" y="2514600"/>
            <a:chExt cx="5579280" cy="1482840"/>
          </a:xfrm>
        </p:grpSpPr>
        <p:sp>
          <p:nvSpPr>
            <p:cNvPr id="657" name=""/>
            <p:cNvSpPr/>
            <p:nvPr/>
          </p:nvSpPr>
          <p:spPr>
            <a:xfrm>
              <a:off x="5432400" y="3232080"/>
              <a:ext cx="1746360" cy="765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50960" y="3159000"/>
              <a:ext cx="1746360" cy="76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1794960" y="3252600"/>
              <a:ext cx="1460160" cy="579960"/>
              <a:chOff x="1794960" y="3252600"/>
              <a:chExt cx="1460160" cy="579960"/>
            </a:xfrm>
          </p:grpSpPr>
          <p:sp>
            <p:nvSpPr>
              <p:cNvPr id="660" name=""/>
              <p:cNvSpPr/>
              <p:nvPr/>
            </p:nvSpPr>
            <p:spPr>
              <a:xfrm>
                <a:off x="1794960" y="325260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775960" y="325260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291040" y="3541680"/>
                <a:ext cx="43308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5576400" y="3324240"/>
              <a:ext cx="1460160" cy="579960"/>
              <a:chOff x="5576400" y="3324240"/>
              <a:chExt cx="1460160" cy="579960"/>
            </a:xfrm>
          </p:grpSpPr>
          <p:sp>
            <p:nvSpPr>
              <p:cNvPr id="664" name=""/>
              <p:cNvSpPr/>
              <p:nvPr/>
            </p:nvSpPr>
            <p:spPr>
              <a:xfrm>
                <a:off x="5576400" y="332424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557400" y="332424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072480" y="3612960"/>
                <a:ext cx="43308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1599480" y="2557440"/>
              <a:ext cx="668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98640" y="2514600"/>
              <a:ext cx="56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599480" y="2514600"/>
            <a:ext cx="5579280" cy="1482840"/>
            <a:chOff x="1599480" y="2514600"/>
            <a:chExt cx="5579280" cy="1482840"/>
          </a:xfrm>
        </p:grpSpPr>
        <p:sp>
          <p:nvSpPr>
            <p:cNvPr id="670" name=""/>
            <p:cNvSpPr/>
            <p:nvPr/>
          </p:nvSpPr>
          <p:spPr>
            <a:xfrm>
              <a:off x="5432400" y="3232080"/>
              <a:ext cx="1746360" cy="76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650960" y="3159000"/>
              <a:ext cx="1746360" cy="76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1794960" y="3252600"/>
              <a:ext cx="1460160" cy="579960"/>
              <a:chOff x="1794960" y="3252600"/>
              <a:chExt cx="1460160" cy="579960"/>
            </a:xfrm>
          </p:grpSpPr>
          <p:sp>
            <p:nvSpPr>
              <p:cNvPr id="673" name=""/>
              <p:cNvSpPr/>
              <p:nvPr/>
            </p:nvSpPr>
            <p:spPr>
              <a:xfrm>
                <a:off x="1794960" y="325260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775960" y="325260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291040" y="3541680"/>
                <a:ext cx="43308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5576400" y="3324240"/>
              <a:ext cx="1460160" cy="579960"/>
              <a:chOff x="5576400" y="3324240"/>
              <a:chExt cx="1460160" cy="579960"/>
            </a:xfrm>
          </p:grpSpPr>
          <p:sp>
            <p:nvSpPr>
              <p:cNvPr id="677" name=""/>
              <p:cNvSpPr/>
              <p:nvPr/>
            </p:nvSpPr>
            <p:spPr>
              <a:xfrm>
                <a:off x="5576400" y="332424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557400" y="332424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072480" y="3612960"/>
                <a:ext cx="43308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1599480" y="2557440"/>
              <a:ext cx="668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798640" y="2514600"/>
              <a:ext cx="56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79560" y="2698560"/>
              <a:ext cx="668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40120" y="2657520"/>
              <a:ext cx="56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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ndon Dispersion Fo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01400" y="1461600"/>
            <a:ext cx="8615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, short li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s longer at low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long enough to make liqu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electrons, more polariz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ger molecules, higher melting and boiling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, much weaker than other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alled Van der Waal’s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dens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0160"/>
            <a:ext cx="8163000" cy="50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from gas to liqu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ieves a dynamic equilibrium with vaporization in a closed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closed syst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system means 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’t go in or out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c equilibr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99080" y="3598920"/>
            <a:ext cx="2306880" cy="2652480"/>
          </a:xfrm>
          <a:custGeom>
            <a:avLst/>
            <a:gdLst/>
            <a:ahLst/>
            <a:rect l="l" t="t" r="r" b="b"/>
            <a:pathLst>
              <a:path w="1453" h="1671">
                <a:moveTo>
                  <a:pt x="431" y="0"/>
                </a:moveTo>
                <a:lnTo>
                  <a:pt x="1020" y="0"/>
                </a:lnTo>
                <a:lnTo>
                  <a:pt x="1020" y="98"/>
                </a:lnTo>
                <a:lnTo>
                  <a:pt x="954" y="98"/>
                </a:lnTo>
                <a:lnTo>
                  <a:pt x="954" y="450"/>
                </a:lnTo>
                <a:lnTo>
                  <a:pt x="1447" y="1593"/>
                </a:lnTo>
                <a:lnTo>
                  <a:pt x="1450" y="1600"/>
                </a:lnTo>
                <a:lnTo>
                  <a:pt x="1451" y="1607"/>
                </a:lnTo>
                <a:lnTo>
                  <a:pt x="1452" y="1614"/>
                </a:lnTo>
                <a:lnTo>
                  <a:pt x="1451" y="1623"/>
                </a:lnTo>
                <a:lnTo>
                  <a:pt x="1449" y="1631"/>
                </a:lnTo>
                <a:lnTo>
                  <a:pt x="1446" y="1638"/>
                </a:lnTo>
                <a:lnTo>
                  <a:pt x="1442" y="1645"/>
                </a:lnTo>
                <a:lnTo>
                  <a:pt x="1437" y="1651"/>
                </a:lnTo>
                <a:lnTo>
                  <a:pt x="1431" y="1657"/>
                </a:lnTo>
                <a:lnTo>
                  <a:pt x="1425" y="1661"/>
                </a:lnTo>
                <a:lnTo>
                  <a:pt x="1418" y="1665"/>
                </a:lnTo>
                <a:lnTo>
                  <a:pt x="1411" y="1668"/>
                </a:lnTo>
                <a:lnTo>
                  <a:pt x="1403" y="1669"/>
                </a:lnTo>
                <a:lnTo>
                  <a:pt x="1396" y="1669"/>
                </a:lnTo>
                <a:lnTo>
                  <a:pt x="60" y="1669"/>
                </a:lnTo>
                <a:lnTo>
                  <a:pt x="52" y="1670"/>
                </a:lnTo>
                <a:lnTo>
                  <a:pt x="44" y="1668"/>
                </a:lnTo>
                <a:lnTo>
                  <a:pt x="37" y="1667"/>
                </a:lnTo>
                <a:lnTo>
                  <a:pt x="29" y="1663"/>
                </a:lnTo>
                <a:lnTo>
                  <a:pt x="19" y="1655"/>
                </a:lnTo>
                <a:lnTo>
                  <a:pt x="12" y="1649"/>
                </a:lnTo>
                <a:lnTo>
                  <a:pt x="6" y="1640"/>
                </a:lnTo>
                <a:lnTo>
                  <a:pt x="2" y="1631"/>
                </a:lnTo>
                <a:lnTo>
                  <a:pt x="0" y="1620"/>
                </a:lnTo>
                <a:lnTo>
                  <a:pt x="0" y="1610"/>
                </a:lnTo>
                <a:lnTo>
                  <a:pt x="2" y="1599"/>
                </a:lnTo>
                <a:lnTo>
                  <a:pt x="6" y="1589"/>
                </a:lnTo>
                <a:lnTo>
                  <a:pt x="9" y="1582"/>
                </a:lnTo>
                <a:lnTo>
                  <a:pt x="17" y="1567"/>
                </a:lnTo>
                <a:lnTo>
                  <a:pt x="497" y="450"/>
                </a:lnTo>
                <a:lnTo>
                  <a:pt x="497" y="98"/>
                </a:lnTo>
                <a:lnTo>
                  <a:pt x="431" y="98"/>
                </a:lnTo>
                <a:lnTo>
                  <a:pt x="43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99080" y="5486400"/>
            <a:ext cx="2306880" cy="765000"/>
          </a:xfrm>
          <a:custGeom>
            <a:avLst/>
            <a:gdLst/>
            <a:ahLst/>
            <a:rect l="l" t="t" r="r" b="b"/>
            <a:pathLst>
              <a:path w="1453" h="482">
                <a:moveTo>
                  <a:pt x="1282" y="0"/>
                </a:moveTo>
                <a:lnTo>
                  <a:pt x="1447" y="404"/>
                </a:lnTo>
                <a:lnTo>
                  <a:pt x="1450" y="411"/>
                </a:lnTo>
                <a:lnTo>
                  <a:pt x="1451" y="418"/>
                </a:lnTo>
                <a:lnTo>
                  <a:pt x="1452" y="425"/>
                </a:lnTo>
                <a:lnTo>
                  <a:pt x="1451" y="434"/>
                </a:lnTo>
                <a:lnTo>
                  <a:pt x="1449" y="442"/>
                </a:lnTo>
                <a:lnTo>
                  <a:pt x="1446" y="449"/>
                </a:lnTo>
                <a:lnTo>
                  <a:pt x="1442" y="456"/>
                </a:lnTo>
                <a:lnTo>
                  <a:pt x="1437" y="462"/>
                </a:lnTo>
                <a:lnTo>
                  <a:pt x="1431" y="468"/>
                </a:lnTo>
                <a:lnTo>
                  <a:pt x="1425" y="472"/>
                </a:lnTo>
                <a:lnTo>
                  <a:pt x="1418" y="476"/>
                </a:lnTo>
                <a:lnTo>
                  <a:pt x="1411" y="479"/>
                </a:lnTo>
                <a:lnTo>
                  <a:pt x="1403" y="480"/>
                </a:lnTo>
                <a:lnTo>
                  <a:pt x="1396" y="480"/>
                </a:lnTo>
                <a:lnTo>
                  <a:pt x="60" y="480"/>
                </a:lnTo>
                <a:lnTo>
                  <a:pt x="52" y="481"/>
                </a:lnTo>
                <a:lnTo>
                  <a:pt x="44" y="479"/>
                </a:lnTo>
                <a:lnTo>
                  <a:pt x="37" y="478"/>
                </a:lnTo>
                <a:lnTo>
                  <a:pt x="29" y="474"/>
                </a:lnTo>
                <a:lnTo>
                  <a:pt x="19" y="466"/>
                </a:lnTo>
                <a:lnTo>
                  <a:pt x="12" y="460"/>
                </a:lnTo>
                <a:lnTo>
                  <a:pt x="6" y="451"/>
                </a:lnTo>
                <a:lnTo>
                  <a:pt x="2" y="442"/>
                </a:lnTo>
                <a:lnTo>
                  <a:pt x="0" y="431"/>
                </a:lnTo>
                <a:lnTo>
                  <a:pt x="0" y="421"/>
                </a:lnTo>
                <a:lnTo>
                  <a:pt x="2" y="410"/>
                </a:lnTo>
                <a:lnTo>
                  <a:pt x="6" y="400"/>
                </a:lnTo>
                <a:lnTo>
                  <a:pt x="9" y="393"/>
                </a:lnTo>
                <a:lnTo>
                  <a:pt x="17" y="378"/>
                </a:lnTo>
                <a:lnTo>
                  <a:pt x="178" y="0"/>
                </a:lnTo>
                <a:lnTo>
                  <a:pt x="1282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45360" y="488304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31160" y="488304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6240" y="49593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6760" y="49593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001000" y="49528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the properties due to internal attraction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ten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llary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er intermolecular forces cause each of these to incre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6192720" y="424332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543640" y="244008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face ten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200" y="3489480"/>
            <a:ext cx="3481560" cy="20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in the middle are attracted in all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36960" y="2289240"/>
            <a:ext cx="415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52880" y="258444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232160" y="251316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048360" y="25257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76760" y="2973240"/>
            <a:ext cx="2300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340240" y="307512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149880" y="3016080"/>
            <a:ext cx="23040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842160" y="256860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535880" y="258444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713640" y="31179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132680" y="300204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200480" y="342108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07080" y="35067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032520" y="376884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168880" y="395280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915240" y="373860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645160" y="35067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304040" y="405612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584680" y="412920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4760" y="421632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21600" y="464832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929280" y="513864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159680" y="464832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361280" y="52689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387680" y="420228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35520" y="44337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18000" y="473544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284800" y="477828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962680" y="50403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549680" y="516744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108400" y="525456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5381640" y="3846600"/>
            <a:ext cx="1643040" cy="1296720"/>
            <a:chOff x="5381640" y="3846600"/>
            <a:chExt cx="1643040" cy="1296720"/>
          </a:xfrm>
        </p:grpSpPr>
        <p:sp>
          <p:nvSpPr>
            <p:cNvPr id="724" name=""/>
            <p:cNvSpPr/>
            <p:nvPr/>
          </p:nvSpPr>
          <p:spPr>
            <a:xfrm>
              <a:off x="6194520" y="4241880"/>
              <a:ext cx="23004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191280" y="4245120"/>
              <a:ext cx="230040" cy="217440"/>
            </a:xfrm>
            <a:prstGeom prst="ellipse">
              <a:avLst/>
            </a:prstGeom>
            <a:solidFill>
              <a:srgbClr val="45c984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59600" y="3905280"/>
              <a:ext cx="101520" cy="36036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332040" y="4336920"/>
              <a:ext cx="606600" cy="3024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668920" y="4249800"/>
              <a:ext cx="649440" cy="10296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5381640" y="4366800"/>
              <a:ext cx="936720" cy="53172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073920" y="4381200"/>
              <a:ext cx="215640" cy="76212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6303960" y="4352400"/>
              <a:ext cx="146160" cy="43020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289560" y="3846600"/>
              <a:ext cx="735120" cy="52056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584280" y="1487520"/>
            <a:ext cx="332568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at the the top are only pulled ins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5062320" y="2440080"/>
            <a:ext cx="1125720" cy="628560"/>
            <a:chOff x="5062320" y="2440080"/>
            <a:chExt cx="1125720" cy="628560"/>
          </a:xfrm>
        </p:grpSpPr>
        <p:sp>
          <p:nvSpPr>
            <p:cNvPr id="735" name=""/>
            <p:cNvSpPr/>
            <p:nvPr/>
          </p:nvSpPr>
          <p:spPr>
            <a:xfrm>
              <a:off x="5541840" y="2440080"/>
              <a:ext cx="230400" cy="217440"/>
            </a:xfrm>
            <a:prstGeom prst="ellipse">
              <a:avLst/>
            </a:prstGeom>
            <a:solidFill>
              <a:srgbClr val="45c984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97360" y="2563920"/>
              <a:ext cx="490680" cy="50472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495400" y="2549520"/>
              <a:ext cx="173160" cy="50472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062320" y="2549520"/>
              <a:ext cx="577800" cy="17316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654520" y="2549520"/>
              <a:ext cx="519120" cy="10008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71680" y="5637240"/>
            <a:ext cx="75787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inimizes surface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pillary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s spontaneously rise in a narrow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 molecular forces are cohesive, connecting like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sive forces connect to something el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ss is po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attracts water molec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30640" cy="35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polar substance is placed on a non-polar surf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cohesiv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no adhesive fo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Visa Ver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983120" y="3132000"/>
            <a:ext cx="3522600" cy="311796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25320" y="5600880"/>
            <a:ext cx="8039160" cy="77940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322960" y="5592600"/>
            <a:ext cx="29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548400" y="31827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408640" y="37749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48360" y="442440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235480" y="51753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42160" y="341460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211880" y="3284640"/>
            <a:ext cx="21780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818480" y="361620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078760" y="4078440"/>
            <a:ext cx="217440" cy="2314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280360" y="462600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078760" y="520380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16760" y="3559320"/>
            <a:ext cx="374400" cy="4903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24560" y="3919680"/>
            <a:ext cx="504720" cy="40320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294160" y="4568760"/>
            <a:ext cx="576360" cy="1303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5353200" y="5073480"/>
            <a:ext cx="661680" cy="23184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65760" y="3357720"/>
            <a:ext cx="55800" cy="56196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197840" y="3459240"/>
            <a:ext cx="117360" cy="43164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7630920" y="3747960"/>
            <a:ext cx="290520" cy="31608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7775280" y="4195800"/>
            <a:ext cx="390600" cy="3157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8035560" y="4743360"/>
            <a:ext cx="361800" cy="1429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7602120" y="5116680"/>
            <a:ext cx="592200" cy="21888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899320" y="53625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477120" y="53625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880320" y="53481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472520" y="53481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016680" y="5045040"/>
            <a:ext cx="474480" cy="40320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7341840" y="5030640"/>
            <a:ext cx="245880" cy="43200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6953400" y="5059440"/>
            <a:ext cx="56880" cy="38880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6591240" y="5059440"/>
            <a:ext cx="115920" cy="41760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sco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a liquid resists flow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forces, more visc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molecules can get tangled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ohexane has a lower viscosity than hex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it is a circle- more comp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tro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er forces, bigger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ar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see molecules so we picture th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otion but attracted to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regions arranged like solids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higher disor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fewer holes than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y dynamic, regions changing between 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79400" y="2308320"/>
            <a:ext cx="7585200" cy="38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ase of a substance is determined by three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ength of intermolecular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jor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rphous- those with much disorder in their stru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line- have a regular arrangement of components in their stru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ys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tice- a three dimensional grid that  describes the locations of the pieces in a  crystalline soli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Cell-The smallest repeating unit in of the latt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common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ynamic equilib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362640" y="3586320"/>
            <a:ext cx="2306520" cy="2732040"/>
            <a:chOff x="6362640" y="3586320"/>
            <a:chExt cx="2306520" cy="2732040"/>
          </a:xfrm>
        </p:grpSpPr>
        <p:sp>
          <p:nvSpPr>
            <p:cNvPr id="192" name=""/>
            <p:cNvSpPr/>
            <p:nvPr/>
          </p:nvSpPr>
          <p:spPr>
            <a:xfrm>
              <a:off x="6362640" y="3665520"/>
              <a:ext cx="2306520" cy="2652840"/>
            </a:xfrm>
            <a:custGeom>
              <a:avLst/>
              <a:gdLst/>
              <a:ahLst/>
              <a:rect l="l" t="t" r="r" b="b"/>
              <a:pathLst>
                <a:path w="1453" h="1671">
                  <a:moveTo>
                    <a:pt x="431" y="0"/>
                  </a:moveTo>
                  <a:lnTo>
                    <a:pt x="1020" y="0"/>
                  </a:lnTo>
                  <a:lnTo>
                    <a:pt x="1020" y="98"/>
                  </a:lnTo>
                  <a:lnTo>
                    <a:pt x="954" y="98"/>
                  </a:lnTo>
                  <a:lnTo>
                    <a:pt x="954" y="450"/>
                  </a:lnTo>
                  <a:lnTo>
                    <a:pt x="1447" y="1593"/>
                  </a:lnTo>
                  <a:lnTo>
                    <a:pt x="1450" y="1600"/>
                  </a:lnTo>
                  <a:lnTo>
                    <a:pt x="1451" y="1607"/>
                  </a:lnTo>
                  <a:lnTo>
                    <a:pt x="1452" y="1614"/>
                  </a:lnTo>
                  <a:lnTo>
                    <a:pt x="1451" y="1623"/>
                  </a:lnTo>
                  <a:lnTo>
                    <a:pt x="1449" y="1631"/>
                  </a:lnTo>
                  <a:lnTo>
                    <a:pt x="1446" y="1638"/>
                  </a:lnTo>
                  <a:lnTo>
                    <a:pt x="1442" y="1645"/>
                  </a:lnTo>
                  <a:lnTo>
                    <a:pt x="1437" y="1651"/>
                  </a:lnTo>
                  <a:lnTo>
                    <a:pt x="1431" y="1657"/>
                  </a:lnTo>
                  <a:lnTo>
                    <a:pt x="1425" y="1661"/>
                  </a:lnTo>
                  <a:lnTo>
                    <a:pt x="1418" y="1665"/>
                  </a:lnTo>
                  <a:lnTo>
                    <a:pt x="1411" y="1668"/>
                  </a:lnTo>
                  <a:lnTo>
                    <a:pt x="1403" y="1669"/>
                  </a:lnTo>
                  <a:lnTo>
                    <a:pt x="1396" y="1669"/>
                  </a:lnTo>
                  <a:lnTo>
                    <a:pt x="60" y="1669"/>
                  </a:lnTo>
                  <a:lnTo>
                    <a:pt x="52" y="1670"/>
                  </a:lnTo>
                  <a:lnTo>
                    <a:pt x="44" y="1668"/>
                  </a:lnTo>
                  <a:lnTo>
                    <a:pt x="37" y="1667"/>
                  </a:lnTo>
                  <a:lnTo>
                    <a:pt x="29" y="1663"/>
                  </a:lnTo>
                  <a:lnTo>
                    <a:pt x="19" y="1655"/>
                  </a:lnTo>
                  <a:lnTo>
                    <a:pt x="12" y="1649"/>
                  </a:lnTo>
                  <a:lnTo>
                    <a:pt x="6" y="1640"/>
                  </a:lnTo>
                  <a:lnTo>
                    <a:pt x="2" y="1631"/>
                  </a:lnTo>
                  <a:lnTo>
                    <a:pt x="0" y="1620"/>
                  </a:lnTo>
                  <a:lnTo>
                    <a:pt x="0" y="1610"/>
                  </a:lnTo>
                  <a:lnTo>
                    <a:pt x="2" y="1599"/>
                  </a:lnTo>
                  <a:lnTo>
                    <a:pt x="6" y="1589"/>
                  </a:lnTo>
                  <a:lnTo>
                    <a:pt x="9" y="1582"/>
                  </a:lnTo>
                  <a:lnTo>
                    <a:pt x="17" y="1567"/>
                  </a:lnTo>
                  <a:lnTo>
                    <a:pt x="497" y="450"/>
                  </a:lnTo>
                  <a:lnTo>
                    <a:pt x="497" y="98"/>
                  </a:lnTo>
                  <a:lnTo>
                    <a:pt x="431" y="98"/>
                  </a:lnTo>
                  <a:lnTo>
                    <a:pt x="43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62640" y="5553000"/>
              <a:ext cx="2306520" cy="765360"/>
            </a:xfrm>
            <a:custGeom>
              <a:avLst/>
              <a:gdLst/>
              <a:ahLst/>
              <a:rect l="l" t="t" r="r" b="b"/>
              <a:pathLst>
                <a:path w="1453" h="482">
                  <a:moveTo>
                    <a:pt x="1282" y="0"/>
                  </a:moveTo>
                  <a:lnTo>
                    <a:pt x="1447" y="404"/>
                  </a:lnTo>
                  <a:lnTo>
                    <a:pt x="1450" y="411"/>
                  </a:lnTo>
                  <a:lnTo>
                    <a:pt x="1451" y="418"/>
                  </a:lnTo>
                  <a:lnTo>
                    <a:pt x="1452" y="425"/>
                  </a:lnTo>
                  <a:lnTo>
                    <a:pt x="1451" y="434"/>
                  </a:lnTo>
                  <a:lnTo>
                    <a:pt x="1449" y="442"/>
                  </a:lnTo>
                  <a:lnTo>
                    <a:pt x="1446" y="449"/>
                  </a:lnTo>
                  <a:lnTo>
                    <a:pt x="1442" y="456"/>
                  </a:lnTo>
                  <a:lnTo>
                    <a:pt x="1437" y="462"/>
                  </a:lnTo>
                  <a:lnTo>
                    <a:pt x="1431" y="468"/>
                  </a:lnTo>
                  <a:lnTo>
                    <a:pt x="1425" y="472"/>
                  </a:lnTo>
                  <a:lnTo>
                    <a:pt x="1418" y="476"/>
                  </a:lnTo>
                  <a:lnTo>
                    <a:pt x="1411" y="479"/>
                  </a:lnTo>
                  <a:lnTo>
                    <a:pt x="1403" y="480"/>
                  </a:lnTo>
                  <a:lnTo>
                    <a:pt x="1396" y="480"/>
                  </a:lnTo>
                  <a:lnTo>
                    <a:pt x="60" y="480"/>
                  </a:lnTo>
                  <a:lnTo>
                    <a:pt x="52" y="481"/>
                  </a:lnTo>
                  <a:lnTo>
                    <a:pt x="44" y="479"/>
                  </a:lnTo>
                  <a:lnTo>
                    <a:pt x="37" y="478"/>
                  </a:lnTo>
                  <a:lnTo>
                    <a:pt x="29" y="474"/>
                  </a:lnTo>
                  <a:lnTo>
                    <a:pt x="19" y="466"/>
                  </a:lnTo>
                  <a:lnTo>
                    <a:pt x="12" y="460"/>
                  </a:lnTo>
                  <a:lnTo>
                    <a:pt x="6" y="451"/>
                  </a:lnTo>
                  <a:lnTo>
                    <a:pt x="2" y="442"/>
                  </a:lnTo>
                  <a:lnTo>
                    <a:pt x="0" y="431"/>
                  </a:lnTo>
                  <a:lnTo>
                    <a:pt x="0" y="421"/>
                  </a:lnTo>
                  <a:lnTo>
                    <a:pt x="2" y="410"/>
                  </a:lnTo>
                  <a:lnTo>
                    <a:pt x="6" y="400"/>
                  </a:lnTo>
                  <a:lnTo>
                    <a:pt x="9" y="393"/>
                  </a:lnTo>
                  <a:lnTo>
                    <a:pt x="17" y="378"/>
                  </a:lnTo>
                  <a:lnTo>
                    <a:pt x="178" y="0"/>
                  </a:lnTo>
                  <a:lnTo>
                    <a:pt x="1282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08920" y="57117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23320" y="57117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66120" y="59403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1720" y="60166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178760" y="5095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7864200" y="5095800"/>
              <a:ext cx="1522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559640" y="5324400"/>
              <a:ext cx="763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721560" y="5248440"/>
              <a:ext cx="2286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97680" y="3586320"/>
              <a:ext cx="1058760" cy="392040"/>
            </a:xfrm>
            <a:custGeom>
              <a:avLst/>
              <a:gdLst/>
              <a:ahLst/>
              <a:rect l="l" t="t" r="r" b="b"/>
              <a:pathLst>
                <a:path w="667" h="247">
                  <a:moveTo>
                    <a:pt x="0" y="0"/>
                  </a:moveTo>
                  <a:lnTo>
                    <a:pt x="103" y="117"/>
                  </a:lnTo>
                  <a:lnTo>
                    <a:pt x="103" y="110"/>
                  </a:lnTo>
                  <a:lnTo>
                    <a:pt x="103" y="246"/>
                  </a:lnTo>
                  <a:lnTo>
                    <a:pt x="560" y="246"/>
                  </a:lnTo>
                  <a:lnTo>
                    <a:pt x="553" y="115"/>
                  </a:lnTo>
                  <a:lnTo>
                    <a:pt x="569" y="96"/>
                  </a:lnTo>
                  <a:lnTo>
                    <a:pt x="66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0760" y="1196640"/>
            <a:ext cx="8400960" cy="50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first sealed the molecules gradually escape the surface of the liqui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219320" y="2057400"/>
            <a:ext cx="1833480" cy="1676520"/>
            <a:chOff x="1219320" y="2057400"/>
            <a:chExt cx="1833480" cy="1676520"/>
          </a:xfrm>
        </p:grpSpPr>
        <p:sp>
          <p:nvSpPr>
            <p:cNvPr id="790" name=""/>
            <p:cNvSpPr/>
            <p:nvPr/>
          </p:nvSpPr>
          <p:spPr>
            <a:xfrm>
              <a:off x="2563920" y="261144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24080" y="257796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1306440" y="363060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1697040" y="324000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1714320" y="2185920"/>
              <a:ext cx="122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938320" y="220356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24200" y="2073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2548080" y="2185920"/>
              <a:ext cx="390240" cy="392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1324080" y="257796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43320" y="24541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14680" y="218592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00200" y="3124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19520" y="3124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1219320" y="2057400"/>
              <a:ext cx="609480" cy="609480"/>
              <a:chOff x="1219320" y="2057400"/>
              <a:chExt cx="609480" cy="609480"/>
            </a:xfrm>
          </p:grpSpPr>
          <p:sp>
            <p:nvSpPr>
              <p:cNvPr id="804" name=""/>
              <p:cNvSpPr/>
              <p:nvPr/>
            </p:nvSpPr>
            <p:spPr>
              <a:xfrm>
                <a:off x="1600200" y="205740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1323720" y="2170080"/>
                <a:ext cx="390600" cy="392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219320" y="24382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 flipH="1">
              <a:off x="1306080" y="3255840"/>
              <a:ext cx="390600" cy="392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2530080" y="3240000"/>
              <a:ext cx="390600" cy="392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38280" y="3505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451400" y="1744560"/>
            <a:ext cx="1227240" cy="1122480"/>
            <a:chOff x="4451400" y="1744560"/>
            <a:chExt cx="1227240" cy="1122480"/>
          </a:xfrm>
        </p:grpSpPr>
        <p:sp>
          <p:nvSpPr>
            <p:cNvPr id="812" name=""/>
            <p:cNvSpPr/>
            <p:nvPr/>
          </p:nvSpPr>
          <p:spPr>
            <a:xfrm>
              <a:off x="5351400" y="211608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521240" y="209376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509720" y="279720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770360" y="25369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782960" y="183024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02320" y="184320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26000" y="17557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5340240" y="1830240"/>
              <a:ext cx="2620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4520880" y="209376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270400" y="2009880"/>
              <a:ext cx="152640" cy="153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82960" y="183024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07000" y="2459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22760" y="24591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4451400" y="1744560"/>
              <a:ext cx="407880" cy="408240"/>
              <a:chOff x="4451400" y="1744560"/>
              <a:chExt cx="407880" cy="408240"/>
            </a:xfrm>
          </p:grpSpPr>
          <p:sp>
            <p:nvSpPr>
              <p:cNvPr id="826" name=""/>
              <p:cNvSpPr/>
              <p:nvPr/>
            </p:nvSpPr>
            <p:spPr>
              <a:xfrm>
                <a:off x="4707000" y="17445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4520880" y="1820880"/>
                <a:ext cx="26172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451400" y="20001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 flipH="1">
              <a:off x="4509720" y="25462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51400" y="27147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5329080" y="2536920"/>
              <a:ext cx="260640" cy="261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67160" y="27147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4451400" y="2459160"/>
            <a:ext cx="1227240" cy="1122120"/>
            <a:chOff x="4451400" y="2459160"/>
            <a:chExt cx="1227240" cy="1122120"/>
          </a:xfrm>
        </p:grpSpPr>
        <p:sp>
          <p:nvSpPr>
            <p:cNvPr id="834" name=""/>
            <p:cNvSpPr/>
            <p:nvPr/>
          </p:nvSpPr>
          <p:spPr>
            <a:xfrm>
              <a:off x="5351400" y="283068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521240" y="280836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4509720" y="351144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770360" y="325116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4782960" y="254484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2320" y="255744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26000" y="24703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340240" y="2544840"/>
              <a:ext cx="2620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520880" y="280836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70400" y="2724120"/>
              <a:ext cx="152640" cy="154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782960" y="254484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707000" y="3173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22760" y="317340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4451400" y="2459160"/>
              <a:ext cx="407880" cy="407880"/>
              <a:chOff x="4451400" y="2459160"/>
              <a:chExt cx="407880" cy="407880"/>
            </a:xfrm>
          </p:grpSpPr>
          <p:sp>
            <p:nvSpPr>
              <p:cNvPr id="848" name=""/>
              <p:cNvSpPr/>
              <p:nvPr/>
            </p:nvSpPr>
            <p:spPr>
              <a:xfrm>
                <a:off x="4707000" y="24591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4520880" y="2535120"/>
                <a:ext cx="26172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51400" y="27147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 flipH="1">
              <a:off x="4509720" y="32608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51400" y="3429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5329080" y="3251160"/>
              <a:ext cx="26064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67160" y="342900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451400" y="3156120"/>
            <a:ext cx="1227240" cy="1122120"/>
            <a:chOff x="4451400" y="3156120"/>
            <a:chExt cx="1227240" cy="1122120"/>
          </a:xfrm>
        </p:grpSpPr>
        <p:sp>
          <p:nvSpPr>
            <p:cNvPr id="856" name=""/>
            <p:cNvSpPr/>
            <p:nvPr/>
          </p:nvSpPr>
          <p:spPr>
            <a:xfrm>
              <a:off x="5351400" y="352728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21240" y="350532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509720" y="420840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770360" y="39481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782960" y="324180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602320" y="325440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526000" y="316692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5340240" y="3241800"/>
              <a:ext cx="2620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520880" y="350532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70400" y="3421080"/>
              <a:ext cx="152640" cy="154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82960" y="324180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07000" y="38703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22760" y="38703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4451400" y="3156120"/>
              <a:ext cx="407880" cy="407880"/>
              <a:chOff x="4451400" y="3156120"/>
              <a:chExt cx="407880" cy="407880"/>
            </a:xfrm>
          </p:grpSpPr>
          <p:sp>
            <p:nvSpPr>
              <p:cNvPr id="870" name=""/>
              <p:cNvSpPr/>
              <p:nvPr/>
            </p:nvSpPr>
            <p:spPr>
              <a:xfrm>
                <a:off x="4707000" y="315612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4520880" y="3232080"/>
                <a:ext cx="26172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451400" y="34113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 flipH="1">
              <a:off x="4509720" y="39574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51400" y="4125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5329080" y="3948120"/>
              <a:ext cx="26064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67160" y="41259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5284800" y="1744560"/>
            <a:ext cx="1227240" cy="1122480"/>
            <a:chOff x="5284800" y="1744560"/>
            <a:chExt cx="1227240" cy="1122480"/>
          </a:xfrm>
        </p:grpSpPr>
        <p:sp>
          <p:nvSpPr>
            <p:cNvPr id="878" name=""/>
            <p:cNvSpPr/>
            <p:nvPr/>
          </p:nvSpPr>
          <p:spPr>
            <a:xfrm>
              <a:off x="6184800" y="211608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354640" y="209376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343480" y="279720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5603760" y="25369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5616360" y="183024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35720" y="184320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359400" y="17557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6173640" y="1830240"/>
              <a:ext cx="2620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5354280" y="209376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103800" y="2009880"/>
              <a:ext cx="152640" cy="153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616720" y="183024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40400" y="2459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56520" y="2459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5284800" y="1744560"/>
              <a:ext cx="407880" cy="408240"/>
              <a:chOff x="5284800" y="1744560"/>
              <a:chExt cx="407880" cy="408240"/>
            </a:xfrm>
          </p:grpSpPr>
          <p:sp>
            <p:nvSpPr>
              <p:cNvPr id="892" name=""/>
              <p:cNvSpPr/>
              <p:nvPr/>
            </p:nvSpPr>
            <p:spPr>
              <a:xfrm>
                <a:off x="5540400" y="17445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5354640" y="1820880"/>
                <a:ext cx="2620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284800" y="20001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 flipH="1">
              <a:off x="5343120" y="25462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84800" y="27147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162480" y="2536920"/>
              <a:ext cx="260280" cy="261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100920" y="27147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284800" y="2459160"/>
            <a:ext cx="1227240" cy="1122120"/>
            <a:chOff x="5284800" y="2459160"/>
            <a:chExt cx="1227240" cy="1122120"/>
          </a:xfrm>
        </p:grpSpPr>
        <p:sp>
          <p:nvSpPr>
            <p:cNvPr id="900" name=""/>
            <p:cNvSpPr/>
            <p:nvPr/>
          </p:nvSpPr>
          <p:spPr>
            <a:xfrm>
              <a:off x="6184800" y="283068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54640" y="280836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5343480" y="351144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5603760" y="325116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5616360" y="254484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435720" y="255744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359400" y="24703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6173640" y="2544840"/>
              <a:ext cx="2620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5354280" y="280836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03800" y="2724120"/>
              <a:ext cx="152640" cy="154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16720" y="254484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40400" y="3173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56520" y="3173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5284800" y="2459160"/>
              <a:ext cx="407880" cy="407880"/>
              <a:chOff x="5284800" y="2459160"/>
              <a:chExt cx="407880" cy="407880"/>
            </a:xfrm>
          </p:grpSpPr>
          <p:sp>
            <p:nvSpPr>
              <p:cNvPr id="914" name=""/>
              <p:cNvSpPr/>
              <p:nvPr/>
            </p:nvSpPr>
            <p:spPr>
              <a:xfrm>
                <a:off x="5540400" y="24591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5354640" y="2535120"/>
                <a:ext cx="2620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284800" y="27147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 flipH="1">
              <a:off x="5343120" y="32608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284800" y="3429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6162480" y="3251160"/>
              <a:ext cx="26028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100920" y="3429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284800" y="3156120"/>
            <a:ext cx="1227240" cy="1122120"/>
            <a:chOff x="5284800" y="3156120"/>
            <a:chExt cx="1227240" cy="1122120"/>
          </a:xfrm>
        </p:grpSpPr>
        <p:sp>
          <p:nvSpPr>
            <p:cNvPr id="922" name=""/>
            <p:cNvSpPr/>
            <p:nvPr/>
          </p:nvSpPr>
          <p:spPr>
            <a:xfrm>
              <a:off x="6184800" y="352728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54640" y="350532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5343480" y="420840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5603760" y="39481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5616360" y="324180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35720" y="325440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359400" y="316692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173640" y="3241800"/>
              <a:ext cx="2620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5354280" y="350532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03800" y="3421080"/>
              <a:ext cx="152640" cy="154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16720" y="324180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40400" y="38703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356520" y="38703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5284800" y="3156120"/>
              <a:ext cx="407880" cy="407880"/>
              <a:chOff x="5284800" y="3156120"/>
              <a:chExt cx="407880" cy="407880"/>
            </a:xfrm>
          </p:grpSpPr>
          <p:sp>
            <p:nvSpPr>
              <p:cNvPr id="936" name=""/>
              <p:cNvSpPr/>
              <p:nvPr/>
            </p:nvSpPr>
            <p:spPr>
              <a:xfrm>
                <a:off x="5540400" y="315612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5354640" y="3232080"/>
                <a:ext cx="2620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284800" y="34113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9" name=""/>
            <p:cNvSpPr/>
            <p:nvPr/>
          </p:nvSpPr>
          <p:spPr>
            <a:xfrm flipH="1">
              <a:off x="5343120" y="39574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284800" y="4125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162480" y="3948120"/>
              <a:ext cx="26028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00920" y="4125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118200" y="1744560"/>
            <a:ext cx="1227240" cy="1122480"/>
            <a:chOff x="6118200" y="1744560"/>
            <a:chExt cx="1227240" cy="1122480"/>
          </a:xfrm>
        </p:grpSpPr>
        <p:sp>
          <p:nvSpPr>
            <p:cNvPr id="944" name=""/>
            <p:cNvSpPr/>
            <p:nvPr/>
          </p:nvSpPr>
          <p:spPr>
            <a:xfrm>
              <a:off x="7018200" y="211608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88040" y="209376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176880" y="279720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6437160" y="25369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449760" y="183024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69120" y="184320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92800" y="17557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007040" y="1830240"/>
              <a:ext cx="26172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6188040" y="209376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937200" y="2009880"/>
              <a:ext cx="152640" cy="153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50120" y="183024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373800" y="2459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189920" y="2459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6118200" y="1744560"/>
              <a:ext cx="407880" cy="408240"/>
              <a:chOff x="6118200" y="1744560"/>
              <a:chExt cx="407880" cy="408240"/>
            </a:xfrm>
          </p:grpSpPr>
          <p:sp>
            <p:nvSpPr>
              <p:cNvPr id="958" name=""/>
              <p:cNvSpPr/>
              <p:nvPr/>
            </p:nvSpPr>
            <p:spPr>
              <a:xfrm>
                <a:off x="6373800" y="17445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6188040" y="1820880"/>
                <a:ext cx="2620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118200" y="20001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 flipH="1">
              <a:off x="6176520" y="25462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118200" y="27147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6995880" y="2536920"/>
              <a:ext cx="260280" cy="261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34320" y="27147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118200" y="2459160"/>
            <a:ext cx="1227240" cy="1122120"/>
            <a:chOff x="6118200" y="2459160"/>
            <a:chExt cx="1227240" cy="1122120"/>
          </a:xfrm>
        </p:grpSpPr>
        <p:sp>
          <p:nvSpPr>
            <p:cNvPr id="966" name=""/>
            <p:cNvSpPr/>
            <p:nvPr/>
          </p:nvSpPr>
          <p:spPr>
            <a:xfrm>
              <a:off x="7018200" y="283068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188040" y="280836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6176880" y="351144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6437160" y="325116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6449760" y="254484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269120" y="255744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192800" y="24703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7007040" y="2544840"/>
              <a:ext cx="26172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6188040" y="280836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937200" y="2724120"/>
              <a:ext cx="152640" cy="154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450120" y="254484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373800" y="3173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189920" y="3173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6118200" y="2459160"/>
              <a:ext cx="407880" cy="407880"/>
              <a:chOff x="6118200" y="2459160"/>
              <a:chExt cx="407880" cy="407880"/>
            </a:xfrm>
          </p:grpSpPr>
          <p:sp>
            <p:nvSpPr>
              <p:cNvPr id="980" name=""/>
              <p:cNvSpPr/>
              <p:nvPr/>
            </p:nvSpPr>
            <p:spPr>
              <a:xfrm>
                <a:off x="6373800" y="24591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6188040" y="2535120"/>
                <a:ext cx="2620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118200" y="27147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 flipH="1">
              <a:off x="6176520" y="32608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118200" y="3429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6995880" y="3251160"/>
              <a:ext cx="26028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934320" y="3429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6118200" y="3156120"/>
            <a:ext cx="1227240" cy="1122120"/>
            <a:chOff x="6118200" y="3156120"/>
            <a:chExt cx="1227240" cy="1122120"/>
          </a:xfrm>
        </p:grpSpPr>
        <p:sp>
          <p:nvSpPr>
            <p:cNvPr id="988" name=""/>
            <p:cNvSpPr/>
            <p:nvPr/>
          </p:nvSpPr>
          <p:spPr>
            <a:xfrm>
              <a:off x="7018200" y="352728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88040" y="350532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6176880" y="420840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6437160" y="39481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6449760" y="324180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69120" y="325440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92800" y="316692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7007040" y="3241800"/>
              <a:ext cx="26172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6188040" y="35053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937200" y="3421080"/>
              <a:ext cx="152640" cy="154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450120" y="324180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373800" y="38703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89920" y="38703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6118200" y="3156120"/>
              <a:ext cx="407880" cy="407880"/>
              <a:chOff x="6118200" y="3156120"/>
              <a:chExt cx="407880" cy="407880"/>
            </a:xfrm>
          </p:grpSpPr>
          <p:sp>
            <p:nvSpPr>
              <p:cNvPr id="1002" name=""/>
              <p:cNvSpPr/>
              <p:nvPr/>
            </p:nvSpPr>
            <p:spPr>
              <a:xfrm>
                <a:off x="6373800" y="315612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188040" y="3232080"/>
                <a:ext cx="2620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118200" y="34113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 flipH="1">
              <a:off x="6176520" y="39574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118200" y="4125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995880" y="3948120"/>
              <a:ext cx="26028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934320" y="4125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4194000" y="1994040"/>
            <a:ext cx="2894040" cy="2533680"/>
            <a:chOff x="4194000" y="1994040"/>
            <a:chExt cx="2894040" cy="2533680"/>
          </a:xfrm>
        </p:grpSpPr>
        <p:grpSp>
          <p:nvGrpSpPr>
            <p:cNvPr id="1010" name=""/>
            <p:cNvGrpSpPr/>
            <p:nvPr/>
          </p:nvGrpSpPr>
          <p:grpSpPr>
            <a:xfrm>
              <a:off x="4194000" y="1994040"/>
              <a:ext cx="1227240" cy="1122120"/>
              <a:chOff x="4194000" y="1994040"/>
              <a:chExt cx="1227240" cy="1122120"/>
            </a:xfrm>
          </p:grpSpPr>
          <p:sp>
            <p:nvSpPr>
              <p:cNvPr id="1011" name=""/>
              <p:cNvSpPr/>
              <p:nvPr/>
            </p:nvSpPr>
            <p:spPr>
              <a:xfrm>
                <a:off x="5094360" y="2365200"/>
                <a:ext cx="0" cy="69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264200" y="234324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4252680" y="304632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4512960" y="27860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4525920" y="207972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45280" y="209232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268960" y="200484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5083200" y="207972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4263840" y="23432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013360" y="225900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25920" y="20797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449600" y="270828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265720" y="27082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4" name=""/>
              <p:cNvGrpSpPr/>
              <p:nvPr/>
            </p:nvGrpSpPr>
            <p:grpSpPr>
              <a:xfrm>
                <a:off x="4194000" y="1994040"/>
                <a:ext cx="408240" cy="407880"/>
                <a:chOff x="4194000" y="1994040"/>
                <a:chExt cx="408240" cy="40788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4449600" y="199404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H="1">
                  <a:off x="4263840" y="2070000"/>
                  <a:ext cx="261720" cy="2620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194000" y="224964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 flipH="1">
                <a:off x="4252680" y="279576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194000" y="296388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5071680" y="278604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010120" y="29638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4194000" y="2708280"/>
              <a:ext cx="1227240" cy="1122480"/>
              <a:chOff x="4194000" y="2708280"/>
              <a:chExt cx="1227240" cy="1122480"/>
            </a:xfrm>
          </p:grpSpPr>
          <p:sp>
            <p:nvSpPr>
              <p:cNvPr id="1033" name=""/>
              <p:cNvSpPr/>
              <p:nvPr/>
            </p:nvSpPr>
            <p:spPr>
              <a:xfrm>
                <a:off x="5094360" y="307980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264200" y="305748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4252680" y="376092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4512960" y="35002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4525920" y="279396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45280" y="280656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268960" y="271944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5083200" y="279396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4263840" y="30574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013360" y="297324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525920" y="2793960"/>
                <a:ext cx="0" cy="69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449600" y="342252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65720" y="34225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4194000" y="2708280"/>
                <a:ext cx="408240" cy="407880"/>
                <a:chOff x="4194000" y="2708280"/>
                <a:chExt cx="408240" cy="40788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449600" y="270828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H="1">
                  <a:off x="4263840" y="2784600"/>
                  <a:ext cx="261720" cy="261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194000" y="296388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 flipH="1">
                <a:off x="4252680" y="351000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194000" y="367812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5071680" y="350028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010120" y="36781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4194000" y="3405240"/>
              <a:ext cx="1227240" cy="1122480"/>
              <a:chOff x="4194000" y="3405240"/>
              <a:chExt cx="1227240" cy="1122480"/>
            </a:xfrm>
          </p:grpSpPr>
          <p:sp>
            <p:nvSpPr>
              <p:cNvPr id="1055" name=""/>
              <p:cNvSpPr/>
              <p:nvPr/>
            </p:nvSpPr>
            <p:spPr>
              <a:xfrm>
                <a:off x="5094360" y="377676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264200" y="375444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4252680" y="44578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4512960" y="41972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4525920" y="349092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45280" y="350352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268960" y="341640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5083200" y="349092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4263840" y="37544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13360" y="367020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25920" y="34909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449600" y="411948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265720" y="41194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4194000" y="3405240"/>
                <a:ext cx="408240" cy="407880"/>
                <a:chOff x="4194000" y="3405240"/>
                <a:chExt cx="408240" cy="40788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4449600" y="340524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H="1">
                  <a:off x="4263840" y="3481560"/>
                  <a:ext cx="261720" cy="261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194000" y="366084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2" name=""/>
              <p:cNvSpPr/>
              <p:nvPr/>
            </p:nvSpPr>
            <p:spPr>
              <a:xfrm flipH="1">
                <a:off x="4252680" y="420696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194000" y="437508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5071680" y="419724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10120" y="43750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5027760" y="1994040"/>
              <a:ext cx="1226880" cy="1122120"/>
              <a:chOff x="5027760" y="1994040"/>
              <a:chExt cx="1226880" cy="1122120"/>
            </a:xfrm>
          </p:grpSpPr>
          <p:sp>
            <p:nvSpPr>
              <p:cNvPr id="1077" name=""/>
              <p:cNvSpPr/>
              <p:nvPr/>
            </p:nvSpPr>
            <p:spPr>
              <a:xfrm>
                <a:off x="5927760" y="2365200"/>
                <a:ext cx="0" cy="69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097600" y="234324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5086080" y="304632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>
                <a:off x="5346360" y="27860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>
                <a:off x="5359320" y="207972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78680" y="209232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02360" y="200484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5916600" y="207972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>
                <a:off x="5097240" y="23432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846760" y="225900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359320" y="20797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283360" y="27082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099120" y="27082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0" name=""/>
              <p:cNvGrpSpPr/>
              <p:nvPr/>
            </p:nvGrpSpPr>
            <p:grpSpPr>
              <a:xfrm>
                <a:off x="5027760" y="1994040"/>
                <a:ext cx="407880" cy="407880"/>
                <a:chOff x="5027760" y="1994040"/>
                <a:chExt cx="407880" cy="40788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5283360" y="19940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>
                  <a:off x="5097240" y="2070000"/>
                  <a:ext cx="261720" cy="2620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5027760" y="22496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4" name=""/>
              <p:cNvSpPr/>
              <p:nvPr/>
            </p:nvSpPr>
            <p:spPr>
              <a:xfrm flipH="1">
                <a:off x="5086080" y="279576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027760" y="29638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5905080" y="278604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843520" y="296388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5027760" y="2708280"/>
              <a:ext cx="1226880" cy="1122480"/>
              <a:chOff x="5027760" y="2708280"/>
              <a:chExt cx="1226880" cy="1122480"/>
            </a:xfrm>
          </p:grpSpPr>
          <p:sp>
            <p:nvSpPr>
              <p:cNvPr id="1099" name=""/>
              <p:cNvSpPr/>
              <p:nvPr/>
            </p:nvSpPr>
            <p:spPr>
              <a:xfrm>
                <a:off x="5927760" y="307980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097600" y="305748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>
                <a:off x="5086080" y="376092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5346360" y="35002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5359320" y="279396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178680" y="280656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102360" y="271944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5916600" y="279396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5097240" y="30574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46760" y="297324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59320" y="2793960"/>
                <a:ext cx="0" cy="69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283360" y="34225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099120" y="34225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2" name=""/>
              <p:cNvGrpSpPr/>
              <p:nvPr/>
            </p:nvGrpSpPr>
            <p:grpSpPr>
              <a:xfrm>
                <a:off x="5027760" y="2708280"/>
                <a:ext cx="407880" cy="407880"/>
                <a:chOff x="5027760" y="2708280"/>
                <a:chExt cx="407880" cy="4078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283360" y="270828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H="1">
                  <a:off x="5097240" y="2784600"/>
                  <a:ext cx="261720" cy="261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027760" y="296388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6" name=""/>
              <p:cNvSpPr/>
              <p:nvPr/>
            </p:nvSpPr>
            <p:spPr>
              <a:xfrm flipH="1">
                <a:off x="5086080" y="351000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027760" y="36781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5905080" y="350028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43520" y="367812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5027760" y="3405240"/>
              <a:ext cx="1226880" cy="1122480"/>
              <a:chOff x="5027760" y="3405240"/>
              <a:chExt cx="1226880" cy="1122480"/>
            </a:xfrm>
          </p:grpSpPr>
          <p:sp>
            <p:nvSpPr>
              <p:cNvPr id="1121" name=""/>
              <p:cNvSpPr/>
              <p:nvPr/>
            </p:nvSpPr>
            <p:spPr>
              <a:xfrm>
                <a:off x="5927760" y="377676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97600" y="375444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>
                <a:off x="5086080" y="44578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>
                <a:off x="5346360" y="41972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5359320" y="349092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178680" y="350352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102360" y="341640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5916600" y="349092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5097240" y="37544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46760" y="367020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359320" y="34909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283360" y="41194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099120" y="41194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34" name=""/>
              <p:cNvGrpSpPr/>
              <p:nvPr/>
            </p:nvGrpSpPr>
            <p:grpSpPr>
              <a:xfrm>
                <a:off x="5027760" y="3405240"/>
                <a:ext cx="407880" cy="407880"/>
                <a:chOff x="5027760" y="3405240"/>
                <a:chExt cx="407880" cy="40788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283360" y="34052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5097240" y="3481560"/>
                  <a:ext cx="261720" cy="261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027760" y="36608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"/>
              <p:cNvSpPr/>
              <p:nvPr/>
            </p:nvSpPr>
            <p:spPr>
              <a:xfrm flipH="1">
                <a:off x="5086080" y="420696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27760" y="43750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5905080" y="419724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843520" y="437508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861160" y="1994040"/>
              <a:ext cx="1226880" cy="1122120"/>
              <a:chOff x="5861160" y="1994040"/>
              <a:chExt cx="1226880" cy="1122120"/>
            </a:xfrm>
          </p:grpSpPr>
          <p:sp>
            <p:nvSpPr>
              <p:cNvPr id="1143" name=""/>
              <p:cNvSpPr/>
              <p:nvPr/>
            </p:nvSpPr>
            <p:spPr>
              <a:xfrm>
                <a:off x="6761160" y="2365200"/>
                <a:ext cx="0" cy="69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931000" y="234324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5919480" y="304632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6179760" y="27860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6192720" y="207972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012080" y="209232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935760" y="200484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>
                <a:off x="6750000" y="207972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5930640" y="23432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680160" y="225900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192720" y="20797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16760" y="27082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932520" y="270828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5861160" y="1994040"/>
                <a:ext cx="407880" cy="407880"/>
                <a:chOff x="5861160" y="1994040"/>
                <a:chExt cx="407880" cy="40788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6116760" y="19940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H="1">
                  <a:off x="5930640" y="2070000"/>
                  <a:ext cx="261720" cy="2620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861160" y="22496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 flipH="1">
                <a:off x="5919480" y="279576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61160" y="29638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6738480" y="278604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76920" y="296388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5861160" y="2708280"/>
              <a:ext cx="1226880" cy="1122480"/>
              <a:chOff x="5861160" y="2708280"/>
              <a:chExt cx="1226880" cy="1122480"/>
            </a:xfrm>
          </p:grpSpPr>
          <p:sp>
            <p:nvSpPr>
              <p:cNvPr id="1165" name=""/>
              <p:cNvSpPr/>
              <p:nvPr/>
            </p:nvSpPr>
            <p:spPr>
              <a:xfrm>
                <a:off x="6761160" y="307980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931000" y="305748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5919480" y="376092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6179760" y="35002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6192720" y="279396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012080" y="280656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935760" y="271944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6750000" y="279396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5930640" y="30574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680160" y="297324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92720" y="2793960"/>
                <a:ext cx="0" cy="69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116760" y="34225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932520" y="342252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8" name=""/>
              <p:cNvGrpSpPr/>
              <p:nvPr/>
            </p:nvGrpSpPr>
            <p:grpSpPr>
              <a:xfrm>
                <a:off x="5861160" y="2708280"/>
                <a:ext cx="407880" cy="407880"/>
                <a:chOff x="5861160" y="2708280"/>
                <a:chExt cx="407880" cy="40788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6116760" y="270828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flipH="1">
                  <a:off x="5930640" y="2784600"/>
                  <a:ext cx="261720" cy="261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5861160" y="296388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2" name=""/>
              <p:cNvSpPr/>
              <p:nvPr/>
            </p:nvSpPr>
            <p:spPr>
              <a:xfrm flipH="1">
                <a:off x="5919480" y="351000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61160" y="36781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6738480" y="350028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676920" y="367812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5861160" y="3405240"/>
              <a:ext cx="1226880" cy="1122480"/>
              <a:chOff x="5861160" y="3405240"/>
              <a:chExt cx="1226880" cy="1122480"/>
            </a:xfrm>
          </p:grpSpPr>
          <p:sp>
            <p:nvSpPr>
              <p:cNvPr id="1187" name=""/>
              <p:cNvSpPr/>
              <p:nvPr/>
            </p:nvSpPr>
            <p:spPr>
              <a:xfrm>
                <a:off x="6761160" y="377676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931000" y="375444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5919480" y="44578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6179760" y="41972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192720" y="349092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012080" y="350352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935760" y="341640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6750000" y="349092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5930640" y="37544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80160" y="367020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192720" y="34909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16760" y="41194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932520" y="411948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0" name=""/>
              <p:cNvGrpSpPr/>
              <p:nvPr/>
            </p:nvGrpSpPr>
            <p:grpSpPr>
              <a:xfrm>
                <a:off x="5861160" y="3405240"/>
                <a:ext cx="407880" cy="407880"/>
                <a:chOff x="5861160" y="3405240"/>
                <a:chExt cx="407880" cy="4078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116760" y="34052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H="1">
                  <a:off x="5930640" y="3481560"/>
                  <a:ext cx="261720" cy="261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5861160" y="36608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4" name=""/>
              <p:cNvSpPr/>
              <p:nvPr/>
            </p:nvSpPr>
            <p:spPr>
              <a:xfrm flipH="1">
                <a:off x="5919480" y="420696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861160" y="43750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6738480" y="419724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676920" y="437508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dy-Centered Cub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1236600" y="2755800"/>
            <a:ext cx="1833480" cy="1676520"/>
            <a:chOff x="1236600" y="2755800"/>
            <a:chExt cx="1833480" cy="1676520"/>
          </a:xfrm>
        </p:grpSpPr>
        <p:sp>
          <p:nvSpPr>
            <p:cNvPr id="1210" name=""/>
            <p:cNvSpPr/>
            <p:nvPr/>
          </p:nvSpPr>
          <p:spPr>
            <a:xfrm>
              <a:off x="1731960" y="2884320"/>
              <a:ext cx="833400" cy="14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581200" y="330984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341360" y="327672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1324080" y="432900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1714320" y="3938760"/>
              <a:ext cx="122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1731960" y="288432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955960" y="290196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41480" y="2771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2565000" y="2884320"/>
              <a:ext cx="390600" cy="392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1341360" y="327672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731960" y="288432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617840" y="38228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1324080" y="2868480"/>
              <a:ext cx="1682640" cy="146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36800" y="38228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1323720" y="3954600"/>
              <a:ext cx="390600" cy="392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236600" y="420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548080" y="3938760"/>
              <a:ext cx="390240" cy="392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455920" y="420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57200" y="3259080"/>
              <a:ext cx="1565280" cy="67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460600" y="31528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1236600" y="2755800"/>
              <a:ext cx="609840" cy="609840"/>
              <a:chOff x="1236600" y="2755800"/>
              <a:chExt cx="609840" cy="609840"/>
            </a:xfrm>
          </p:grpSpPr>
          <p:sp>
            <p:nvSpPr>
              <p:cNvPr id="1231" name=""/>
              <p:cNvSpPr/>
              <p:nvPr/>
            </p:nvSpPr>
            <p:spPr>
              <a:xfrm>
                <a:off x="1617840" y="275580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1341000" y="2868480"/>
                <a:ext cx="390600" cy="392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36600" y="313704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 flipH="1">
              <a:off x="1731600" y="3292560"/>
              <a:ext cx="833400" cy="64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038320" y="34797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386240" y="2271600"/>
            <a:ext cx="1389240" cy="1224000"/>
            <a:chOff x="4386240" y="2271600"/>
            <a:chExt cx="1389240" cy="1224000"/>
          </a:xfrm>
        </p:grpSpPr>
        <p:sp>
          <p:nvSpPr>
            <p:cNvPr id="1237" name=""/>
            <p:cNvSpPr/>
            <p:nvPr/>
          </p:nvSpPr>
          <p:spPr>
            <a:xfrm>
              <a:off x="4761000" y="2365200"/>
              <a:ext cx="631800" cy="10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405400" y="267660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465800" y="265104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4452840" y="342108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4748040" y="313524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4760640" y="23652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688000" y="23781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602320" y="22827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5392800" y="236520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4465440" y="265104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1000" y="23652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75320" y="3051000"/>
              <a:ext cx="172800" cy="1670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4452480" y="235440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99080" y="3051000"/>
              <a:ext cx="173160" cy="1670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4452840" y="3146400"/>
              <a:ext cx="29520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386240" y="33289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380200" y="313524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310360" y="332892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478400" y="2638440"/>
              <a:ext cx="1185840" cy="49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313240" y="2562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4386240" y="2271600"/>
              <a:ext cx="461880" cy="444600"/>
              <a:chOff x="4386240" y="2271600"/>
              <a:chExt cx="461880" cy="444600"/>
            </a:xfrm>
          </p:grpSpPr>
          <p:sp>
            <p:nvSpPr>
              <p:cNvPr id="1258" name=""/>
              <p:cNvSpPr/>
              <p:nvPr/>
            </p:nvSpPr>
            <p:spPr>
              <a:xfrm>
                <a:off x="4675320" y="227160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4465800" y="2354400"/>
                <a:ext cx="295200" cy="285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386240" y="254952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 flipH="1">
              <a:off x="4760640" y="2664000"/>
              <a:ext cx="631800" cy="47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994280" y="280044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402080" y="3036960"/>
            <a:ext cx="1389240" cy="1224000"/>
            <a:chOff x="4402080" y="3036960"/>
            <a:chExt cx="1389240" cy="1224000"/>
          </a:xfrm>
        </p:grpSpPr>
        <p:sp>
          <p:nvSpPr>
            <p:cNvPr id="1264" name=""/>
            <p:cNvSpPr/>
            <p:nvPr/>
          </p:nvSpPr>
          <p:spPr>
            <a:xfrm>
              <a:off x="4776840" y="3130560"/>
              <a:ext cx="631800" cy="10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421240" y="3441600"/>
              <a:ext cx="0" cy="75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81640" y="34164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4468680" y="418608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4763880" y="39006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4776480" y="313056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03840" y="31431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618160" y="3048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5408640" y="313056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4481280" y="34164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776840" y="31305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91160" y="38163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4468320" y="311940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614920" y="38163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4468320" y="3911760"/>
              <a:ext cx="29556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402080" y="4094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5396040" y="3900600"/>
              <a:ext cx="295200" cy="285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26200" y="409428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494240" y="3403440"/>
              <a:ext cx="1185840" cy="49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329080" y="33274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4" name=""/>
            <p:cNvGrpSpPr/>
            <p:nvPr/>
          </p:nvGrpSpPr>
          <p:grpSpPr>
            <a:xfrm>
              <a:off x="4402080" y="3036960"/>
              <a:ext cx="461880" cy="444600"/>
              <a:chOff x="4402080" y="3036960"/>
              <a:chExt cx="461880" cy="444600"/>
            </a:xfrm>
          </p:grpSpPr>
          <p:sp>
            <p:nvSpPr>
              <p:cNvPr id="1285" name=""/>
              <p:cNvSpPr/>
              <p:nvPr/>
            </p:nvSpPr>
            <p:spPr>
              <a:xfrm>
                <a:off x="4691160" y="303696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4481640" y="3119400"/>
                <a:ext cx="295200" cy="28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402080" y="331488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H="1">
              <a:off x="4776480" y="3429000"/>
              <a:ext cx="631800" cy="4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10120" y="356544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402080" y="3801960"/>
            <a:ext cx="1389240" cy="1224000"/>
            <a:chOff x="4402080" y="3801960"/>
            <a:chExt cx="1389240" cy="1224000"/>
          </a:xfrm>
        </p:grpSpPr>
        <p:sp>
          <p:nvSpPr>
            <p:cNvPr id="1291" name=""/>
            <p:cNvSpPr/>
            <p:nvPr/>
          </p:nvSpPr>
          <p:spPr>
            <a:xfrm>
              <a:off x="4776840" y="3895560"/>
              <a:ext cx="631800" cy="10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421240" y="420696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81640" y="41814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4468680" y="495144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4763880" y="46656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4776480" y="389556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03840" y="390852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618160" y="3813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5408640" y="389556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4481280" y="41814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776840" y="38955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691160" y="45813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4468320" y="388476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614920" y="45813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4468320" y="4676760"/>
              <a:ext cx="29556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402080" y="4859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5396040" y="466560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326200" y="485928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494240" y="4168800"/>
              <a:ext cx="1185840" cy="49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329080" y="40924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4402080" y="3801960"/>
              <a:ext cx="461880" cy="444600"/>
              <a:chOff x="4402080" y="3801960"/>
              <a:chExt cx="461880" cy="444600"/>
            </a:xfrm>
          </p:grpSpPr>
          <p:sp>
            <p:nvSpPr>
              <p:cNvPr id="1312" name=""/>
              <p:cNvSpPr/>
              <p:nvPr/>
            </p:nvSpPr>
            <p:spPr>
              <a:xfrm>
                <a:off x="4691160" y="380196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481640" y="3884760"/>
                <a:ext cx="295200" cy="285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402080" y="407988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5" name=""/>
            <p:cNvSpPr/>
            <p:nvPr/>
          </p:nvSpPr>
          <p:spPr>
            <a:xfrm flipH="1">
              <a:off x="4776480" y="4194000"/>
              <a:ext cx="631800" cy="4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10120" y="433080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303880" y="2271600"/>
            <a:ext cx="1388880" cy="1224000"/>
            <a:chOff x="5303880" y="2271600"/>
            <a:chExt cx="1388880" cy="1224000"/>
          </a:xfrm>
        </p:grpSpPr>
        <p:sp>
          <p:nvSpPr>
            <p:cNvPr id="1318" name=""/>
            <p:cNvSpPr/>
            <p:nvPr/>
          </p:nvSpPr>
          <p:spPr>
            <a:xfrm>
              <a:off x="5678640" y="2365200"/>
              <a:ext cx="631800" cy="10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23040" y="267660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383080" y="265104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5370120" y="342108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5665680" y="313524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5678280" y="23652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05640" y="23781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19960" y="22827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6310440" y="236520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5383080" y="265104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678640" y="23652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592600" y="3051000"/>
              <a:ext cx="173160" cy="1670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5370120" y="235440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516720" y="3051000"/>
              <a:ext cx="173160" cy="1670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5370480" y="3146400"/>
              <a:ext cx="29520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03880" y="33289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297120" y="3135240"/>
              <a:ext cx="29556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227640" y="33289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96040" y="2638440"/>
              <a:ext cx="1185840" cy="49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230880" y="2562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5303880" y="2271600"/>
              <a:ext cx="461880" cy="444600"/>
              <a:chOff x="5303880" y="2271600"/>
              <a:chExt cx="461880" cy="444600"/>
            </a:xfrm>
          </p:grpSpPr>
          <p:sp>
            <p:nvSpPr>
              <p:cNvPr id="1339" name=""/>
              <p:cNvSpPr/>
              <p:nvPr/>
            </p:nvSpPr>
            <p:spPr>
              <a:xfrm>
                <a:off x="5592600" y="227160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5382720" y="2354400"/>
                <a:ext cx="295560" cy="285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303880" y="254952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 flipH="1">
              <a:off x="5678280" y="2664000"/>
              <a:ext cx="631800" cy="47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911920" y="280044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5319720" y="3036960"/>
            <a:ext cx="1388880" cy="1224000"/>
            <a:chOff x="5319720" y="3036960"/>
            <a:chExt cx="1388880" cy="1224000"/>
          </a:xfrm>
        </p:grpSpPr>
        <p:sp>
          <p:nvSpPr>
            <p:cNvPr id="1345" name=""/>
            <p:cNvSpPr/>
            <p:nvPr/>
          </p:nvSpPr>
          <p:spPr>
            <a:xfrm>
              <a:off x="5694480" y="3130560"/>
              <a:ext cx="631800" cy="10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38880" y="3441600"/>
              <a:ext cx="0" cy="75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98920" y="34164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5385960" y="418608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5681520" y="390060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5694120" y="313056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621480" y="31431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535800" y="304812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6326280" y="313056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5398920" y="341640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694480" y="31305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608800" y="38163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5385960" y="311940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532560" y="38163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5386320" y="3911760"/>
              <a:ext cx="29520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319720" y="4094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312960" y="3900600"/>
              <a:ext cx="295560" cy="285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243480" y="4094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11880" y="3403440"/>
              <a:ext cx="1185840" cy="49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246720" y="33274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5319720" y="3036960"/>
              <a:ext cx="461880" cy="444600"/>
              <a:chOff x="5319720" y="3036960"/>
              <a:chExt cx="461880" cy="444600"/>
            </a:xfrm>
          </p:grpSpPr>
          <p:sp>
            <p:nvSpPr>
              <p:cNvPr id="1366" name=""/>
              <p:cNvSpPr/>
              <p:nvPr/>
            </p:nvSpPr>
            <p:spPr>
              <a:xfrm>
                <a:off x="5608800" y="303696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5398560" y="3119400"/>
                <a:ext cx="295560" cy="28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319720" y="331488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9" name=""/>
            <p:cNvSpPr/>
            <p:nvPr/>
          </p:nvSpPr>
          <p:spPr>
            <a:xfrm flipH="1">
              <a:off x="5694120" y="3429000"/>
              <a:ext cx="631800" cy="4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927760" y="356544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5319720" y="3801960"/>
            <a:ext cx="1388880" cy="1224000"/>
            <a:chOff x="5319720" y="3801960"/>
            <a:chExt cx="1388880" cy="1224000"/>
          </a:xfrm>
        </p:grpSpPr>
        <p:sp>
          <p:nvSpPr>
            <p:cNvPr id="1372" name=""/>
            <p:cNvSpPr/>
            <p:nvPr/>
          </p:nvSpPr>
          <p:spPr>
            <a:xfrm>
              <a:off x="5694480" y="3895560"/>
              <a:ext cx="631800" cy="10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38880" y="420696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398920" y="41814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5385960" y="495144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5681520" y="466560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5694120" y="389556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1480" y="390852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535800" y="381312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6326280" y="389556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5398920" y="418140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694480" y="38955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608800" y="45813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5385960" y="388476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32560" y="45813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5386320" y="4676760"/>
              <a:ext cx="29520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19720" y="4859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6312960" y="4665600"/>
              <a:ext cx="29556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243480" y="4859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11880" y="4168800"/>
              <a:ext cx="1185840" cy="49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246720" y="40924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2" name=""/>
            <p:cNvGrpSpPr/>
            <p:nvPr/>
          </p:nvGrpSpPr>
          <p:grpSpPr>
            <a:xfrm>
              <a:off x="5319720" y="3801960"/>
              <a:ext cx="461880" cy="444600"/>
              <a:chOff x="5319720" y="3801960"/>
              <a:chExt cx="461880" cy="444600"/>
            </a:xfrm>
          </p:grpSpPr>
          <p:sp>
            <p:nvSpPr>
              <p:cNvPr id="1393" name=""/>
              <p:cNvSpPr/>
              <p:nvPr/>
            </p:nvSpPr>
            <p:spPr>
              <a:xfrm>
                <a:off x="5608800" y="380196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5398560" y="3884760"/>
                <a:ext cx="295560" cy="285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319720" y="407988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6" name=""/>
            <p:cNvSpPr/>
            <p:nvPr/>
          </p:nvSpPr>
          <p:spPr>
            <a:xfrm flipH="1">
              <a:off x="5694120" y="4194000"/>
              <a:ext cx="631800" cy="4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927760" y="433080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6222960" y="2271600"/>
            <a:ext cx="1389240" cy="1224000"/>
            <a:chOff x="6222960" y="2271600"/>
            <a:chExt cx="1389240" cy="1224000"/>
          </a:xfrm>
        </p:grpSpPr>
        <p:sp>
          <p:nvSpPr>
            <p:cNvPr id="1399" name=""/>
            <p:cNvSpPr/>
            <p:nvPr/>
          </p:nvSpPr>
          <p:spPr>
            <a:xfrm>
              <a:off x="6597720" y="2365200"/>
              <a:ext cx="631800" cy="10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242120" y="267660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02520" y="265104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6289560" y="342108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6584760" y="313524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6597360" y="23652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524720" y="23781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39040" y="22827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7229520" y="236520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6302160" y="265104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597720" y="23652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512040" y="3051000"/>
              <a:ext cx="172800" cy="1670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6289200" y="235440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435800" y="3051000"/>
              <a:ext cx="173160" cy="1670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6289200" y="3146400"/>
              <a:ext cx="29556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222960" y="33289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216920" y="313524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147080" y="332892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315120" y="2638440"/>
              <a:ext cx="1185840" cy="49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149960" y="2562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9" name=""/>
            <p:cNvGrpSpPr/>
            <p:nvPr/>
          </p:nvGrpSpPr>
          <p:grpSpPr>
            <a:xfrm>
              <a:off x="6222960" y="2271600"/>
              <a:ext cx="461880" cy="444600"/>
              <a:chOff x="6222960" y="2271600"/>
              <a:chExt cx="461880" cy="444600"/>
            </a:xfrm>
          </p:grpSpPr>
          <p:sp>
            <p:nvSpPr>
              <p:cNvPr id="1420" name=""/>
              <p:cNvSpPr/>
              <p:nvPr/>
            </p:nvSpPr>
            <p:spPr>
              <a:xfrm>
                <a:off x="6512040" y="227160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6302520" y="2354400"/>
                <a:ext cx="295200" cy="285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222960" y="254952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 flipH="1">
              <a:off x="6597360" y="2664000"/>
              <a:ext cx="631800" cy="47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831000" y="280044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6238800" y="3036960"/>
            <a:ext cx="1389240" cy="1224000"/>
            <a:chOff x="6238800" y="3036960"/>
            <a:chExt cx="1389240" cy="1224000"/>
          </a:xfrm>
        </p:grpSpPr>
        <p:sp>
          <p:nvSpPr>
            <p:cNvPr id="1426" name=""/>
            <p:cNvSpPr/>
            <p:nvPr/>
          </p:nvSpPr>
          <p:spPr>
            <a:xfrm>
              <a:off x="6613560" y="3130560"/>
              <a:ext cx="631800" cy="10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57960" y="3441600"/>
              <a:ext cx="0" cy="75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318360" y="34164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6305400" y="418608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6600600" y="39006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6613200" y="313056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40560" y="31431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454880" y="3048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7245360" y="313056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6318000" y="34164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613560" y="31305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27880" y="38163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6305040" y="311940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451640" y="38163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6305040" y="3911760"/>
              <a:ext cx="29556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38800" y="4094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7232760" y="3900600"/>
              <a:ext cx="295200" cy="285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162920" y="409428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330960" y="3403440"/>
              <a:ext cx="1185840" cy="49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165800" y="33274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6" name=""/>
            <p:cNvGrpSpPr/>
            <p:nvPr/>
          </p:nvGrpSpPr>
          <p:grpSpPr>
            <a:xfrm>
              <a:off x="6238800" y="3036960"/>
              <a:ext cx="461880" cy="444600"/>
              <a:chOff x="6238800" y="3036960"/>
              <a:chExt cx="461880" cy="444600"/>
            </a:xfrm>
          </p:grpSpPr>
          <p:sp>
            <p:nvSpPr>
              <p:cNvPr id="1447" name=""/>
              <p:cNvSpPr/>
              <p:nvPr/>
            </p:nvSpPr>
            <p:spPr>
              <a:xfrm>
                <a:off x="6527880" y="303696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6318360" y="3119400"/>
                <a:ext cx="295200" cy="28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238800" y="331488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0" name=""/>
            <p:cNvSpPr/>
            <p:nvPr/>
          </p:nvSpPr>
          <p:spPr>
            <a:xfrm flipH="1">
              <a:off x="6613200" y="3429000"/>
              <a:ext cx="631800" cy="4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846840" y="356544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6238800" y="3801960"/>
            <a:ext cx="1389240" cy="1224000"/>
            <a:chOff x="6238800" y="3801960"/>
            <a:chExt cx="1389240" cy="1224000"/>
          </a:xfrm>
        </p:grpSpPr>
        <p:sp>
          <p:nvSpPr>
            <p:cNvPr id="1453" name=""/>
            <p:cNvSpPr/>
            <p:nvPr/>
          </p:nvSpPr>
          <p:spPr>
            <a:xfrm>
              <a:off x="6613560" y="3895560"/>
              <a:ext cx="631800" cy="10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257960" y="420696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318360" y="41814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6305400" y="495144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6600600" y="46656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6613200" y="389556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40560" y="390852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454880" y="3813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245360" y="389556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6318000" y="41814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613560" y="38955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527880" y="45813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6305040" y="388476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451640" y="45813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6305040" y="4676760"/>
              <a:ext cx="29556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38800" y="4859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7232760" y="466560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162920" y="485928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30960" y="4168800"/>
              <a:ext cx="1185840" cy="49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165800" y="40924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6238800" y="3801960"/>
              <a:ext cx="461880" cy="444600"/>
              <a:chOff x="6238800" y="3801960"/>
              <a:chExt cx="461880" cy="444600"/>
            </a:xfrm>
          </p:grpSpPr>
          <p:sp>
            <p:nvSpPr>
              <p:cNvPr id="1474" name=""/>
              <p:cNvSpPr/>
              <p:nvPr/>
            </p:nvSpPr>
            <p:spPr>
              <a:xfrm>
                <a:off x="6527880" y="380196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6318360" y="3884760"/>
                <a:ext cx="295200" cy="285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238800" y="407988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 flipH="1">
              <a:off x="6613200" y="4194000"/>
              <a:ext cx="631800" cy="4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846840" y="433080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e-Centered Cub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3090960" y="2041560"/>
            <a:ext cx="3619440" cy="3309840"/>
            <a:chOff x="3090960" y="2041560"/>
            <a:chExt cx="3619440" cy="3309840"/>
          </a:xfrm>
        </p:grpSpPr>
        <p:sp>
          <p:nvSpPr>
            <p:cNvPr id="1481" name=""/>
            <p:cNvSpPr/>
            <p:nvPr/>
          </p:nvSpPr>
          <p:spPr>
            <a:xfrm>
              <a:off x="5745240" y="3135240"/>
              <a:ext cx="0" cy="20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97240" y="3070080"/>
              <a:ext cx="0" cy="20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3263760" y="5148360"/>
              <a:ext cx="2416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4033800" y="4376880"/>
              <a:ext cx="2416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068720" y="2295360"/>
              <a:ext cx="2416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485040" y="2330280"/>
              <a:ext cx="0" cy="20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5713200" y="2295360"/>
              <a:ext cx="771480" cy="774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3297240" y="3070080"/>
              <a:ext cx="2416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068720" y="2295360"/>
              <a:ext cx="0" cy="20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249960" y="4148280"/>
              <a:ext cx="450720" cy="450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3263400" y="4408560"/>
              <a:ext cx="770040" cy="77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5679720" y="4376880"/>
              <a:ext cx="770040" cy="774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5709960" y="2298600"/>
              <a:ext cx="739800" cy="28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680080" y="3070080"/>
              <a:ext cx="804960" cy="130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3328560" y="2298600"/>
              <a:ext cx="739800" cy="28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97240" y="3070080"/>
              <a:ext cx="806400" cy="130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998880" y="4379760"/>
              <a:ext cx="174636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3294000" y="4379760"/>
              <a:ext cx="315612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3294000" y="2298600"/>
              <a:ext cx="315612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998880" y="2298600"/>
              <a:ext cx="174636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632480" y="4543560"/>
              <a:ext cx="450720" cy="450720"/>
            </a:xfrm>
            <a:prstGeom prst="ellipse">
              <a:avLst/>
            </a:prstGeom>
            <a:gradFill rotWithShape="0">
              <a:gsLst>
                <a:gs pos="0">
                  <a:srgbClr val="934b93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068720" y="2298600"/>
              <a:ext cx="2416320" cy="208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632480" y="2495520"/>
              <a:ext cx="450720" cy="452520"/>
            </a:xfrm>
            <a:prstGeom prst="ellipse">
              <a:avLst/>
            </a:prstGeom>
            <a:gradFill rotWithShape="0">
              <a:gsLst>
                <a:gs pos="0">
                  <a:srgbClr val="934b93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492360" y="3571920"/>
              <a:ext cx="451080" cy="450720"/>
            </a:xfrm>
            <a:prstGeom prst="ellipse">
              <a:avLst/>
            </a:prstGeom>
            <a:gradFill rotWithShape="0">
              <a:gsLst>
                <a:gs pos="0">
                  <a:srgbClr val="934b93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807160" y="3537000"/>
              <a:ext cx="452520" cy="450720"/>
            </a:xfrm>
            <a:prstGeom prst="ellipse">
              <a:avLst/>
            </a:prstGeom>
            <a:gradFill rotWithShape="0">
              <a:gsLst>
                <a:gs pos="0">
                  <a:srgbClr val="934b93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260880" y="3070080"/>
              <a:ext cx="2484360" cy="208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4068720" y="2333160"/>
              <a:ext cx="2416320" cy="208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099040" y="3132000"/>
              <a:ext cx="452520" cy="451080"/>
            </a:xfrm>
            <a:prstGeom prst="ellipse">
              <a:avLst/>
            </a:prstGeom>
            <a:gradFill rotWithShape="0">
              <a:gsLst>
                <a:gs pos="0">
                  <a:srgbClr val="934b93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9" name=""/>
            <p:cNvGrpSpPr/>
            <p:nvPr/>
          </p:nvGrpSpPr>
          <p:grpSpPr>
            <a:xfrm>
              <a:off x="3090960" y="2041560"/>
              <a:ext cx="1203120" cy="1203120"/>
              <a:chOff x="3090960" y="2041560"/>
              <a:chExt cx="1203120" cy="1203120"/>
            </a:xfrm>
          </p:grpSpPr>
          <p:sp>
            <p:nvSpPr>
              <p:cNvPr id="1510" name=""/>
              <p:cNvSpPr/>
              <p:nvPr/>
            </p:nvSpPr>
            <p:spPr>
              <a:xfrm>
                <a:off x="3843360" y="2041560"/>
                <a:ext cx="450720" cy="45072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3296880" y="2263680"/>
                <a:ext cx="771480" cy="7747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090960" y="2793960"/>
                <a:ext cx="450720" cy="45072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3" name=""/>
            <p:cNvSpPr/>
            <p:nvPr/>
          </p:nvSpPr>
          <p:spPr>
            <a:xfrm>
              <a:off x="6259680" y="2073240"/>
              <a:ext cx="450720" cy="450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506920" y="2825640"/>
              <a:ext cx="451080" cy="451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090960" y="4900680"/>
              <a:ext cx="450720" cy="450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97560" y="4900680"/>
              <a:ext cx="450720" cy="450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843360" y="4148280"/>
              <a:ext cx="450720" cy="450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3281400" y="3083040"/>
              <a:ext cx="2386080" cy="211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262400" y="3903840"/>
              <a:ext cx="452520" cy="450720"/>
            </a:xfrm>
            <a:prstGeom prst="ellipse">
              <a:avLst/>
            </a:prstGeom>
            <a:gradFill rotWithShape="0">
              <a:gsLst>
                <a:gs pos="0">
                  <a:srgbClr val="934b93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atoms for eac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has 1 atom pe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centered has 2 atoms pe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 centered has 4 atoms pe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566280" y="124416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amorphous sol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g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tend to focus on crystalline sol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solids have ions at the lattice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 solids have molec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ar vs. Sa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54380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bon- A Special Atomic Sol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9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types of solid carb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rphous- coal unintere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mond- hardest natural substance on earth, insulates both heat and electri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te- slippery, conducts electri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 atoms in these network solids are connected explains w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mond- each Carbon is sp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bridized, connected to four other carbo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7" name="" descr=""/>
          <p:cNvPicPr/>
          <p:nvPr/>
        </p:nvPicPr>
        <p:blipFill>
          <a:blip r:embed="rId1"/>
          <a:stretch/>
        </p:blipFill>
        <p:spPr>
          <a:xfrm>
            <a:off x="5257800" y="2455920"/>
            <a:ext cx="3200400" cy="3639960"/>
          </a:xfrm>
          <a:prstGeom prst="rect">
            <a:avLst/>
          </a:prstGeom>
          <a:ln w="0">
            <a:noFill/>
          </a:ln>
        </p:spPr>
      </p:pic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09120" y="243648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atoms are locked  into tetrahedral sha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nds give the huge molecule its hard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" descr=""/>
          <p:cNvPicPr/>
          <p:nvPr/>
        </p:nvPicPr>
        <p:blipFill>
          <a:blip r:embed="rId1"/>
          <a:stretch/>
        </p:blipFill>
        <p:spPr>
          <a:xfrm>
            <a:off x="5105520" y="1066680"/>
            <a:ext cx="3665520" cy="2667240"/>
          </a:xfrm>
          <a:prstGeom prst="rect">
            <a:avLst/>
          </a:prstGeom>
          <a:ln w="0">
            <a:noFill/>
          </a:ln>
        </p:spPr>
      </p:pic>
      <p:sp>
        <p:nvSpPr>
          <p:cNvPr id="1530" name="PlaceHolder 1"/>
          <p:cNvSpPr>
            <a:spLocks noGrp="1"/>
          </p:cNvSpPr>
          <p:nvPr>
            <p:ph/>
          </p:nvPr>
        </p:nvSpPr>
        <p:spPr>
          <a:xfrm>
            <a:off x="550440" y="1177560"/>
            <a:ext cx="80773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arbon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ed to thr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ther carbons 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brid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lecule is fl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120º angles 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sed 6 member r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nds extend above and below th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title"/>
          </p:nvPr>
        </p:nvSpPr>
        <p:spPr>
          <a:xfrm>
            <a:off x="114264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ite is differ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nd overlap forms a huge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onding network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3" name=""/>
          <p:cNvGraphicFramePr/>
          <p:nvPr/>
        </p:nvGraphicFramePr>
        <p:xfrm>
          <a:off x="4724280" y="3252960"/>
          <a:ext cx="391176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252960"/>
                    <a:ext cx="391176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s are free to move through out these delocalized orb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yers slide by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lecular solid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occupy the corners of the lat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olecules have different forces between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orces depend on the size of the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lso depend on the strength and nature of dipole mo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ynamic equilib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345360" y="3621240"/>
            <a:ext cx="2306520" cy="2732040"/>
            <a:chOff x="6345360" y="3621240"/>
            <a:chExt cx="2306520" cy="2732040"/>
          </a:xfrm>
        </p:grpSpPr>
        <p:sp>
          <p:nvSpPr>
            <p:cNvPr id="206" name=""/>
            <p:cNvSpPr/>
            <p:nvPr/>
          </p:nvSpPr>
          <p:spPr>
            <a:xfrm>
              <a:off x="6345360" y="3700440"/>
              <a:ext cx="2306520" cy="2652840"/>
            </a:xfrm>
            <a:custGeom>
              <a:avLst/>
              <a:gdLst/>
              <a:ahLst/>
              <a:rect l="l" t="t" r="r" b="b"/>
              <a:pathLst>
                <a:path w="1453" h="1671">
                  <a:moveTo>
                    <a:pt x="431" y="0"/>
                  </a:moveTo>
                  <a:lnTo>
                    <a:pt x="1020" y="0"/>
                  </a:lnTo>
                  <a:lnTo>
                    <a:pt x="1020" y="98"/>
                  </a:lnTo>
                  <a:lnTo>
                    <a:pt x="954" y="98"/>
                  </a:lnTo>
                  <a:lnTo>
                    <a:pt x="954" y="450"/>
                  </a:lnTo>
                  <a:lnTo>
                    <a:pt x="1447" y="1593"/>
                  </a:lnTo>
                  <a:lnTo>
                    <a:pt x="1450" y="1600"/>
                  </a:lnTo>
                  <a:lnTo>
                    <a:pt x="1451" y="1607"/>
                  </a:lnTo>
                  <a:lnTo>
                    <a:pt x="1452" y="1614"/>
                  </a:lnTo>
                  <a:lnTo>
                    <a:pt x="1451" y="1623"/>
                  </a:lnTo>
                  <a:lnTo>
                    <a:pt x="1449" y="1631"/>
                  </a:lnTo>
                  <a:lnTo>
                    <a:pt x="1446" y="1638"/>
                  </a:lnTo>
                  <a:lnTo>
                    <a:pt x="1442" y="1645"/>
                  </a:lnTo>
                  <a:lnTo>
                    <a:pt x="1437" y="1651"/>
                  </a:lnTo>
                  <a:lnTo>
                    <a:pt x="1431" y="1657"/>
                  </a:lnTo>
                  <a:lnTo>
                    <a:pt x="1425" y="1661"/>
                  </a:lnTo>
                  <a:lnTo>
                    <a:pt x="1418" y="1665"/>
                  </a:lnTo>
                  <a:lnTo>
                    <a:pt x="1411" y="1668"/>
                  </a:lnTo>
                  <a:lnTo>
                    <a:pt x="1403" y="1669"/>
                  </a:lnTo>
                  <a:lnTo>
                    <a:pt x="1396" y="1669"/>
                  </a:lnTo>
                  <a:lnTo>
                    <a:pt x="60" y="1669"/>
                  </a:lnTo>
                  <a:lnTo>
                    <a:pt x="52" y="1670"/>
                  </a:lnTo>
                  <a:lnTo>
                    <a:pt x="44" y="1668"/>
                  </a:lnTo>
                  <a:lnTo>
                    <a:pt x="37" y="1667"/>
                  </a:lnTo>
                  <a:lnTo>
                    <a:pt x="29" y="1663"/>
                  </a:lnTo>
                  <a:lnTo>
                    <a:pt x="19" y="1655"/>
                  </a:lnTo>
                  <a:lnTo>
                    <a:pt x="12" y="1649"/>
                  </a:lnTo>
                  <a:lnTo>
                    <a:pt x="6" y="1640"/>
                  </a:lnTo>
                  <a:lnTo>
                    <a:pt x="2" y="1631"/>
                  </a:lnTo>
                  <a:lnTo>
                    <a:pt x="0" y="1620"/>
                  </a:lnTo>
                  <a:lnTo>
                    <a:pt x="0" y="1610"/>
                  </a:lnTo>
                  <a:lnTo>
                    <a:pt x="2" y="1599"/>
                  </a:lnTo>
                  <a:lnTo>
                    <a:pt x="6" y="1589"/>
                  </a:lnTo>
                  <a:lnTo>
                    <a:pt x="9" y="1582"/>
                  </a:lnTo>
                  <a:lnTo>
                    <a:pt x="17" y="1567"/>
                  </a:lnTo>
                  <a:lnTo>
                    <a:pt x="497" y="450"/>
                  </a:lnTo>
                  <a:lnTo>
                    <a:pt x="497" y="98"/>
                  </a:lnTo>
                  <a:lnTo>
                    <a:pt x="431" y="98"/>
                  </a:lnTo>
                  <a:lnTo>
                    <a:pt x="43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45360" y="5587920"/>
              <a:ext cx="2306520" cy="765360"/>
            </a:xfrm>
            <a:custGeom>
              <a:avLst/>
              <a:gdLst/>
              <a:ahLst/>
              <a:rect l="l" t="t" r="r" b="b"/>
              <a:pathLst>
                <a:path w="1453" h="482">
                  <a:moveTo>
                    <a:pt x="1282" y="0"/>
                  </a:moveTo>
                  <a:lnTo>
                    <a:pt x="1447" y="404"/>
                  </a:lnTo>
                  <a:lnTo>
                    <a:pt x="1450" y="411"/>
                  </a:lnTo>
                  <a:lnTo>
                    <a:pt x="1451" y="418"/>
                  </a:lnTo>
                  <a:lnTo>
                    <a:pt x="1452" y="425"/>
                  </a:lnTo>
                  <a:lnTo>
                    <a:pt x="1451" y="434"/>
                  </a:lnTo>
                  <a:lnTo>
                    <a:pt x="1449" y="442"/>
                  </a:lnTo>
                  <a:lnTo>
                    <a:pt x="1446" y="449"/>
                  </a:lnTo>
                  <a:lnTo>
                    <a:pt x="1442" y="456"/>
                  </a:lnTo>
                  <a:lnTo>
                    <a:pt x="1437" y="462"/>
                  </a:lnTo>
                  <a:lnTo>
                    <a:pt x="1431" y="468"/>
                  </a:lnTo>
                  <a:lnTo>
                    <a:pt x="1425" y="472"/>
                  </a:lnTo>
                  <a:lnTo>
                    <a:pt x="1418" y="476"/>
                  </a:lnTo>
                  <a:lnTo>
                    <a:pt x="1411" y="479"/>
                  </a:lnTo>
                  <a:lnTo>
                    <a:pt x="1403" y="480"/>
                  </a:lnTo>
                  <a:lnTo>
                    <a:pt x="1396" y="480"/>
                  </a:lnTo>
                  <a:lnTo>
                    <a:pt x="60" y="480"/>
                  </a:lnTo>
                  <a:lnTo>
                    <a:pt x="52" y="481"/>
                  </a:lnTo>
                  <a:lnTo>
                    <a:pt x="44" y="479"/>
                  </a:lnTo>
                  <a:lnTo>
                    <a:pt x="37" y="478"/>
                  </a:lnTo>
                  <a:lnTo>
                    <a:pt x="29" y="474"/>
                  </a:lnTo>
                  <a:lnTo>
                    <a:pt x="19" y="466"/>
                  </a:lnTo>
                  <a:lnTo>
                    <a:pt x="12" y="460"/>
                  </a:lnTo>
                  <a:lnTo>
                    <a:pt x="6" y="451"/>
                  </a:lnTo>
                  <a:lnTo>
                    <a:pt x="2" y="442"/>
                  </a:lnTo>
                  <a:lnTo>
                    <a:pt x="0" y="431"/>
                  </a:lnTo>
                  <a:lnTo>
                    <a:pt x="0" y="421"/>
                  </a:lnTo>
                  <a:lnTo>
                    <a:pt x="2" y="410"/>
                  </a:lnTo>
                  <a:lnTo>
                    <a:pt x="6" y="400"/>
                  </a:lnTo>
                  <a:lnTo>
                    <a:pt x="9" y="393"/>
                  </a:lnTo>
                  <a:lnTo>
                    <a:pt x="17" y="378"/>
                  </a:lnTo>
                  <a:lnTo>
                    <a:pt x="178" y="0"/>
                  </a:lnTo>
                  <a:lnTo>
                    <a:pt x="1282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91280" y="57466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05680" y="57466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91240" y="5118120"/>
              <a:ext cx="14004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34080" y="605160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161120" y="51307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7846920" y="5130720"/>
              <a:ext cx="152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61440" y="5264280"/>
              <a:ext cx="5688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03920" y="5264280"/>
              <a:ext cx="2286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80400" y="3621240"/>
              <a:ext cx="1058760" cy="392040"/>
            </a:xfrm>
            <a:custGeom>
              <a:avLst/>
              <a:gdLst/>
              <a:ahLst/>
              <a:rect l="l" t="t" r="r" b="b"/>
              <a:pathLst>
                <a:path w="667" h="247">
                  <a:moveTo>
                    <a:pt x="0" y="0"/>
                  </a:moveTo>
                  <a:lnTo>
                    <a:pt x="103" y="117"/>
                  </a:lnTo>
                  <a:lnTo>
                    <a:pt x="103" y="110"/>
                  </a:lnTo>
                  <a:lnTo>
                    <a:pt x="103" y="246"/>
                  </a:lnTo>
                  <a:lnTo>
                    <a:pt x="560" y="246"/>
                  </a:lnTo>
                  <a:lnTo>
                    <a:pt x="553" y="115"/>
                  </a:lnTo>
                  <a:lnTo>
                    <a:pt x="569" y="96"/>
                  </a:lnTo>
                  <a:lnTo>
                    <a:pt x="66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00800" y="433692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01120" y="479412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48704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0760" y="1196640"/>
            <a:ext cx="8400960" cy="50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first sealed the molecules gradually escape the surface of the liqui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molecules build up above the liquid some condense back to a liqu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ose without dipo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re gases at 25º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forces are London Dispersion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depend on size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molecules (such as 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) can be solids even without dipo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ose with dipo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ole-dipole forces are generally stronger than L.D.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bonding is stronger than Dipole-dipole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atter how strong the intermolecular force, it is always much, much weaker than the forces in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er forces lead to higher melting and freezing poi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 is spe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903600" y="2560680"/>
            <a:ext cx="1436760" cy="2485080"/>
            <a:chOff x="903600" y="2560680"/>
            <a:chExt cx="1436760" cy="2485080"/>
          </a:xfrm>
        </p:grpSpPr>
        <p:grpSp>
          <p:nvGrpSpPr>
            <p:cNvPr id="1544" name=""/>
            <p:cNvGrpSpPr/>
            <p:nvPr/>
          </p:nvGrpSpPr>
          <p:grpSpPr>
            <a:xfrm>
              <a:off x="1219320" y="3017880"/>
              <a:ext cx="1091520" cy="1570680"/>
              <a:chOff x="1219320" y="3017880"/>
              <a:chExt cx="1091520" cy="1570680"/>
            </a:xfrm>
          </p:grpSpPr>
          <p:sp>
            <p:nvSpPr>
              <p:cNvPr id="1545" name=""/>
              <p:cNvSpPr/>
              <p:nvPr/>
            </p:nvSpPr>
            <p:spPr>
              <a:xfrm>
                <a:off x="1814760" y="3017880"/>
                <a:ext cx="4960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entury Gothic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219320" y="350532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entury Gothic"/>
                  </a:rPr>
                  <a:t>O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814760" y="4008600"/>
                <a:ext cx="4960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entury Gothic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1599840" y="3352680"/>
                <a:ext cx="228600" cy="22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 flipV="1">
                <a:off x="1599840" y="3962160"/>
                <a:ext cx="228600" cy="22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0" name=""/>
            <p:cNvSpPr/>
            <p:nvPr/>
          </p:nvSpPr>
          <p:spPr>
            <a:xfrm>
              <a:off x="1816920" y="2560680"/>
              <a:ext cx="52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3366ff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740600" y="4465800"/>
              <a:ext cx="52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3366ff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903600" y="3475080"/>
              <a:ext cx="4640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3366ff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2217600" y="1523520"/>
            <a:ext cx="66153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molecule has two polar O-H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 is spe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1219320" y="2560680"/>
            <a:ext cx="1121040" cy="2485080"/>
            <a:chOff x="1219320" y="2560680"/>
            <a:chExt cx="1121040" cy="2485080"/>
          </a:xfrm>
        </p:grpSpPr>
        <p:grpSp>
          <p:nvGrpSpPr>
            <p:cNvPr id="1556" name=""/>
            <p:cNvGrpSpPr/>
            <p:nvPr/>
          </p:nvGrpSpPr>
          <p:grpSpPr>
            <a:xfrm>
              <a:off x="1219320" y="3017880"/>
              <a:ext cx="1091520" cy="1570680"/>
              <a:chOff x="1219320" y="3017880"/>
              <a:chExt cx="1091520" cy="1570680"/>
            </a:xfrm>
          </p:grpSpPr>
          <p:sp>
            <p:nvSpPr>
              <p:cNvPr id="1557" name=""/>
              <p:cNvSpPr/>
              <p:nvPr/>
            </p:nvSpPr>
            <p:spPr>
              <a:xfrm>
                <a:off x="1814760" y="3017880"/>
                <a:ext cx="4960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entury Gothic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219320" y="350532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entury Gothic"/>
                  </a:rPr>
                  <a:t>O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814760" y="4008600"/>
                <a:ext cx="4960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entury Gothic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1599840" y="3352680"/>
                <a:ext cx="228600" cy="22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 flipV="1">
                <a:off x="1599840" y="3962160"/>
                <a:ext cx="228600" cy="22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>
              <a:off x="1816920" y="2560680"/>
              <a:ext cx="52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3366ff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740600" y="4465800"/>
              <a:ext cx="52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3366ff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09760" y="3214800"/>
            <a:ext cx="763560" cy="544320"/>
            <a:chOff x="509760" y="3214800"/>
            <a:chExt cx="763560" cy="544320"/>
          </a:xfrm>
        </p:grpSpPr>
        <p:sp>
          <p:nvSpPr>
            <p:cNvPr id="1565" name=""/>
            <p:cNvSpPr/>
            <p:nvPr/>
          </p:nvSpPr>
          <p:spPr>
            <a:xfrm>
              <a:off x="509760" y="3214800"/>
              <a:ext cx="763560" cy="544320"/>
            </a:xfrm>
            <a:custGeom>
              <a:avLst/>
              <a:gdLst/>
              <a:ahLst/>
              <a:rect l="l" t="t" r="r" b="b"/>
              <a:pathLst>
                <a:path w="481" h="343">
                  <a:moveTo>
                    <a:pt x="282" y="339"/>
                  </a:move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11" y="339"/>
                  </a:lnTo>
                  <a:lnTo>
                    <a:pt x="213" y="342"/>
                  </a:lnTo>
                  <a:lnTo>
                    <a:pt x="211" y="339"/>
                  </a:lnTo>
                  <a:lnTo>
                    <a:pt x="211" y="339"/>
                  </a:lnTo>
                  <a:lnTo>
                    <a:pt x="211" y="339"/>
                  </a:lnTo>
                  <a:lnTo>
                    <a:pt x="150" y="330"/>
                  </a:lnTo>
                  <a:lnTo>
                    <a:pt x="99" y="303"/>
                  </a:lnTo>
                  <a:lnTo>
                    <a:pt x="57" y="273"/>
                  </a:lnTo>
                  <a:lnTo>
                    <a:pt x="44" y="259"/>
                  </a:lnTo>
                  <a:lnTo>
                    <a:pt x="35" y="246"/>
                  </a:lnTo>
                  <a:lnTo>
                    <a:pt x="27" y="228"/>
                  </a:lnTo>
                  <a:lnTo>
                    <a:pt x="18" y="215"/>
                  </a:lnTo>
                  <a:lnTo>
                    <a:pt x="0" y="177"/>
                  </a:lnTo>
                  <a:lnTo>
                    <a:pt x="0" y="129"/>
                  </a:lnTo>
                  <a:lnTo>
                    <a:pt x="9" y="78"/>
                  </a:lnTo>
                  <a:lnTo>
                    <a:pt x="35" y="34"/>
                  </a:lnTo>
                  <a:lnTo>
                    <a:pt x="70" y="13"/>
                  </a:lnTo>
                  <a:lnTo>
                    <a:pt x="120" y="0"/>
                  </a:lnTo>
                  <a:lnTo>
                    <a:pt x="198" y="7"/>
                  </a:lnTo>
                  <a:lnTo>
                    <a:pt x="242" y="25"/>
                  </a:lnTo>
                  <a:lnTo>
                    <a:pt x="256" y="30"/>
                  </a:lnTo>
                  <a:lnTo>
                    <a:pt x="269" y="38"/>
                  </a:lnTo>
                  <a:lnTo>
                    <a:pt x="286" y="52"/>
                  </a:lnTo>
                  <a:lnTo>
                    <a:pt x="304" y="65"/>
                  </a:lnTo>
                  <a:lnTo>
                    <a:pt x="326" y="91"/>
                  </a:lnTo>
                  <a:lnTo>
                    <a:pt x="339" y="105"/>
                  </a:lnTo>
                  <a:lnTo>
                    <a:pt x="370" y="144"/>
                  </a:lnTo>
                  <a:lnTo>
                    <a:pt x="379" y="158"/>
                  </a:lnTo>
                  <a:lnTo>
                    <a:pt x="414" y="206"/>
                  </a:lnTo>
                  <a:lnTo>
                    <a:pt x="442" y="246"/>
                  </a:lnTo>
                  <a:lnTo>
                    <a:pt x="462" y="286"/>
                  </a:lnTo>
                  <a:lnTo>
                    <a:pt x="467" y="299"/>
                  </a:lnTo>
                  <a:lnTo>
                    <a:pt x="480" y="308"/>
                  </a:lnTo>
                  <a:lnTo>
                    <a:pt x="443" y="314"/>
                  </a:lnTo>
                  <a:lnTo>
                    <a:pt x="409" y="317"/>
                  </a:lnTo>
                  <a:lnTo>
                    <a:pt x="368" y="327"/>
                  </a:lnTo>
                  <a:lnTo>
                    <a:pt x="324" y="332"/>
                  </a:lnTo>
                  <a:lnTo>
                    <a:pt x="282" y="339"/>
                  </a:lnTo>
                </a:path>
              </a:pathLst>
            </a:custGeom>
            <a:solidFill>
              <a:srgbClr val="f48f78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95160" y="3276720"/>
              <a:ext cx="9720" cy="3999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847800" y="3286080"/>
              <a:ext cx="0" cy="409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519120" y="3814920"/>
            <a:ext cx="763560" cy="544320"/>
            <a:chOff x="519120" y="3814920"/>
            <a:chExt cx="763560" cy="544320"/>
          </a:xfrm>
        </p:grpSpPr>
        <p:sp>
          <p:nvSpPr>
            <p:cNvPr id="1569" name=""/>
            <p:cNvSpPr/>
            <p:nvPr/>
          </p:nvSpPr>
          <p:spPr>
            <a:xfrm>
              <a:off x="519120" y="3814920"/>
              <a:ext cx="763560" cy="544320"/>
            </a:xfrm>
            <a:custGeom>
              <a:avLst/>
              <a:gdLst/>
              <a:ahLst/>
              <a:rect l="l" t="t" r="r" b="b"/>
              <a:pathLst>
                <a:path w="481" h="343">
                  <a:moveTo>
                    <a:pt x="282" y="3"/>
                  </a:move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11" y="3"/>
                  </a:lnTo>
                  <a:lnTo>
                    <a:pt x="213" y="0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150" y="12"/>
                  </a:lnTo>
                  <a:lnTo>
                    <a:pt x="99" y="39"/>
                  </a:lnTo>
                  <a:lnTo>
                    <a:pt x="57" y="69"/>
                  </a:lnTo>
                  <a:lnTo>
                    <a:pt x="44" y="83"/>
                  </a:lnTo>
                  <a:lnTo>
                    <a:pt x="35" y="96"/>
                  </a:lnTo>
                  <a:lnTo>
                    <a:pt x="27" y="114"/>
                  </a:lnTo>
                  <a:lnTo>
                    <a:pt x="18" y="127"/>
                  </a:lnTo>
                  <a:lnTo>
                    <a:pt x="0" y="165"/>
                  </a:lnTo>
                  <a:lnTo>
                    <a:pt x="0" y="213"/>
                  </a:lnTo>
                  <a:lnTo>
                    <a:pt x="9" y="264"/>
                  </a:lnTo>
                  <a:lnTo>
                    <a:pt x="35" y="308"/>
                  </a:lnTo>
                  <a:lnTo>
                    <a:pt x="70" y="329"/>
                  </a:lnTo>
                  <a:lnTo>
                    <a:pt x="120" y="342"/>
                  </a:lnTo>
                  <a:lnTo>
                    <a:pt x="198" y="335"/>
                  </a:lnTo>
                  <a:lnTo>
                    <a:pt x="242" y="317"/>
                  </a:lnTo>
                  <a:lnTo>
                    <a:pt x="256" y="312"/>
                  </a:lnTo>
                  <a:lnTo>
                    <a:pt x="269" y="304"/>
                  </a:lnTo>
                  <a:lnTo>
                    <a:pt x="286" y="290"/>
                  </a:lnTo>
                  <a:lnTo>
                    <a:pt x="304" y="277"/>
                  </a:lnTo>
                  <a:lnTo>
                    <a:pt x="326" y="251"/>
                  </a:lnTo>
                  <a:lnTo>
                    <a:pt x="339" y="237"/>
                  </a:lnTo>
                  <a:lnTo>
                    <a:pt x="370" y="198"/>
                  </a:lnTo>
                  <a:lnTo>
                    <a:pt x="379" y="184"/>
                  </a:lnTo>
                  <a:lnTo>
                    <a:pt x="414" y="136"/>
                  </a:lnTo>
                  <a:lnTo>
                    <a:pt x="442" y="96"/>
                  </a:lnTo>
                  <a:lnTo>
                    <a:pt x="462" y="56"/>
                  </a:lnTo>
                  <a:lnTo>
                    <a:pt x="467" y="43"/>
                  </a:lnTo>
                  <a:lnTo>
                    <a:pt x="480" y="34"/>
                  </a:lnTo>
                  <a:lnTo>
                    <a:pt x="443" y="28"/>
                  </a:lnTo>
                  <a:lnTo>
                    <a:pt x="409" y="25"/>
                  </a:lnTo>
                  <a:lnTo>
                    <a:pt x="368" y="15"/>
                  </a:lnTo>
                  <a:lnTo>
                    <a:pt x="324" y="10"/>
                  </a:lnTo>
                  <a:lnTo>
                    <a:pt x="282" y="3"/>
                  </a:lnTo>
                </a:path>
              </a:pathLst>
            </a:custGeom>
            <a:solidFill>
              <a:srgbClr val="f48f78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704880" y="3895560"/>
              <a:ext cx="9360" cy="400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57160" y="3876840"/>
              <a:ext cx="0" cy="409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2217600" y="1523520"/>
            <a:ext cx="66153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molecule has two polar O-H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molecule has two lone pair on its oxy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 is spe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2217600" y="1523520"/>
            <a:ext cx="66153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molecule has two polar O-H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molecule has two lone pair on its oxy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xygen can interact with 4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509760" y="2560680"/>
            <a:ext cx="1830600" cy="2485080"/>
            <a:chOff x="509760" y="2560680"/>
            <a:chExt cx="1830600" cy="2485080"/>
          </a:xfrm>
        </p:grpSpPr>
        <p:grpSp>
          <p:nvGrpSpPr>
            <p:cNvPr id="1576" name=""/>
            <p:cNvGrpSpPr/>
            <p:nvPr/>
          </p:nvGrpSpPr>
          <p:grpSpPr>
            <a:xfrm>
              <a:off x="1219320" y="2560680"/>
              <a:ext cx="1121040" cy="2485080"/>
              <a:chOff x="1219320" y="2560680"/>
              <a:chExt cx="1121040" cy="2485080"/>
            </a:xfrm>
          </p:grpSpPr>
          <p:grpSp>
            <p:nvGrpSpPr>
              <p:cNvPr id="1577" name=""/>
              <p:cNvGrpSpPr/>
              <p:nvPr/>
            </p:nvGrpSpPr>
            <p:grpSpPr>
              <a:xfrm>
                <a:off x="1219320" y="3017880"/>
                <a:ext cx="1091520" cy="1570680"/>
                <a:chOff x="1219320" y="3017880"/>
                <a:chExt cx="1091520" cy="1570680"/>
              </a:xfrm>
            </p:grpSpPr>
            <p:sp>
              <p:nvSpPr>
                <p:cNvPr id="1578" name=""/>
                <p:cNvSpPr/>
                <p:nvPr/>
              </p:nvSpPr>
              <p:spPr>
                <a:xfrm>
                  <a:off x="1814760" y="3017880"/>
                  <a:ext cx="4960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Century Gothic"/>
                    </a:rPr>
                    <a:t>H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1219320" y="3505320"/>
                  <a:ext cx="45720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Century Gothic"/>
                    </a:rPr>
                    <a:t>O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1814760" y="4008600"/>
                  <a:ext cx="4960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Century Gothic"/>
                    </a:rPr>
                    <a:t>H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>
                  <a:off x="1599840" y="3352680"/>
                  <a:ext cx="228600" cy="2286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flipH="1" flipV="1">
                  <a:off x="1599840" y="3962160"/>
                  <a:ext cx="228600" cy="2286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3" name=""/>
              <p:cNvSpPr/>
              <p:nvPr/>
            </p:nvSpPr>
            <p:spPr>
              <a:xfrm>
                <a:off x="1816920" y="2560680"/>
                <a:ext cx="5234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66ff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3366ff"/>
                    </a:solidFill>
                    <a:latin typeface="Symbol"/>
                    <a:ea typeface="Symbol"/>
                  </a:rPr>
                  <a:t>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40600" y="4465800"/>
                <a:ext cx="5234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66ff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3366ff"/>
                    </a:solidFill>
                    <a:latin typeface="Symbol"/>
                    <a:ea typeface="Symbol"/>
                  </a:rPr>
                  <a:t>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09760" y="3214800"/>
              <a:ext cx="763560" cy="544320"/>
              <a:chOff x="509760" y="3214800"/>
              <a:chExt cx="763560" cy="544320"/>
            </a:xfrm>
          </p:grpSpPr>
          <p:sp>
            <p:nvSpPr>
              <p:cNvPr id="1586" name=""/>
              <p:cNvSpPr/>
              <p:nvPr/>
            </p:nvSpPr>
            <p:spPr>
              <a:xfrm>
                <a:off x="509760" y="3214800"/>
                <a:ext cx="763560" cy="544320"/>
              </a:xfrm>
              <a:custGeom>
                <a:avLst/>
                <a:gdLst/>
                <a:ahLst/>
                <a:rect l="l" t="t" r="r" b="b"/>
                <a:pathLst>
                  <a:path w="481" h="343">
                    <a:moveTo>
                      <a:pt x="282" y="339"/>
                    </a:move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11" y="339"/>
                    </a:lnTo>
                    <a:lnTo>
                      <a:pt x="213" y="342"/>
                    </a:lnTo>
                    <a:lnTo>
                      <a:pt x="211" y="339"/>
                    </a:lnTo>
                    <a:lnTo>
                      <a:pt x="211" y="339"/>
                    </a:lnTo>
                    <a:lnTo>
                      <a:pt x="211" y="339"/>
                    </a:lnTo>
                    <a:lnTo>
                      <a:pt x="150" y="330"/>
                    </a:lnTo>
                    <a:lnTo>
                      <a:pt x="99" y="303"/>
                    </a:lnTo>
                    <a:lnTo>
                      <a:pt x="57" y="273"/>
                    </a:lnTo>
                    <a:lnTo>
                      <a:pt x="44" y="259"/>
                    </a:lnTo>
                    <a:lnTo>
                      <a:pt x="35" y="246"/>
                    </a:lnTo>
                    <a:lnTo>
                      <a:pt x="27" y="228"/>
                    </a:lnTo>
                    <a:lnTo>
                      <a:pt x="18" y="215"/>
                    </a:lnTo>
                    <a:lnTo>
                      <a:pt x="0" y="177"/>
                    </a:lnTo>
                    <a:lnTo>
                      <a:pt x="0" y="129"/>
                    </a:lnTo>
                    <a:lnTo>
                      <a:pt x="9" y="78"/>
                    </a:lnTo>
                    <a:lnTo>
                      <a:pt x="35" y="34"/>
                    </a:lnTo>
                    <a:lnTo>
                      <a:pt x="70" y="13"/>
                    </a:lnTo>
                    <a:lnTo>
                      <a:pt x="120" y="0"/>
                    </a:lnTo>
                    <a:lnTo>
                      <a:pt x="198" y="7"/>
                    </a:lnTo>
                    <a:lnTo>
                      <a:pt x="242" y="25"/>
                    </a:lnTo>
                    <a:lnTo>
                      <a:pt x="256" y="30"/>
                    </a:lnTo>
                    <a:lnTo>
                      <a:pt x="269" y="38"/>
                    </a:lnTo>
                    <a:lnTo>
                      <a:pt x="286" y="52"/>
                    </a:lnTo>
                    <a:lnTo>
                      <a:pt x="304" y="65"/>
                    </a:lnTo>
                    <a:lnTo>
                      <a:pt x="326" y="91"/>
                    </a:lnTo>
                    <a:lnTo>
                      <a:pt x="339" y="105"/>
                    </a:lnTo>
                    <a:lnTo>
                      <a:pt x="370" y="144"/>
                    </a:lnTo>
                    <a:lnTo>
                      <a:pt x="379" y="158"/>
                    </a:lnTo>
                    <a:lnTo>
                      <a:pt x="414" y="206"/>
                    </a:lnTo>
                    <a:lnTo>
                      <a:pt x="442" y="246"/>
                    </a:lnTo>
                    <a:lnTo>
                      <a:pt x="462" y="286"/>
                    </a:lnTo>
                    <a:lnTo>
                      <a:pt x="467" y="299"/>
                    </a:lnTo>
                    <a:lnTo>
                      <a:pt x="480" y="308"/>
                    </a:lnTo>
                    <a:lnTo>
                      <a:pt x="443" y="314"/>
                    </a:lnTo>
                    <a:lnTo>
                      <a:pt x="409" y="317"/>
                    </a:lnTo>
                    <a:lnTo>
                      <a:pt x="368" y="327"/>
                    </a:lnTo>
                    <a:lnTo>
                      <a:pt x="324" y="332"/>
                    </a:lnTo>
                    <a:lnTo>
                      <a:pt x="282" y="339"/>
                    </a:lnTo>
                  </a:path>
                </a:pathLst>
              </a:custGeom>
              <a:solidFill>
                <a:srgbClr val="f48f78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95160" y="3276720"/>
                <a:ext cx="9720" cy="3999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847800" y="3286080"/>
                <a:ext cx="0" cy="4096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519120" y="3814920"/>
              <a:ext cx="763560" cy="544320"/>
              <a:chOff x="519120" y="3814920"/>
              <a:chExt cx="763560" cy="544320"/>
            </a:xfrm>
          </p:grpSpPr>
          <p:sp>
            <p:nvSpPr>
              <p:cNvPr id="1590" name=""/>
              <p:cNvSpPr/>
              <p:nvPr/>
            </p:nvSpPr>
            <p:spPr>
              <a:xfrm>
                <a:off x="519120" y="3814920"/>
                <a:ext cx="763560" cy="544320"/>
              </a:xfrm>
              <a:custGeom>
                <a:avLst/>
                <a:gdLst/>
                <a:ahLst/>
                <a:rect l="l" t="t" r="r" b="b"/>
                <a:pathLst>
                  <a:path w="481" h="343">
                    <a:moveTo>
                      <a:pt x="282" y="3"/>
                    </a:move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11" y="3"/>
                    </a:lnTo>
                    <a:lnTo>
                      <a:pt x="213" y="0"/>
                    </a:lnTo>
                    <a:lnTo>
                      <a:pt x="211" y="3"/>
                    </a:lnTo>
                    <a:lnTo>
                      <a:pt x="211" y="3"/>
                    </a:lnTo>
                    <a:lnTo>
                      <a:pt x="211" y="3"/>
                    </a:lnTo>
                    <a:lnTo>
                      <a:pt x="150" y="12"/>
                    </a:lnTo>
                    <a:lnTo>
                      <a:pt x="99" y="39"/>
                    </a:lnTo>
                    <a:lnTo>
                      <a:pt x="57" y="69"/>
                    </a:lnTo>
                    <a:lnTo>
                      <a:pt x="44" y="83"/>
                    </a:lnTo>
                    <a:lnTo>
                      <a:pt x="35" y="96"/>
                    </a:lnTo>
                    <a:lnTo>
                      <a:pt x="27" y="114"/>
                    </a:lnTo>
                    <a:lnTo>
                      <a:pt x="18" y="127"/>
                    </a:lnTo>
                    <a:lnTo>
                      <a:pt x="0" y="165"/>
                    </a:lnTo>
                    <a:lnTo>
                      <a:pt x="0" y="213"/>
                    </a:lnTo>
                    <a:lnTo>
                      <a:pt x="9" y="264"/>
                    </a:lnTo>
                    <a:lnTo>
                      <a:pt x="35" y="308"/>
                    </a:lnTo>
                    <a:lnTo>
                      <a:pt x="70" y="329"/>
                    </a:lnTo>
                    <a:lnTo>
                      <a:pt x="120" y="342"/>
                    </a:lnTo>
                    <a:lnTo>
                      <a:pt x="198" y="335"/>
                    </a:lnTo>
                    <a:lnTo>
                      <a:pt x="242" y="317"/>
                    </a:lnTo>
                    <a:lnTo>
                      <a:pt x="256" y="312"/>
                    </a:lnTo>
                    <a:lnTo>
                      <a:pt x="269" y="304"/>
                    </a:lnTo>
                    <a:lnTo>
                      <a:pt x="286" y="290"/>
                    </a:lnTo>
                    <a:lnTo>
                      <a:pt x="304" y="277"/>
                    </a:lnTo>
                    <a:lnTo>
                      <a:pt x="326" y="251"/>
                    </a:lnTo>
                    <a:lnTo>
                      <a:pt x="339" y="237"/>
                    </a:lnTo>
                    <a:lnTo>
                      <a:pt x="370" y="198"/>
                    </a:lnTo>
                    <a:lnTo>
                      <a:pt x="379" y="184"/>
                    </a:lnTo>
                    <a:lnTo>
                      <a:pt x="414" y="136"/>
                    </a:lnTo>
                    <a:lnTo>
                      <a:pt x="442" y="96"/>
                    </a:lnTo>
                    <a:lnTo>
                      <a:pt x="462" y="56"/>
                    </a:lnTo>
                    <a:lnTo>
                      <a:pt x="467" y="43"/>
                    </a:lnTo>
                    <a:lnTo>
                      <a:pt x="480" y="34"/>
                    </a:lnTo>
                    <a:lnTo>
                      <a:pt x="443" y="28"/>
                    </a:lnTo>
                    <a:lnTo>
                      <a:pt x="409" y="25"/>
                    </a:lnTo>
                    <a:lnTo>
                      <a:pt x="368" y="15"/>
                    </a:lnTo>
                    <a:lnTo>
                      <a:pt x="324" y="10"/>
                    </a:lnTo>
                    <a:lnTo>
                      <a:pt x="282" y="3"/>
                    </a:lnTo>
                  </a:path>
                </a:pathLst>
              </a:custGeom>
              <a:solidFill>
                <a:srgbClr val="f48f78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704880" y="3895560"/>
                <a:ext cx="9360" cy="4003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857160" y="3876840"/>
                <a:ext cx="0" cy="4093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 is spe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4" name=""/>
          <p:cNvGrpSpPr/>
          <p:nvPr/>
        </p:nvGrpSpPr>
        <p:grpSpPr>
          <a:xfrm>
            <a:off x="395280" y="1512720"/>
            <a:ext cx="4173840" cy="5018760"/>
            <a:chOff x="395280" y="1512720"/>
            <a:chExt cx="4173840" cy="5018760"/>
          </a:xfrm>
        </p:grpSpPr>
        <p:grpSp>
          <p:nvGrpSpPr>
            <p:cNvPr id="1595" name=""/>
            <p:cNvGrpSpPr/>
            <p:nvPr/>
          </p:nvGrpSpPr>
          <p:grpSpPr>
            <a:xfrm>
              <a:off x="2738520" y="2865600"/>
              <a:ext cx="1830600" cy="2484720"/>
              <a:chOff x="2738520" y="2865600"/>
              <a:chExt cx="1830600" cy="2484720"/>
            </a:xfrm>
          </p:grpSpPr>
          <p:grpSp>
            <p:nvGrpSpPr>
              <p:cNvPr id="1596" name=""/>
              <p:cNvGrpSpPr/>
              <p:nvPr/>
            </p:nvGrpSpPr>
            <p:grpSpPr>
              <a:xfrm>
                <a:off x="3448080" y="2865600"/>
                <a:ext cx="1121040" cy="2484720"/>
                <a:chOff x="3448080" y="2865600"/>
                <a:chExt cx="1121040" cy="2484720"/>
              </a:xfrm>
            </p:grpSpPr>
            <p:grpSp>
              <p:nvGrpSpPr>
                <p:cNvPr id="1597" name=""/>
                <p:cNvGrpSpPr/>
                <p:nvPr/>
              </p:nvGrpSpPr>
              <p:grpSpPr>
                <a:xfrm>
                  <a:off x="3448080" y="3322800"/>
                  <a:ext cx="1091520" cy="1570320"/>
                  <a:chOff x="3448080" y="3322800"/>
                  <a:chExt cx="1091520" cy="1570320"/>
                </a:xfrm>
              </p:grpSpPr>
              <p:sp>
                <p:nvSpPr>
                  <p:cNvPr id="1598" name=""/>
                  <p:cNvSpPr/>
                  <p:nvPr/>
                </p:nvSpPr>
                <p:spPr>
                  <a:xfrm>
                    <a:off x="4043520" y="3322800"/>
                    <a:ext cx="49608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H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3448080" y="3809880"/>
                    <a:ext cx="45720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O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4043520" y="4313160"/>
                    <a:ext cx="49608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H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 flipH="1">
                    <a:off x="3828600" y="3657600"/>
                    <a:ext cx="228600" cy="2286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 flipH="1" flipV="1">
                    <a:off x="3828600" y="4266720"/>
                    <a:ext cx="228600" cy="2286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3" name=""/>
                <p:cNvSpPr/>
                <p:nvPr/>
              </p:nvSpPr>
              <p:spPr>
                <a:xfrm>
                  <a:off x="4045680" y="2865600"/>
                  <a:ext cx="5234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3969720" y="4770360"/>
                  <a:ext cx="5234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2738520" y="3519360"/>
                <a:ext cx="763560" cy="544680"/>
                <a:chOff x="2738520" y="3519360"/>
                <a:chExt cx="763560" cy="54468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2738520" y="3519360"/>
                  <a:ext cx="763560" cy="544680"/>
                </a:xfrm>
                <a:custGeom>
                  <a:avLst/>
                  <a:gdLst/>
                  <a:ahLst/>
                  <a:rect l="l" t="t" r="r" b="b"/>
                  <a:pathLst>
                    <a:path w="481" h="343">
                      <a:moveTo>
                        <a:pt x="282" y="339"/>
                      </a:move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11" y="339"/>
                      </a:lnTo>
                      <a:lnTo>
                        <a:pt x="213" y="342"/>
                      </a:lnTo>
                      <a:lnTo>
                        <a:pt x="211" y="339"/>
                      </a:lnTo>
                      <a:lnTo>
                        <a:pt x="211" y="339"/>
                      </a:lnTo>
                      <a:lnTo>
                        <a:pt x="211" y="339"/>
                      </a:lnTo>
                      <a:lnTo>
                        <a:pt x="150" y="330"/>
                      </a:lnTo>
                      <a:lnTo>
                        <a:pt x="99" y="303"/>
                      </a:lnTo>
                      <a:lnTo>
                        <a:pt x="57" y="273"/>
                      </a:lnTo>
                      <a:lnTo>
                        <a:pt x="44" y="259"/>
                      </a:lnTo>
                      <a:lnTo>
                        <a:pt x="35" y="246"/>
                      </a:lnTo>
                      <a:lnTo>
                        <a:pt x="27" y="228"/>
                      </a:lnTo>
                      <a:lnTo>
                        <a:pt x="18" y="215"/>
                      </a:lnTo>
                      <a:lnTo>
                        <a:pt x="0" y="177"/>
                      </a:lnTo>
                      <a:lnTo>
                        <a:pt x="0" y="129"/>
                      </a:lnTo>
                      <a:lnTo>
                        <a:pt x="9" y="78"/>
                      </a:lnTo>
                      <a:lnTo>
                        <a:pt x="35" y="34"/>
                      </a:lnTo>
                      <a:lnTo>
                        <a:pt x="70" y="13"/>
                      </a:lnTo>
                      <a:lnTo>
                        <a:pt x="120" y="0"/>
                      </a:lnTo>
                      <a:lnTo>
                        <a:pt x="198" y="7"/>
                      </a:lnTo>
                      <a:lnTo>
                        <a:pt x="242" y="25"/>
                      </a:lnTo>
                      <a:lnTo>
                        <a:pt x="256" y="30"/>
                      </a:lnTo>
                      <a:lnTo>
                        <a:pt x="269" y="38"/>
                      </a:lnTo>
                      <a:lnTo>
                        <a:pt x="286" y="52"/>
                      </a:lnTo>
                      <a:lnTo>
                        <a:pt x="304" y="65"/>
                      </a:lnTo>
                      <a:lnTo>
                        <a:pt x="326" y="91"/>
                      </a:lnTo>
                      <a:lnTo>
                        <a:pt x="339" y="105"/>
                      </a:lnTo>
                      <a:lnTo>
                        <a:pt x="370" y="144"/>
                      </a:lnTo>
                      <a:lnTo>
                        <a:pt x="379" y="158"/>
                      </a:lnTo>
                      <a:lnTo>
                        <a:pt x="414" y="206"/>
                      </a:lnTo>
                      <a:lnTo>
                        <a:pt x="442" y="246"/>
                      </a:lnTo>
                      <a:lnTo>
                        <a:pt x="462" y="286"/>
                      </a:lnTo>
                      <a:lnTo>
                        <a:pt x="467" y="299"/>
                      </a:lnTo>
                      <a:lnTo>
                        <a:pt x="480" y="308"/>
                      </a:lnTo>
                      <a:lnTo>
                        <a:pt x="443" y="314"/>
                      </a:lnTo>
                      <a:lnTo>
                        <a:pt x="409" y="317"/>
                      </a:lnTo>
                      <a:lnTo>
                        <a:pt x="368" y="327"/>
                      </a:lnTo>
                      <a:lnTo>
                        <a:pt x="324" y="332"/>
                      </a:lnTo>
                      <a:lnTo>
                        <a:pt x="282" y="339"/>
                      </a:lnTo>
                    </a:path>
                  </a:pathLst>
                </a:custGeom>
                <a:solidFill>
                  <a:srgbClr val="f48f78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2924280" y="3581280"/>
                  <a:ext cx="9360" cy="4003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V="1">
                  <a:off x="3076560" y="3591000"/>
                  <a:ext cx="0" cy="4096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9" name=""/>
              <p:cNvGrpSpPr/>
              <p:nvPr/>
            </p:nvGrpSpPr>
            <p:grpSpPr>
              <a:xfrm>
                <a:off x="2747880" y="4119480"/>
                <a:ext cx="763560" cy="544680"/>
                <a:chOff x="2747880" y="4119480"/>
                <a:chExt cx="763560" cy="544680"/>
              </a:xfrm>
            </p:grpSpPr>
            <p:sp>
              <p:nvSpPr>
                <p:cNvPr id="1610" name=""/>
                <p:cNvSpPr/>
                <p:nvPr/>
              </p:nvSpPr>
              <p:spPr>
                <a:xfrm>
                  <a:off x="2747880" y="4119480"/>
                  <a:ext cx="763560" cy="544680"/>
                </a:xfrm>
                <a:custGeom>
                  <a:avLst/>
                  <a:gdLst/>
                  <a:ahLst/>
                  <a:rect l="l" t="t" r="r" b="b"/>
                  <a:pathLst>
                    <a:path w="481" h="343">
                      <a:moveTo>
                        <a:pt x="282" y="3"/>
                      </a:move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11" y="3"/>
                      </a:lnTo>
                      <a:lnTo>
                        <a:pt x="213" y="0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150" y="12"/>
                      </a:lnTo>
                      <a:lnTo>
                        <a:pt x="99" y="39"/>
                      </a:lnTo>
                      <a:lnTo>
                        <a:pt x="57" y="69"/>
                      </a:lnTo>
                      <a:lnTo>
                        <a:pt x="44" y="83"/>
                      </a:lnTo>
                      <a:lnTo>
                        <a:pt x="35" y="96"/>
                      </a:lnTo>
                      <a:lnTo>
                        <a:pt x="27" y="114"/>
                      </a:lnTo>
                      <a:lnTo>
                        <a:pt x="18" y="127"/>
                      </a:lnTo>
                      <a:lnTo>
                        <a:pt x="0" y="165"/>
                      </a:lnTo>
                      <a:lnTo>
                        <a:pt x="0" y="213"/>
                      </a:lnTo>
                      <a:lnTo>
                        <a:pt x="9" y="264"/>
                      </a:lnTo>
                      <a:lnTo>
                        <a:pt x="35" y="308"/>
                      </a:lnTo>
                      <a:lnTo>
                        <a:pt x="70" y="329"/>
                      </a:lnTo>
                      <a:lnTo>
                        <a:pt x="120" y="342"/>
                      </a:lnTo>
                      <a:lnTo>
                        <a:pt x="198" y="335"/>
                      </a:lnTo>
                      <a:lnTo>
                        <a:pt x="242" y="317"/>
                      </a:lnTo>
                      <a:lnTo>
                        <a:pt x="256" y="312"/>
                      </a:lnTo>
                      <a:lnTo>
                        <a:pt x="269" y="304"/>
                      </a:lnTo>
                      <a:lnTo>
                        <a:pt x="286" y="290"/>
                      </a:lnTo>
                      <a:lnTo>
                        <a:pt x="304" y="277"/>
                      </a:lnTo>
                      <a:lnTo>
                        <a:pt x="326" y="251"/>
                      </a:lnTo>
                      <a:lnTo>
                        <a:pt x="339" y="237"/>
                      </a:lnTo>
                      <a:lnTo>
                        <a:pt x="370" y="198"/>
                      </a:lnTo>
                      <a:lnTo>
                        <a:pt x="379" y="184"/>
                      </a:lnTo>
                      <a:lnTo>
                        <a:pt x="414" y="136"/>
                      </a:lnTo>
                      <a:lnTo>
                        <a:pt x="442" y="96"/>
                      </a:lnTo>
                      <a:lnTo>
                        <a:pt x="462" y="56"/>
                      </a:lnTo>
                      <a:lnTo>
                        <a:pt x="467" y="43"/>
                      </a:lnTo>
                      <a:lnTo>
                        <a:pt x="480" y="34"/>
                      </a:lnTo>
                      <a:lnTo>
                        <a:pt x="443" y="28"/>
                      </a:lnTo>
                      <a:lnTo>
                        <a:pt x="409" y="25"/>
                      </a:lnTo>
                      <a:lnTo>
                        <a:pt x="368" y="15"/>
                      </a:lnTo>
                      <a:lnTo>
                        <a:pt x="324" y="10"/>
                      </a:lnTo>
                      <a:lnTo>
                        <a:pt x="282" y="3"/>
                      </a:lnTo>
                    </a:path>
                  </a:pathLst>
                </a:custGeom>
                <a:solidFill>
                  <a:srgbClr val="f48f78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V="1">
                  <a:off x="2933640" y="4200120"/>
                  <a:ext cx="9720" cy="3999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086280" y="4181400"/>
                  <a:ext cx="0" cy="4096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13" name=""/>
            <p:cNvGrpSpPr/>
            <p:nvPr/>
          </p:nvGrpSpPr>
          <p:grpSpPr>
            <a:xfrm>
              <a:off x="452520" y="1512720"/>
              <a:ext cx="1830600" cy="2485080"/>
              <a:chOff x="452520" y="1512720"/>
              <a:chExt cx="1830600" cy="2485080"/>
            </a:xfrm>
          </p:grpSpPr>
          <p:grpSp>
            <p:nvGrpSpPr>
              <p:cNvPr id="1614" name=""/>
              <p:cNvGrpSpPr/>
              <p:nvPr/>
            </p:nvGrpSpPr>
            <p:grpSpPr>
              <a:xfrm>
                <a:off x="1162080" y="1512720"/>
                <a:ext cx="1121040" cy="2485080"/>
                <a:chOff x="1162080" y="1512720"/>
                <a:chExt cx="1121040" cy="2485080"/>
              </a:xfrm>
            </p:grpSpPr>
            <p:grpSp>
              <p:nvGrpSpPr>
                <p:cNvPr id="1615" name=""/>
                <p:cNvGrpSpPr/>
                <p:nvPr/>
              </p:nvGrpSpPr>
              <p:grpSpPr>
                <a:xfrm>
                  <a:off x="1162080" y="1969920"/>
                  <a:ext cx="1091520" cy="1570680"/>
                  <a:chOff x="1162080" y="1969920"/>
                  <a:chExt cx="1091520" cy="15706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1757520" y="1969920"/>
                    <a:ext cx="49608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H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1162080" y="2457360"/>
                    <a:ext cx="45720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O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1757520" y="2960640"/>
                    <a:ext cx="49608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H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 flipH="1">
                    <a:off x="1542600" y="2305080"/>
                    <a:ext cx="228600" cy="2286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 flipH="1" flipV="1">
                    <a:off x="1542600" y="2914200"/>
                    <a:ext cx="228600" cy="2286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1" name=""/>
                <p:cNvSpPr/>
                <p:nvPr/>
              </p:nvSpPr>
              <p:spPr>
                <a:xfrm>
                  <a:off x="1759680" y="1512720"/>
                  <a:ext cx="5234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1683720" y="3417840"/>
                  <a:ext cx="5234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452520" y="2166840"/>
                <a:ext cx="763560" cy="544680"/>
                <a:chOff x="452520" y="2166840"/>
                <a:chExt cx="763560" cy="54468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452520" y="2166840"/>
                  <a:ext cx="763560" cy="544680"/>
                </a:xfrm>
                <a:custGeom>
                  <a:avLst/>
                  <a:gdLst/>
                  <a:ahLst/>
                  <a:rect l="l" t="t" r="r" b="b"/>
                  <a:pathLst>
                    <a:path w="481" h="343">
                      <a:moveTo>
                        <a:pt x="282" y="339"/>
                      </a:move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11" y="339"/>
                      </a:lnTo>
                      <a:lnTo>
                        <a:pt x="213" y="342"/>
                      </a:lnTo>
                      <a:lnTo>
                        <a:pt x="211" y="339"/>
                      </a:lnTo>
                      <a:lnTo>
                        <a:pt x="211" y="339"/>
                      </a:lnTo>
                      <a:lnTo>
                        <a:pt x="211" y="339"/>
                      </a:lnTo>
                      <a:lnTo>
                        <a:pt x="150" y="330"/>
                      </a:lnTo>
                      <a:lnTo>
                        <a:pt x="99" y="303"/>
                      </a:lnTo>
                      <a:lnTo>
                        <a:pt x="57" y="273"/>
                      </a:lnTo>
                      <a:lnTo>
                        <a:pt x="44" y="259"/>
                      </a:lnTo>
                      <a:lnTo>
                        <a:pt x="35" y="246"/>
                      </a:lnTo>
                      <a:lnTo>
                        <a:pt x="27" y="228"/>
                      </a:lnTo>
                      <a:lnTo>
                        <a:pt x="18" y="215"/>
                      </a:lnTo>
                      <a:lnTo>
                        <a:pt x="0" y="177"/>
                      </a:lnTo>
                      <a:lnTo>
                        <a:pt x="0" y="129"/>
                      </a:lnTo>
                      <a:lnTo>
                        <a:pt x="9" y="78"/>
                      </a:lnTo>
                      <a:lnTo>
                        <a:pt x="35" y="34"/>
                      </a:lnTo>
                      <a:lnTo>
                        <a:pt x="70" y="13"/>
                      </a:lnTo>
                      <a:lnTo>
                        <a:pt x="120" y="0"/>
                      </a:lnTo>
                      <a:lnTo>
                        <a:pt x="198" y="7"/>
                      </a:lnTo>
                      <a:lnTo>
                        <a:pt x="242" y="25"/>
                      </a:lnTo>
                      <a:lnTo>
                        <a:pt x="256" y="30"/>
                      </a:lnTo>
                      <a:lnTo>
                        <a:pt x="269" y="38"/>
                      </a:lnTo>
                      <a:lnTo>
                        <a:pt x="286" y="52"/>
                      </a:lnTo>
                      <a:lnTo>
                        <a:pt x="304" y="65"/>
                      </a:lnTo>
                      <a:lnTo>
                        <a:pt x="326" y="91"/>
                      </a:lnTo>
                      <a:lnTo>
                        <a:pt x="339" y="105"/>
                      </a:lnTo>
                      <a:lnTo>
                        <a:pt x="370" y="144"/>
                      </a:lnTo>
                      <a:lnTo>
                        <a:pt x="379" y="158"/>
                      </a:lnTo>
                      <a:lnTo>
                        <a:pt x="414" y="206"/>
                      </a:lnTo>
                      <a:lnTo>
                        <a:pt x="442" y="246"/>
                      </a:lnTo>
                      <a:lnTo>
                        <a:pt x="462" y="286"/>
                      </a:lnTo>
                      <a:lnTo>
                        <a:pt x="467" y="299"/>
                      </a:lnTo>
                      <a:lnTo>
                        <a:pt x="480" y="308"/>
                      </a:lnTo>
                      <a:lnTo>
                        <a:pt x="443" y="314"/>
                      </a:lnTo>
                      <a:lnTo>
                        <a:pt x="409" y="317"/>
                      </a:lnTo>
                      <a:lnTo>
                        <a:pt x="368" y="327"/>
                      </a:lnTo>
                      <a:lnTo>
                        <a:pt x="324" y="332"/>
                      </a:lnTo>
                      <a:lnTo>
                        <a:pt x="282" y="339"/>
                      </a:lnTo>
                    </a:path>
                  </a:pathLst>
                </a:custGeom>
                <a:solidFill>
                  <a:srgbClr val="f48f78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638280" y="2228760"/>
                  <a:ext cx="9360" cy="4003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V="1">
                  <a:off x="790560" y="2238120"/>
                  <a:ext cx="0" cy="4093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7" name=""/>
              <p:cNvGrpSpPr/>
              <p:nvPr/>
            </p:nvGrpSpPr>
            <p:grpSpPr>
              <a:xfrm>
                <a:off x="461880" y="2766960"/>
                <a:ext cx="763560" cy="544680"/>
                <a:chOff x="461880" y="2766960"/>
                <a:chExt cx="763560" cy="54468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461880" y="2766960"/>
                  <a:ext cx="763560" cy="544680"/>
                </a:xfrm>
                <a:custGeom>
                  <a:avLst/>
                  <a:gdLst/>
                  <a:ahLst/>
                  <a:rect l="l" t="t" r="r" b="b"/>
                  <a:pathLst>
                    <a:path w="481" h="343">
                      <a:moveTo>
                        <a:pt x="282" y="3"/>
                      </a:move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11" y="3"/>
                      </a:lnTo>
                      <a:lnTo>
                        <a:pt x="213" y="0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150" y="12"/>
                      </a:lnTo>
                      <a:lnTo>
                        <a:pt x="99" y="39"/>
                      </a:lnTo>
                      <a:lnTo>
                        <a:pt x="57" y="69"/>
                      </a:lnTo>
                      <a:lnTo>
                        <a:pt x="44" y="83"/>
                      </a:lnTo>
                      <a:lnTo>
                        <a:pt x="35" y="96"/>
                      </a:lnTo>
                      <a:lnTo>
                        <a:pt x="27" y="114"/>
                      </a:lnTo>
                      <a:lnTo>
                        <a:pt x="18" y="127"/>
                      </a:lnTo>
                      <a:lnTo>
                        <a:pt x="0" y="165"/>
                      </a:lnTo>
                      <a:lnTo>
                        <a:pt x="0" y="213"/>
                      </a:lnTo>
                      <a:lnTo>
                        <a:pt x="9" y="264"/>
                      </a:lnTo>
                      <a:lnTo>
                        <a:pt x="35" y="308"/>
                      </a:lnTo>
                      <a:lnTo>
                        <a:pt x="70" y="329"/>
                      </a:lnTo>
                      <a:lnTo>
                        <a:pt x="120" y="342"/>
                      </a:lnTo>
                      <a:lnTo>
                        <a:pt x="198" y="335"/>
                      </a:lnTo>
                      <a:lnTo>
                        <a:pt x="242" y="317"/>
                      </a:lnTo>
                      <a:lnTo>
                        <a:pt x="256" y="312"/>
                      </a:lnTo>
                      <a:lnTo>
                        <a:pt x="269" y="304"/>
                      </a:lnTo>
                      <a:lnTo>
                        <a:pt x="286" y="290"/>
                      </a:lnTo>
                      <a:lnTo>
                        <a:pt x="304" y="277"/>
                      </a:lnTo>
                      <a:lnTo>
                        <a:pt x="326" y="251"/>
                      </a:lnTo>
                      <a:lnTo>
                        <a:pt x="339" y="237"/>
                      </a:lnTo>
                      <a:lnTo>
                        <a:pt x="370" y="198"/>
                      </a:lnTo>
                      <a:lnTo>
                        <a:pt x="379" y="184"/>
                      </a:lnTo>
                      <a:lnTo>
                        <a:pt x="414" y="136"/>
                      </a:lnTo>
                      <a:lnTo>
                        <a:pt x="442" y="96"/>
                      </a:lnTo>
                      <a:lnTo>
                        <a:pt x="462" y="56"/>
                      </a:lnTo>
                      <a:lnTo>
                        <a:pt x="467" y="43"/>
                      </a:lnTo>
                      <a:lnTo>
                        <a:pt x="480" y="34"/>
                      </a:lnTo>
                      <a:lnTo>
                        <a:pt x="443" y="28"/>
                      </a:lnTo>
                      <a:lnTo>
                        <a:pt x="409" y="25"/>
                      </a:lnTo>
                      <a:lnTo>
                        <a:pt x="368" y="15"/>
                      </a:lnTo>
                      <a:lnTo>
                        <a:pt x="324" y="10"/>
                      </a:lnTo>
                      <a:lnTo>
                        <a:pt x="282" y="3"/>
                      </a:lnTo>
                    </a:path>
                  </a:pathLst>
                </a:custGeom>
                <a:solidFill>
                  <a:srgbClr val="f48f78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V="1">
                  <a:off x="647640" y="2847600"/>
                  <a:ext cx="9720" cy="3999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800280" y="2828880"/>
                  <a:ext cx="0" cy="4096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1" name=""/>
            <p:cNvGrpSpPr/>
            <p:nvPr/>
          </p:nvGrpSpPr>
          <p:grpSpPr>
            <a:xfrm>
              <a:off x="395280" y="4046400"/>
              <a:ext cx="1830960" cy="2485080"/>
              <a:chOff x="395280" y="4046400"/>
              <a:chExt cx="1830960" cy="2485080"/>
            </a:xfrm>
          </p:grpSpPr>
          <p:grpSp>
            <p:nvGrpSpPr>
              <p:cNvPr id="1632" name=""/>
              <p:cNvGrpSpPr/>
              <p:nvPr/>
            </p:nvGrpSpPr>
            <p:grpSpPr>
              <a:xfrm>
                <a:off x="1104840" y="4046400"/>
                <a:ext cx="1121400" cy="2485080"/>
                <a:chOff x="1104840" y="4046400"/>
                <a:chExt cx="1121400" cy="2485080"/>
              </a:xfrm>
            </p:grpSpPr>
            <p:grpSp>
              <p:nvGrpSpPr>
                <p:cNvPr id="1633" name=""/>
                <p:cNvGrpSpPr/>
                <p:nvPr/>
              </p:nvGrpSpPr>
              <p:grpSpPr>
                <a:xfrm>
                  <a:off x="1104840" y="4503600"/>
                  <a:ext cx="1091520" cy="1570680"/>
                  <a:chOff x="1104840" y="4503600"/>
                  <a:chExt cx="1091520" cy="1570680"/>
                </a:xfrm>
              </p:grpSpPr>
              <p:sp>
                <p:nvSpPr>
                  <p:cNvPr id="1634" name=""/>
                  <p:cNvSpPr/>
                  <p:nvPr/>
                </p:nvSpPr>
                <p:spPr>
                  <a:xfrm>
                    <a:off x="1700280" y="4503600"/>
                    <a:ext cx="49608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H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1104840" y="4991040"/>
                    <a:ext cx="45720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O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1700280" y="5494320"/>
                    <a:ext cx="49608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H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flipH="1">
                    <a:off x="1485720" y="4838760"/>
                    <a:ext cx="228600" cy="2286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 flipH="1" flipV="1">
                    <a:off x="1485720" y="5447880"/>
                    <a:ext cx="228600" cy="2286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9" name=""/>
                <p:cNvSpPr/>
                <p:nvPr/>
              </p:nvSpPr>
              <p:spPr>
                <a:xfrm>
                  <a:off x="1702800" y="4046400"/>
                  <a:ext cx="5234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1626480" y="5951520"/>
                  <a:ext cx="5234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395280" y="4700520"/>
                <a:ext cx="763560" cy="544680"/>
                <a:chOff x="395280" y="4700520"/>
                <a:chExt cx="763560" cy="54468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395280" y="4700520"/>
                  <a:ext cx="763560" cy="544680"/>
                </a:xfrm>
                <a:custGeom>
                  <a:avLst/>
                  <a:gdLst/>
                  <a:ahLst/>
                  <a:rect l="l" t="t" r="r" b="b"/>
                  <a:pathLst>
                    <a:path w="481" h="343">
                      <a:moveTo>
                        <a:pt x="282" y="339"/>
                      </a:move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11" y="339"/>
                      </a:lnTo>
                      <a:lnTo>
                        <a:pt x="213" y="342"/>
                      </a:lnTo>
                      <a:lnTo>
                        <a:pt x="211" y="339"/>
                      </a:lnTo>
                      <a:lnTo>
                        <a:pt x="211" y="339"/>
                      </a:lnTo>
                      <a:lnTo>
                        <a:pt x="211" y="339"/>
                      </a:lnTo>
                      <a:lnTo>
                        <a:pt x="150" y="330"/>
                      </a:lnTo>
                      <a:lnTo>
                        <a:pt x="99" y="303"/>
                      </a:lnTo>
                      <a:lnTo>
                        <a:pt x="57" y="273"/>
                      </a:lnTo>
                      <a:lnTo>
                        <a:pt x="44" y="259"/>
                      </a:lnTo>
                      <a:lnTo>
                        <a:pt x="35" y="246"/>
                      </a:lnTo>
                      <a:lnTo>
                        <a:pt x="27" y="228"/>
                      </a:lnTo>
                      <a:lnTo>
                        <a:pt x="18" y="215"/>
                      </a:lnTo>
                      <a:lnTo>
                        <a:pt x="0" y="177"/>
                      </a:lnTo>
                      <a:lnTo>
                        <a:pt x="0" y="129"/>
                      </a:lnTo>
                      <a:lnTo>
                        <a:pt x="9" y="78"/>
                      </a:lnTo>
                      <a:lnTo>
                        <a:pt x="35" y="34"/>
                      </a:lnTo>
                      <a:lnTo>
                        <a:pt x="70" y="13"/>
                      </a:lnTo>
                      <a:lnTo>
                        <a:pt x="120" y="0"/>
                      </a:lnTo>
                      <a:lnTo>
                        <a:pt x="198" y="7"/>
                      </a:lnTo>
                      <a:lnTo>
                        <a:pt x="242" y="25"/>
                      </a:lnTo>
                      <a:lnTo>
                        <a:pt x="256" y="30"/>
                      </a:lnTo>
                      <a:lnTo>
                        <a:pt x="269" y="38"/>
                      </a:lnTo>
                      <a:lnTo>
                        <a:pt x="286" y="52"/>
                      </a:lnTo>
                      <a:lnTo>
                        <a:pt x="304" y="65"/>
                      </a:lnTo>
                      <a:lnTo>
                        <a:pt x="326" y="91"/>
                      </a:lnTo>
                      <a:lnTo>
                        <a:pt x="339" y="105"/>
                      </a:lnTo>
                      <a:lnTo>
                        <a:pt x="370" y="144"/>
                      </a:lnTo>
                      <a:lnTo>
                        <a:pt x="379" y="158"/>
                      </a:lnTo>
                      <a:lnTo>
                        <a:pt x="414" y="206"/>
                      </a:lnTo>
                      <a:lnTo>
                        <a:pt x="442" y="246"/>
                      </a:lnTo>
                      <a:lnTo>
                        <a:pt x="462" y="286"/>
                      </a:lnTo>
                      <a:lnTo>
                        <a:pt x="467" y="299"/>
                      </a:lnTo>
                      <a:lnTo>
                        <a:pt x="480" y="308"/>
                      </a:lnTo>
                      <a:lnTo>
                        <a:pt x="443" y="314"/>
                      </a:lnTo>
                      <a:lnTo>
                        <a:pt x="409" y="317"/>
                      </a:lnTo>
                      <a:lnTo>
                        <a:pt x="368" y="327"/>
                      </a:lnTo>
                      <a:lnTo>
                        <a:pt x="324" y="332"/>
                      </a:lnTo>
                      <a:lnTo>
                        <a:pt x="282" y="339"/>
                      </a:lnTo>
                    </a:path>
                  </a:pathLst>
                </a:custGeom>
                <a:solidFill>
                  <a:srgbClr val="f48f78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581040" y="4762440"/>
                  <a:ext cx="9360" cy="3999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V="1">
                  <a:off x="733320" y="4771800"/>
                  <a:ext cx="0" cy="4093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5" name=""/>
              <p:cNvGrpSpPr/>
              <p:nvPr/>
            </p:nvGrpSpPr>
            <p:grpSpPr>
              <a:xfrm>
                <a:off x="404640" y="5300640"/>
                <a:ext cx="763920" cy="544680"/>
                <a:chOff x="404640" y="5300640"/>
                <a:chExt cx="763920" cy="544680"/>
              </a:xfrm>
            </p:grpSpPr>
            <p:sp>
              <p:nvSpPr>
                <p:cNvPr id="1646" name=""/>
                <p:cNvSpPr/>
                <p:nvPr/>
              </p:nvSpPr>
              <p:spPr>
                <a:xfrm>
                  <a:off x="404640" y="5300640"/>
                  <a:ext cx="763920" cy="544680"/>
                </a:xfrm>
                <a:custGeom>
                  <a:avLst/>
                  <a:gdLst/>
                  <a:ahLst/>
                  <a:rect l="l" t="t" r="r" b="b"/>
                  <a:pathLst>
                    <a:path w="481" h="343">
                      <a:moveTo>
                        <a:pt x="282" y="3"/>
                      </a:move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11" y="3"/>
                      </a:lnTo>
                      <a:lnTo>
                        <a:pt x="213" y="0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150" y="12"/>
                      </a:lnTo>
                      <a:lnTo>
                        <a:pt x="99" y="39"/>
                      </a:lnTo>
                      <a:lnTo>
                        <a:pt x="57" y="69"/>
                      </a:lnTo>
                      <a:lnTo>
                        <a:pt x="44" y="83"/>
                      </a:lnTo>
                      <a:lnTo>
                        <a:pt x="35" y="96"/>
                      </a:lnTo>
                      <a:lnTo>
                        <a:pt x="27" y="114"/>
                      </a:lnTo>
                      <a:lnTo>
                        <a:pt x="18" y="127"/>
                      </a:lnTo>
                      <a:lnTo>
                        <a:pt x="0" y="165"/>
                      </a:lnTo>
                      <a:lnTo>
                        <a:pt x="0" y="213"/>
                      </a:lnTo>
                      <a:lnTo>
                        <a:pt x="9" y="264"/>
                      </a:lnTo>
                      <a:lnTo>
                        <a:pt x="35" y="308"/>
                      </a:lnTo>
                      <a:lnTo>
                        <a:pt x="70" y="329"/>
                      </a:lnTo>
                      <a:lnTo>
                        <a:pt x="120" y="342"/>
                      </a:lnTo>
                      <a:lnTo>
                        <a:pt x="198" y="335"/>
                      </a:lnTo>
                      <a:lnTo>
                        <a:pt x="242" y="317"/>
                      </a:lnTo>
                      <a:lnTo>
                        <a:pt x="256" y="312"/>
                      </a:lnTo>
                      <a:lnTo>
                        <a:pt x="269" y="304"/>
                      </a:lnTo>
                      <a:lnTo>
                        <a:pt x="286" y="290"/>
                      </a:lnTo>
                      <a:lnTo>
                        <a:pt x="304" y="277"/>
                      </a:lnTo>
                      <a:lnTo>
                        <a:pt x="326" y="251"/>
                      </a:lnTo>
                      <a:lnTo>
                        <a:pt x="339" y="237"/>
                      </a:lnTo>
                      <a:lnTo>
                        <a:pt x="370" y="198"/>
                      </a:lnTo>
                      <a:lnTo>
                        <a:pt x="379" y="184"/>
                      </a:lnTo>
                      <a:lnTo>
                        <a:pt x="414" y="136"/>
                      </a:lnTo>
                      <a:lnTo>
                        <a:pt x="442" y="96"/>
                      </a:lnTo>
                      <a:lnTo>
                        <a:pt x="462" y="56"/>
                      </a:lnTo>
                      <a:lnTo>
                        <a:pt x="467" y="43"/>
                      </a:lnTo>
                      <a:lnTo>
                        <a:pt x="480" y="34"/>
                      </a:lnTo>
                      <a:lnTo>
                        <a:pt x="443" y="28"/>
                      </a:lnTo>
                      <a:lnTo>
                        <a:pt x="409" y="25"/>
                      </a:lnTo>
                      <a:lnTo>
                        <a:pt x="368" y="15"/>
                      </a:lnTo>
                      <a:lnTo>
                        <a:pt x="324" y="10"/>
                      </a:lnTo>
                      <a:lnTo>
                        <a:pt x="282" y="3"/>
                      </a:lnTo>
                    </a:path>
                  </a:pathLst>
                </a:custGeom>
                <a:solidFill>
                  <a:srgbClr val="f48f78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V="1">
                  <a:off x="590400" y="5381280"/>
                  <a:ext cx="9720" cy="3999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743040" y="5362560"/>
                  <a:ext cx="0" cy="4096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9" name=""/>
            <p:cNvSpPr/>
            <p:nvPr/>
          </p:nvSpPr>
          <p:spPr>
            <a:xfrm>
              <a:off x="2057400" y="3295800"/>
              <a:ext cx="800280" cy="3999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2038320" y="4495680"/>
              <a:ext cx="723960" cy="2858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857480" y="3162240"/>
            <a:ext cx="4019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gives water an especially high melting and boil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onic Sol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tremes in dipole dipole forces-atoms are actually held together by opposite char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melting and boiling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locked in lattice so hard and bri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electron is accounted for so they are poor conductors-good insula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ynamic equilib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0760" y="1197000"/>
            <a:ext cx="8400960" cy="543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first sealed the molecules gradually escape the surface of the liqui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molecules build up above the liquid some condense back to a liqu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ime goes by the rate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porization remains constant but             the rate of condensa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because there a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molecules to cond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is reached whe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348240" y="3605040"/>
            <a:ext cx="2306880" cy="2732400"/>
            <a:chOff x="6348240" y="3605040"/>
            <a:chExt cx="2306880" cy="2732400"/>
          </a:xfrm>
        </p:grpSpPr>
        <p:sp>
          <p:nvSpPr>
            <p:cNvPr id="224" name=""/>
            <p:cNvSpPr/>
            <p:nvPr/>
          </p:nvSpPr>
          <p:spPr>
            <a:xfrm>
              <a:off x="6348240" y="3684600"/>
              <a:ext cx="2306880" cy="2652840"/>
            </a:xfrm>
            <a:custGeom>
              <a:avLst/>
              <a:gdLst/>
              <a:ahLst/>
              <a:rect l="l" t="t" r="r" b="b"/>
              <a:pathLst>
                <a:path w="1453" h="1671">
                  <a:moveTo>
                    <a:pt x="431" y="0"/>
                  </a:moveTo>
                  <a:lnTo>
                    <a:pt x="1020" y="0"/>
                  </a:lnTo>
                  <a:lnTo>
                    <a:pt x="1020" y="98"/>
                  </a:lnTo>
                  <a:lnTo>
                    <a:pt x="954" y="98"/>
                  </a:lnTo>
                  <a:lnTo>
                    <a:pt x="954" y="450"/>
                  </a:lnTo>
                  <a:lnTo>
                    <a:pt x="1447" y="1593"/>
                  </a:lnTo>
                  <a:lnTo>
                    <a:pt x="1450" y="1600"/>
                  </a:lnTo>
                  <a:lnTo>
                    <a:pt x="1451" y="1607"/>
                  </a:lnTo>
                  <a:lnTo>
                    <a:pt x="1452" y="1614"/>
                  </a:lnTo>
                  <a:lnTo>
                    <a:pt x="1451" y="1623"/>
                  </a:lnTo>
                  <a:lnTo>
                    <a:pt x="1449" y="1631"/>
                  </a:lnTo>
                  <a:lnTo>
                    <a:pt x="1446" y="1638"/>
                  </a:lnTo>
                  <a:lnTo>
                    <a:pt x="1442" y="1645"/>
                  </a:lnTo>
                  <a:lnTo>
                    <a:pt x="1437" y="1651"/>
                  </a:lnTo>
                  <a:lnTo>
                    <a:pt x="1431" y="1657"/>
                  </a:lnTo>
                  <a:lnTo>
                    <a:pt x="1425" y="1661"/>
                  </a:lnTo>
                  <a:lnTo>
                    <a:pt x="1418" y="1665"/>
                  </a:lnTo>
                  <a:lnTo>
                    <a:pt x="1411" y="1668"/>
                  </a:lnTo>
                  <a:lnTo>
                    <a:pt x="1403" y="1669"/>
                  </a:lnTo>
                  <a:lnTo>
                    <a:pt x="1396" y="1669"/>
                  </a:lnTo>
                  <a:lnTo>
                    <a:pt x="60" y="1669"/>
                  </a:lnTo>
                  <a:lnTo>
                    <a:pt x="52" y="1670"/>
                  </a:lnTo>
                  <a:lnTo>
                    <a:pt x="44" y="1668"/>
                  </a:lnTo>
                  <a:lnTo>
                    <a:pt x="37" y="1667"/>
                  </a:lnTo>
                  <a:lnTo>
                    <a:pt x="29" y="1663"/>
                  </a:lnTo>
                  <a:lnTo>
                    <a:pt x="19" y="1655"/>
                  </a:lnTo>
                  <a:lnTo>
                    <a:pt x="12" y="1649"/>
                  </a:lnTo>
                  <a:lnTo>
                    <a:pt x="6" y="1640"/>
                  </a:lnTo>
                  <a:lnTo>
                    <a:pt x="2" y="1631"/>
                  </a:lnTo>
                  <a:lnTo>
                    <a:pt x="0" y="1620"/>
                  </a:lnTo>
                  <a:lnTo>
                    <a:pt x="0" y="1610"/>
                  </a:lnTo>
                  <a:lnTo>
                    <a:pt x="2" y="1599"/>
                  </a:lnTo>
                  <a:lnTo>
                    <a:pt x="6" y="1589"/>
                  </a:lnTo>
                  <a:lnTo>
                    <a:pt x="9" y="1582"/>
                  </a:lnTo>
                  <a:lnTo>
                    <a:pt x="17" y="1567"/>
                  </a:lnTo>
                  <a:lnTo>
                    <a:pt x="497" y="450"/>
                  </a:lnTo>
                  <a:lnTo>
                    <a:pt x="497" y="98"/>
                  </a:lnTo>
                  <a:lnTo>
                    <a:pt x="431" y="98"/>
                  </a:lnTo>
                  <a:lnTo>
                    <a:pt x="43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48240" y="5572080"/>
              <a:ext cx="2306880" cy="765360"/>
            </a:xfrm>
            <a:custGeom>
              <a:avLst/>
              <a:gdLst/>
              <a:ahLst/>
              <a:rect l="l" t="t" r="r" b="b"/>
              <a:pathLst>
                <a:path w="1453" h="482">
                  <a:moveTo>
                    <a:pt x="1282" y="0"/>
                  </a:moveTo>
                  <a:lnTo>
                    <a:pt x="1447" y="404"/>
                  </a:lnTo>
                  <a:lnTo>
                    <a:pt x="1450" y="411"/>
                  </a:lnTo>
                  <a:lnTo>
                    <a:pt x="1451" y="418"/>
                  </a:lnTo>
                  <a:lnTo>
                    <a:pt x="1452" y="425"/>
                  </a:lnTo>
                  <a:lnTo>
                    <a:pt x="1451" y="434"/>
                  </a:lnTo>
                  <a:lnTo>
                    <a:pt x="1449" y="442"/>
                  </a:lnTo>
                  <a:lnTo>
                    <a:pt x="1446" y="449"/>
                  </a:lnTo>
                  <a:lnTo>
                    <a:pt x="1442" y="456"/>
                  </a:lnTo>
                  <a:lnTo>
                    <a:pt x="1437" y="462"/>
                  </a:lnTo>
                  <a:lnTo>
                    <a:pt x="1431" y="468"/>
                  </a:lnTo>
                  <a:lnTo>
                    <a:pt x="1425" y="472"/>
                  </a:lnTo>
                  <a:lnTo>
                    <a:pt x="1418" y="476"/>
                  </a:lnTo>
                  <a:lnTo>
                    <a:pt x="1411" y="479"/>
                  </a:lnTo>
                  <a:lnTo>
                    <a:pt x="1403" y="480"/>
                  </a:lnTo>
                  <a:lnTo>
                    <a:pt x="1396" y="480"/>
                  </a:lnTo>
                  <a:lnTo>
                    <a:pt x="60" y="480"/>
                  </a:lnTo>
                  <a:lnTo>
                    <a:pt x="52" y="481"/>
                  </a:lnTo>
                  <a:lnTo>
                    <a:pt x="44" y="479"/>
                  </a:lnTo>
                  <a:lnTo>
                    <a:pt x="37" y="478"/>
                  </a:lnTo>
                  <a:lnTo>
                    <a:pt x="29" y="474"/>
                  </a:lnTo>
                  <a:lnTo>
                    <a:pt x="19" y="466"/>
                  </a:lnTo>
                  <a:lnTo>
                    <a:pt x="12" y="460"/>
                  </a:lnTo>
                  <a:lnTo>
                    <a:pt x="6" y="451"/>
                  </a:lnTo>
                  <a:lnTo>
                    <a:pt x="2" y="442"/>
                  </a:lnTo>
                  <a:lnTo>
                    <a:pt x="0" y="431"/>
                  </a:lnTo>
                  <a:lnTo>
                    <a:pt x="0" y="421"/>
                  </a:lnTo>
                  <a:lnTo>
                    <a:pt x="2" y="410"/>
                  </a:lnTo>
                  <a:lnTo>
                    <a:pt x="6" y="400"/>
                  </a:lnTo>
                  <a:lnTo>
                    <a:pt x="9" y="393"/>
                  </a:lnTo>
                  <a:lnTo>
                    <a:pt x="17" y="378"/>
                  </a:lnTo>
                  <a:lnTo>
                    <a:pt x="178" y="0"/>
                  </a:lnTo>
                  <a:lnTo>
                    <a:pt x="1282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51760" y="588312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8920" y="57308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94480" y="51022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37320" y="60357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21600" y="4981680"/>
              <a:ext cx="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7849800" y="5114520"/>
              <a:ext cx="1522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64320" y="5248440"/>
              <a:ext cx="57240" cy="70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7160" y="5248440"/>
              <a:ext cx="2286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83280" y="3605040"/>
              <a:ext cx="1059120" cy="392400"/>
            </a:xfrm>
            <a:custGeom>
              <a:avLst/>
              <a:gdLst/>
              <a:ahLst/>
              <a:rect l="l" t="t" r="r" b="b"/>
              <a:pathLst>
                <a:path w="667" h="247">
                  <a:moveTo>
                    <a:pt x="0" y="0"/>
                  </a:moveTo>
                  <a:lnTo>
                    <a:pt x="103" y="117"/>
                  </a:lnTo>
                  <a:lnTo>
                    <a:pt x="103" y="110"/>
                  </a:lnTo>
                  <a:lnTo>
                    <a:pt x="103" y="246"/>
                  </a:lnTo>
                  <a:lnTo>
                    <a:pt x="560" y="246"/>
                  </a:lnTo>
                  <a:lnTo>
                    <a:pt x="553" y="115"/>
                  </a:lnTo>
                  <a:lnTo>
                    <a:pt x="569" y="96"/>
                  </a:lnTo>
                  <a:lnTo>
                    <a:pt x="66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04040" y="43210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04000" y="47782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51760" y="485460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te of Vaporization =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te of Condens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are constantly changing phas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Dynamic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tal amount of liquid and vapor remains consta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Equilibrium”</a:t>
            </a:r>
            <a:r>
              <a:rPr b="0" lang="en-US" sz="3600" spc="-1" strike="noStrike">
                <a:solidFill>
                  <a:srgbClr val="7b46d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ynamic equilib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por pres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1440" y="1162080"/>
            <a:ext cx="806112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sure above the liquid at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s with high vapor pressures evaporate  easily. They are called volat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s with increasing intermolecular forc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molecules (bigger LD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polar molecules (dipole-dipo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4:48:21Z</dcterms:created>
  <dc:creator>FPS</dc:creator>
  <dc:description/>
  <dc:language>en-US</dc:language>
  <cp:lastModifiedBy>FPS</cp:lastModifiedBy>
  <dcterms:modified xsi:type="dcterms:W3CDTF">2007-11-13T17:51:29Z</dcterms:modified>
  <cp:revision>8</cp:revision>
  <dc:subject/>
  <dc:title>Slide 1</dc:title>
</cp:coreProperties>
</file>